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E67D-54B2-469B-87C8-2CD40C9FB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77A0-42E6-496F-A027-A3696961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B30D-D154-4FFE-BF31-2706067CA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1F01-9155-4F8D-8789-E8BDAFD2D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A451-DD82-4AEE-B68D-B49E832BB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52F3-86D6-4BD3-BFC5-18912BFF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7893-2EF5-4085-8645-78872F00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E84B-D89E-48AF-B324-D4211C2D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D26A-F20D-49E4-BCF1-5F92E181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6247-FA23-4FD2-A012-BEDFC95D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BBEE-B5EF-4B44-8E39-848DF4B1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60FD-29FC-4F24-BCBA-75DA39CD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8345-0528-4E5F-AA10-FAE4C150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5587-DCC0-4E2C-B878-09F84BBC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5ACF-2192-4B79-AC94-BEA2AC10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7CF9-3B7B-4FD5-8E9F-51A75E65A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BC9F-8609-4F4B-A1BF-24CAA27EE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5BC61F-BA92-4505-91EA-D02AFA44F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F37309-6186-439A-8B59-9A223E87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C8CD10-FB63-407D-9F6D-8192B9AF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05E10F-3AFB-4665-9B56-6C56B48C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83C977-79BB-4D66-8A05-7D8A99BD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CDC1-7F1F-43ED-B41B-3BD2EF0A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C3D4D7-C69C-40B0-BE30-3F96187D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3C1B67-C6D2-49D8-9D3C-69D1AED6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733FD6-9AA6-4D7D-B58D-7ED8C1E2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7CC154-8A9D-459C-893B-61794A82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D0DCAF-0578-41E3-887E-D2EA9BCB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CD61E7-463D-43DC-B351-358E0154D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AC31C0-5DD0-4A20-A269-13BDF4B40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AAD96-0BE2-4494-8151-95BA23BDE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0C72C-CD58-4D68-BAFC-AE26564F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D90B1-6B7E-4951-8EE4-52EC6B82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71D7-F811-4874-A564-14F773D2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5C1DC-60D7-4F47-BB80-24A5EB90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8583B-9F44-4C36-9112-0A73DE28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7BD3C-BD92-466E-B129-CC2B2192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8D8CC-574C-4ABD-9791-AFFFEDC3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13A50-D86D-487B-AE99-69DA6D2C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C8AAC-180F-44C3-A8A5-D0B77ADB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C2E98-C39E-4F41-AC37-25040D2B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37830-8DCF-4759-A423-7320667E4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ADCEF-ABEF-4D2A-AA13-DB19AE42D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F00A42-0F9C-48C7-8791-690F4A561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D9C3-F516-4CF8-B69A-1EE1CAA1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FFD99B-8223-4A4C-8260-32D2990B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0B3667-0045-46B2-84D7-1FF04C54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7E9D85-AD28-4C5D-951D-8BE267AE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2126A1-CFBD-4CB7-B522-27C3D4EB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F73200-EFCB-4EC7-8BDB-96419780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62A2BE-FBCF-45D8-A8F8-C4E43041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4A4718-EED0-4F9E-9A58-EF1287EF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EC6952-9215-4464-8629-A3391182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1B2F85-8E42-45D2-960D-E5873E42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A2C9CD-5D4A-4D33-BAB3-98B8B24E7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E471-0778-4881-BB79-BBD9B120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181475-E15E-44C3-9C59-1520BB912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825594-C446-49F8-8D1C-772B0DA77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1F9297-69B6-47B7-AD77-B3D9BF15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2A0615-665B-45CF-B14F-BABC0B22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F98D3D-91A5-4160-8AD3-9F18A3D9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EF454B-C03C-4FEB-ABA3-ACE3F5AB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A68058-89CC-4279-8807-2184CAAF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4F8A6F-F07C-40A3-B9CE-50D3AADB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8C5DCD-876A-42EB-8C69-43DE6C5C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D196F7-E78F-4B55-B057-D087D6EB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3A99-3F6E-45E1-BA05-34EF87F8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3F399C-585E-4ED3-9B3D-0A06C7BE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49B305-1E58-4B5D-AA07-A44781D44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D96ECD-BB90-4B88-A131-03F3A288F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C37B2C-2E12-462E-A421-5062A3DF0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1819F3-AB96-4AA6-8718-7D728A9A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A9E481-4FD5-4003-9B7B-B52F206F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3A19A8-1DAE-421A-A146-F962CC99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C7BB99-11CE-45EF-9CA4-9BA24178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2648D4-17FE-4EF6-BD5E-0F553E00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39AEFB-37C1-4C15-8A40-E53C3D79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A311-0C43-4B5B-A040-B6E371BD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1FD223-2CEA-46C5-AF4C-78DEEE84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B663CD-6E4C-4C9B-B3F2-E6D3C110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995170-740C-4E21-BFBE-6859FBAC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7DB57A-5295-46FC-A005-5F19D2541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D748F9-69AA-4EB7-8C55-000479691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F736-70FC-461B-8915-85431B6D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F370-2003-4711-AB65-6006EB72BCA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B338-27B5-4917-979F-8368A2504B8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CAEC-D9DC-4912-ACB5-10C974781C3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2CE3-5C4B-4DB1-9205-9012CE4165F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6FCD-2E5F-4221-91C6-4CDBBD66F4F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26BE-9FD5-420F-A1EB-A97D130C32B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5B8E-A98A-4711-A0D1-B49E38F9A0F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ОДНОКРИСТАЛЬНЫЕ МИКРОЭВМ ТИПА МК51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23640" y="1989000"/>
            <a:ext cx="74674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К51 это серия с ядром 80С51В. В странах СНГ МК51 выпускаются на базе  n-МОП технологии (серия 1816) и КМОП технологии (серия 183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4" descr="9"/>
          <p:cNvPicPr/>
          <p:nvPr/>
        </p:nvPicPr>
        <p:blipFill>
          <a:blip r:embed="rId1"/>
          <a:stretch/>
        </p:blipFill>
        <p:spPr>
          <a:xfrm>
            <a:off x="1571760" y="2786040"/>
            <a:ext cx="5549760" cy="3286080"/>
          </a:xfrm>
          <a:prstGeom prst="rect">
            <a:avLst/>
          </a:prstGeom>
          <a:ln w="0">
            <a:noFill/>
          </a:ln>
        </p:spPr>
      </p:pic>
      <p:sp>
        <p:nvSpPr>
          <p:cNvPr id="354" name="TextBox 4"/>
          <p:cNvSpPr/>
          <p:nvPr/>
        </p:nvSpPr>
        <p:spPr>
          <a:xfrm>
            <a:off x="3005640" y="6143760"/>
            <a:ext cx="268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9.10. Структура МК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Заголовок 3"/>
          <p:cNvSpPr/>
          <p:nvPr/>
        </p:nvSpPr>
        <p:spPr>
          <a:xfrm>
            <a:off x="457200" y="274680"/>
            <a:ext cx="7467480" cy="922320"/>
          </a:xfrm>
          <a:prstGeom prst="rect">
            <a:avLst/>
          </a:prstGeom>
          <a:solidFill>
            <a:srgbClr val="85dfd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КРОПРОЦЕССОРЫ И МИКРОКОНТРОЛЛЕРЫ</a:t>
            </a: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аст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6" descr="D:\vvsu.gif"/>
          <p:cNvPicPr/>
          <p:nvPr/>
        </p:nvPicPr>
        <p:blipFill>
          <a:blip r:embed="rId2"/>
          <a:stretch/>
        </p:blipFill>
        <p:spPr>
          <a:xfrm>
            <a:off x="0" y="0"/>
            <a:ext cx="838080" cy="37296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В.В. Сивченко, ст. преп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ВНЕШНИЕ УСТРОЙСТВА МК51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68000" y="1413000"/>
            <a:ext cx="7467480" cy="49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"внешним" устройствам МК51 отнесе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 параллельных двунаправленных порта ввода/вывода P0..P3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фер SBUF и регистр управления SCON последовательного  канал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ймеры/счетчики T0,  T1,  их регистр управления TCON и регистр режимов TMO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гистры управления подсистемой прерываний: регистр приоритетов IP и регистр маски I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гистр управления машиной PC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остав МК51 входит дуплексный последовательный канал связи с буферизацией,  который может быть запрограммирован для работы в одном из четырех режим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"0" - синхронный ввод/вывод с частотой OSC/12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"1" - асинхронный с 8-бит. кадром, частота k*f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"2" - асинхронный с 9-бит. кадром, частота k*OSC/32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"3" - асинхронный с 9-бит. кадром, частота k*f; где k {1, 1/2}, f - частота переполнения T1 (FOV), деленная на 1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ПОДСИСТЕМА ПРЕРЫВАНИЙ МК51 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68000" y="1341000"/>
            <a:ext cx="7467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рхитектура МК51 поддерживает двухуровневую радиальную приоритетную подсистему прерываний (ПП) с шестью  источниками  запросов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приема внешних прерываний служат входы INT0\,  INT1\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точниками внутренних запросов могут служить сигналы переполнения таймеров T0,  T1 и сигнал окончания работы последовательного ка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СИСТЕМА КОМАНД МК51 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68000" y="1341000"/>
            <a:ext cx="7467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стема команд включает 111 команд - однобайтовых (49), двухбайтовых  (45)  и трехбайтовых (17).  Все команды выполняются за 1 или 2 МЦ (16 тактов CLK в каждом), за исключением команд умножения и деления MUL и DIV,  для выполнения которых требуется 4 МЦ. Большинство двухбайтовых команд - одноцикловые,  а все трехбайтовые -двухцикловые. За  один  МЦ  в МК51 можно вводить до двух байтов программного к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К51 работает с данными четырех основных типов - битами,  полубайтами (4 бита),  байтами и адресами (16 бит).  Наиболее  часто используемой единицей данных является байт: внутренние магистрали данных имеют 8-битный размер.  Программная память, внутренняя память и внешняя память данных запоминают и возвращают данные в виде байтов. Кроме этого, имеется много команд, которые работают с одиночными битами.  Бит может быть установлен, очищен, проинвертирован,  логически скомбинирован с флагом переноса и проверен для выполнения последующих переходов.  Полубайт (двоично-десятичная упакованная цифра) обычно мало применяется в МК51,  но  двоично-десятичная арифметика может выполняться без преобразования операндов в двоичное представл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6840" y="285840"/>
            <a:ext cx="7467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анды, которые  используют  16-битные адреса,  имеют дело с указателем данных (16-битный регистр DPTR ) и с программным  счетчиком (переходы и вызовы подпрограммы).  Использование команд сложения с битом переноса (ADDC) и вычитание с заемом  (SUBB)  делает программирование 16-битной арифметики относительно просты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раммно-доступными объектами в составе ОМЭВМ являются: аппаратные регистры, четыре банка по восемь регистров R0..R7,R0..R7 и 128 ячеек внутренней памяти данных - с адресами 00H..7FH.  Кроме того,  по  специальным  командам  MOVX  и MOVC может быть доступна внешняя память данных и программ. В МК51 возможна битовая адресация аппаратных регистров и части внутренней памят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программировании следует иметь в виду, что в качестве регистров R0..R7 банка 0 используются ячейки внутренней памяти  данных с адресами 00H..07H,  банка 1 - 08Н..0FН, банка 2 - 10Н..17Н, банка 3 - 18Н..1F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истеме команд МК51 используются  регистровая, прямая, косвенная и непосредственная адресац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регистровой  адресации  операнды  находятся  в регистрах, имена которых определяются кодом операции команды.  Эта  адресация используется  для  обращения  к регистрам выбранного банка рабочих регистров,  к регистрам А,  В,  DPTR и к флагу переноса 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6840" y="285840"/>
            <a:ext cx="7467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прямому  адресу  можно обращаться к аппаратным регистрам и внутренней памяти.  Используется также прямая  битовая  адресация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свенно можно  адресоваться  к  ячейкам внутренней и внешней памяти данных через регистры R0,R1 текущего ба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любой ячейке внешней памяти (данных и программ) можно обратиться с использованием регистра DPT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типу операций можно выделить следующие классы команд:  пересылки;  арифметические и логические; передачи управления; специальные коман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75294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МИКРОКОНТРОЛЛЕР PIC ФИРМЫ PARALLA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39640" y="836280"/>
            <a:ext cx="74678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 особо малый микроконтроллер. Простейший микроконтроллер имеет 8 выводов. Микроконтроллер 8-ми разрядный с Гарвардской архитектурой, что повышает производительность. Одновременно считывается команда и происходит обращение за данными. В некоторых микроконтроллерах есть операции умножения, деления, операции с плавающей точкой. Система команд компактная – не более 51 команды (LOW, LITLE и HIGH – 51 команда). Есть банки регистров как МК5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ть ПЗУ разных типов и перифирийные устройства (АЦП, ЦАП). В составе перифирийных устройств имеется несколько выводов последовательного интерфейса – обычный RS232, интерфейс I2C фирмы Philips, SPI.  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троллеры PIC могут быть использованы как ?умные? перифирийные устройства, т.е. SLAVE – контроллер может быть подсоединен к управляющему контроллеру PIC как обычное перифирийное устройство через порт (или линю данных). Очень развиты перифирийные средства коммуникации (I2C, SPI, RS232, порты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основе PIC может быть организованна сеть микроконтроллеров (через шину I2C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SPI и I2C общая особенность: для передачи используется два провод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фейс SPI работает со стробиованием по фронту сигнала (клока), т.е. по одной линии передаются данные, по другой – клок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I2C стробирование осуществляется по уровню. В обоих интерфейсах Master обеспечивает выдачу сигналов тактир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56840" y="285840"/>
            <a:ext cx="74674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МК51 используются следующие сигнал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E  - строб адре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PSEN\  - строб чтения внешней памяти програм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D\,WR\- стробы чтения и записи внешней памяти дан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A\  - разрешение обращения во внутреннюю память програм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0,T1 - входы счетчиков внешних событ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INT0,INT1- запросы внешних радиальных прерыва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xD - вход данных последовательного канал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xD - выход данных последовательного кан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остав МК51 входят параллельные 8-разрядные квазидвунаправленные порты P0..P3. Порт Р3 может быть использован для ввода и вывода управляющих сигна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им  образом,  в циклах обращения к внешним ресурсам на линиях порта P3 работают управляющие сигналы, а при отсутствии необходимости  управления внешними  ресурсами эти же линии могут быть использованы как линии пор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АРХИТЕКТУРНЫЕ ОСОБЕННОСТИ МК51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68000" y="1413000"/>
            <a:ext cx="7467480" cy="49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К51  позволяет управлять пятью (частично пересекающимися) адресными пространствами памяти,  четыре из которых являются областями данны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SEG   - пространство регистров (4*8 байт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SEG   - пространство внутренней памяти данных (256 байт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BSEG   - битовое пространство данных (256 бит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XSEG   - пространство внешней памяти данных (до 64К байт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CSEG   - пространство программного кода (до 64К бай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ранства RSEG и BSEG частично пересекаются, физически совмещаются с DSEG и образуют единую внутреннюю среду для  хранения  данных.  Это позволяет одни и те же данные рассматривать с разных позиций (ячейка памяти,  регистр,  битовое поле, порт ввода/вывода и т.п.)  и организовывать наиболее удобный для данного случая доступ к н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арактерно, что  все порты ввода/вывода,  системные регистры, таймеры так же отображены на пространство DSE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6840" y="285840"/>
            <a:ext cx="74674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ранство регистров  представлено четырьмя банками регистров по 8 в каждом,  а так же 16-разрядными программным счетчиком PC и регистром косвенного адреса DPTR,  8-разрядными аккумуляторами A и B, указателем стека SP и регистром PS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 регистры, кроме PC, отображаются на DSE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PSW[7] - CY - перенос из старшего (7) разряда АЛБ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PSW[6] - AC - перенос из третьего разряда АЛБ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PSW[5] - F0 - флаг пользовате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оме того, формат PSW включает двухбитовое поле PSW[4:3] - RS номера  банка  регистров  и  флаги  арифметического  переполнения OV (PSW[2]) и четности P (PSW[0]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лаги CY,  AC  и  OV  отражают  признаки результата последней арифметической операции,  а P - четность содержимого  аккумулятора A. Расширение  аккумулятора B используется в командах умножения и деления, а в остальных операциях - как обычная ячейка памяти. Программный счетчик  адресует  пространство  памяти  программ CSEG объемом до 64K байт, причем переход из области внутренней памяти программ к внешней осуществляется автоматичес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56840" y="285840"/>
            <a:ext cx="74674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казатель данных DPTR используется для обращения к XSEG и при пересылке  констант из CSEG в A.  Кроме того,  содержимое DPTR используется а  качестве  смещения  в  команде  переход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казатель стека SP образует системный стек  глубиной  до  256 байт. SP хранит адрес последнего занесенного байта и растет при записи в сторону больших адре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гистры R0,  R1 каждого банка используются в качестве указателей данных. При сбросе машины в A,  B,  PC и DPTR загружаюся 0h, а в SP - 07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ОРГАНИЗАЦИЯ ВНУТРЕННЕЙ ПАМЯТИ ДАННЫХ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39640" y="1412640"/>
            <a:ext cx="746784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ранство DSEG включает  в себя 256 ячеек памяти,  часть из которых является одновременно элементами других пространств.  Так,  первые  32 байта ОЗУ занимают 4 банка.  Служебные регистры,  порты ввода/вывода, таймеры, аккумуляторы и др. так же совмещены с ячейками памяти и полями битового сегмента.  Это дает возможность обращения к одному физическому объекту  разными  способами.  Так,  к  ячейке DSEG[E0]  можно  обратиться по прямому и косвенному адресу,  обратиться как к аккумулятору A и как к полю BSEG[E0..E7]  (к  каждому биту в отдельност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2" descr="9"/>
          <p:cNvPicPr/>
          <p:nvPr/>
        </p:nvPicPr>
        <p:blipFill>
          <a:blip r:embed="rId1"/>
          <a:stretch/>
        </p:blipFill>
        <p:spPr>
          <a:xfrm>
            <a:off x="684360" y="3860640"/>
            <a:ext cx="4330440" cy="2389320"/>
          </a:xfrm>
          <a:prstGeom prst="rect">
            <a:avLst/>
          </a:prstGeom>
          <a:ln w="0">
            <a:noFill/>
          </a:ln>
        </p:spPr>
      </p:pic>
      <p:sp>
        <p:nvSpPr>
          <p:cNvPr id="366" name="TextBox 6"/>
          <p:cNvSpPr/>
          <p:nvPr/>
        </p:nvSpPr>
        <p:spPr>
          <a:xfrm>
            <a:off x="517680" y="6357960"/>
            <a:ext cx="57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9.11. Пространство внутренней памяти данных DSE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56840" y="285840"/>
            <a:ext cx="74674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ь программ адресуется PC[15:0] и может составлять до 64К байт,  причем младшие 4 К могут располагаться  непосредственно на кристалле, а остальная память внешнее ЗУ. С точки зрения программиста внешняя и внутренняя  память  программ представляют единое адресное простран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еются «особые точки»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E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ESET   0000h - стартовый адре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XTI0   0003h - внешнее прерывание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IMER0  000Bh - прерывание от таймера/счетчика T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XTI1   0013h - внешнее прерывание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IMER1  001Bh - прерывание от таймера/счетчика T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SINT      0023h - прерывание последовательного пор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МАШИННЫЕ ЦИКЛЫ И СИНХРОНИЗАЦИЯ МИКРОЭВМ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68000" y="1483920"/>
            <a:ext cx="7467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итание МК51 осуществляется от одного источника +5В. Кварцевый резонатор 3,5..12 МГц подключается к выводам Х1, Х2; возможно подключение внешнего тактового генератора через Х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OSC/2 - основная внутренняя тактовая частота CLK.  Первая половина периода CLK фаза P1,  вторая - P2.  Каждый машинный  цикл состоит из шести периодов CLK: состояний S1, S2, .. S6 или двенадцати периодов OSC,  называемых фазами S1P1,  S1P2,  S2P1,  .. S6P, S6P2.  Каждый машинный цикл сопровождается генерацией двух стробов ALE длительностью в один период  CLK  -  S1P2..S2P1,  S4P2..  S5P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андный цикл (КЦ) содержит один или несколько машинных циклов  (МЦ)  и отсчитывается от S1P1.  По фазе S1P2 в IR фиксируется код операции, второй байт двухбайтовой команды читается в S4P2 того же МЦ,  третий байт трехбайтовой - в S1P2 следующего МЦ.  Таким образом,  для ввода каждого байта команды требуется один полуцик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  время  всех оставшихся полуциклов в фазах S1P2 и S4P2 читается код операции следующей размещенной в памяти команды,  однако он не помещается в IR и не инкрементируется PC. Текущий КЦ всегда завершается в S6P2. Вслед за этим начинается S1, в котором в IR вводится новый бай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6840" y="285840"/>
            <a:ext cx="7467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щение к внешней памяти данных XSEG по команде MOVX требует  второго МЦ,  в котором не вырабатывается первый строб ALE.  На рис. 3.7 приведена временная диаграмма обращения к XSEG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приведение МК51 в исходное состояние необходимо  подать на  вход  RST  импульс H-уровня длительностью не менее 24 периодов OSC (два МЦ) при условии что генератор запущен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02:31:08Z</dcterms:created>
  <dc:creator>Evgeniy</dc:creator>
  <dc:description/>
  <dc:language>en-US</dc:language>
  <cp:lastModifiedBy>Сивченко</cp:lastModifiedBy>
  <dcterms:modified xsi:type="dcterms:W3CDTF">2009-06-16T23:10:49Z</dcterms:modified>
  <cp:revision>55</cp:revision>
  <dc:subject/>
  <dc:title>Микропроцессоры и микроконтроллеры </dc:title>
</cp:coreProperties>
</file>