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2E26-627C-4415-8FA0-B3BA05036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81D1-9FEB-4112-8911-0876B11C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A69B-23EC-4C57-9E69-28AAB6DFF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AB05-8E26-4B1B-AABE-A8010743B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B61E-EF56-401A-BC0B-29A0629C8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E802-5CC3-4724-87D7-4DA08829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5427-A65B-4DEE-83F7-08595CDC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8C43-C7CC-49D8-9AFB-A1F4D4D6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8AA4-E7BD-42A6-B001-C49D0716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893D-AC94-4957-9868-26FA001A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D552-7113-4579-B5D3-D3B01873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2142-C827-4E84-A130-A08AA53E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C236-E2E5-4D1D-9215-1F75BB47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A5E4-0E32-4E0A-BCEC-005EFF6D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7790-8DA5-4589-9194-73FD1818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C696-00AE-4555-A93D-EAA02ACC4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E4C6-FA5C-4B64-8ED8-7E1D342E5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DC511-FAEF-4639-B849-F57686E57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C2359-8445-4D32-ACB9-C34C179B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91997-58BC-46DB-8124-6F70B1C6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07964-0FA4-482B-89C0-AF14F66F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A0441-3A89-4810-90A1-6846A7F2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CC69-4FB9-42CB-A9FC-6F4EBF11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0F09B-B93C-49CB-A419-F7EAA9B9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08C19-8906-42EE-8DF1-181F5151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B2EE4-0A58-4A6E-B43D-E8532505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6730E-1626-43C4-AB85-654E1CD4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4E9E8-C1DE-467F-826C-DCE0F79D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A06C2-471C-49A0-8D99-A1AAFBEA5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0D471-7BDE-40EE-BB98-945858923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ACFC9F-6093-45A7-A0C8-3B5648654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6DD8DB-D8B1-4914-B63E-F2B2C2B5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B8B22E-231C-4F51-A7EB-E0057522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4AA8-0280-4D81-86A0-CDFA52A7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B04264-C326-41A2-8038-50DCF768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4AE5D4-6D56-4C35-A189-D7FC478D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77279C-409F-44CE-B780-915CED5E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EB7564-286B-471C-95AF-0E62FB2A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3249E1-BECA-46CC-967C-018EB918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F355AD-A5BC-4D18-80ED-95F2DB65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6C7BCA-EFED-472C-AAD4-0F20612D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75F0B8-8969-46A3-B979-8B75A9F77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8D598E-5628-4818-83E8-170D9704F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92FB11-BE40-4AB4-BFAC-82278D720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B6BF-D7C1-4C6A-A04E-3EF87481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ADC0AD-5BDE-4D61-B6DC-A75958E3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37F32A-F4C7-49E2-89FE-ED97B98D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FFC2D0-E7AB-481A-B9B9-C705EC9C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308D5B-BCC5-41EF-9596-E91441B2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001A23-43C3-4096-BDF3-B5D6E150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ACEE11-EE06-4B18-B8A2-8EF45B6E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F2DDB4-9ADF-4F8D-A6B0-8335C896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E32AC5-F79D-4F2C-A511-22A693BD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478DC9-1D6C-463C-8502-C3F8FF17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91376B-5DB0-426F-96D8-A9028CA1C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A7F1-69EB-432F-A2D7-D3022D63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04A528-14ED-42BA-A9E6-15A41752F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1E4A94-8B9C-4DFF-8819-2508CB81B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52092C-231F-4DDC-BC5A-BB547D27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EEE0A7-944A-471E-BBDA-D68095D0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90DF20-B488-4E2C-AD85-C3C5BD2A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A60DAC-2F5B-43D5-A566-55DE1051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B2E54E-4C77-4D8D-AE0D-F0525069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ECCD4C-4912-431B-97DE-AE80579A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6CEB68-8BB3-4DBB-AEB3-8E920D4B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D7200E-13D9-4C5C-A29A-D645CE62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0201-BF6F-47D4-AFBB-A980D1FC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577B80-C98E-4ABD-872B-64222762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6D2DD5-3447-4D0C-9F04-FF0FA9F2A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781BB4-3C1F-4FD6-82BE-D29CADDA0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ACE3-BDEE-49AE-9596-58CBEE57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9A92-28ED-4EF9-ACD5-6EE80635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EDD3-2C8C-4098-8251-A5455AAF1357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50E8-C25E-4272-9EAE-E863D16720F8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BC1E-7986-471E-86FB-B93CE4480A1A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8756-ADC3-4B00-9B5B-AC3AF647EAAA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1A91-2C7B-4BF1-AECC-183ECF6149EC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FC32-48B9-4CE4-A8E3-4B5348FD3CD2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22320"/>
          </a:xfrm>
          <a:prstGeom prst="rect">
            <a:avLst/>
          </a:prstGeom>
          <a:solidFill>
            <a:srgbClr val="85dfd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ИКРОПРОЦЕССОРЫ И МИКРОКОНТРОЛЛЕРЫ</a:t>
            </a:r>
            <a:br>
              <a:rPr sz="22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ть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600"/>
            </a:br>
            <a:endParaRPr b="0" lang="en-US" sz="16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68000" y="1341000"/>
            <a:ext cx="7467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-46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Arial"/>
              </a:rPr>
              <a:t>ВВЕ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известно, процессор является основным вычислительным блоком компьютера, в наибольшей степени определяющим его мощь. Процессор является устройством, исполняющим программу - последовательность команд (инструкций), задуманную программистом и оформленную в виде модуля программного кода. Чтобы понять, что делает процессор, рассмотрим его в окружении системных компонентов IBM PC-совместимого компьютера. Этой компьютерной архитектурой, естественно, не ограничивается сфера применения процессоров. Всем известный IBM PC-совместимый компьютер представляет собой реализацию так называемой фон-неймановской архитектуры вычислительных машин. Эта архитектура была представлена Джоном фон-Нейманом еще в 1945 году и имеет следующие основные признаки. Машина состоит из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лока управления, арифметико-логического устройст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АЛУ)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амяти и устройств ввода/вывода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ей реализуется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нцепция хранимой программы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ограммы и данные хранятся в одной и той же памяти. Выполняемые действия определяются блоком управления и АЛУ, которые вместе являются основой центрального процесс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6" descr="D:\vvsu.gif"/>
          <p:cNvPicPr/>
          <p:nvPr/>
        </p:nvPicPr>
        <p:blipFill>
          <a:blip r:embed="rId1"/>
          <a:stretch/>
        </p:blipFill>
        <p:spPr>
          <a:xfrm>
            <a:off x="142920" y="0"/>
            <a:ext cx="838080" cy="37296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В.В. Сивченко, ст. преп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Ц микропроцессора i8080 предусматривает возможность обмена как в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инхронн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так и в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синхронн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ежиме. Если в составе МПС использованы только "быстрые" устройства, т.е. такие, которые могут работать с тактовой частотой МП, то передача информации в МЦ осуществляется в синхронном режиме. В этом случае на вход READY МП подается константа "1" и после такта T2 начинается такт T3. При работе с "медленными" устройствами, быстродействие которых не позволяет переключаться с частотой тактового генератора МП, необходимо "растянуть" во времени МЦ, реализовав асинхронный принцип обмена. Для этого в начале МЦ обмена с "медленными" устройствами на входе READY формируется уровень логического нуля. В такте T2 МП анализирует состояние READY, и если READY = 0, то МП после T2 переходит не к T3, а к такту ожидания Tw, который может длиться произвольное число периодов тактового генератора. Переход к T3 осуществляется по фазе Ф1, если в предыдущей Ф2 READY установился в "1". С помощью входа READY можно не только согласовывать работу МП с устройствами различного быстродействия, но и реализовывать пошаговый и потактовый режимы работы М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МЦ"/>
          <p:cNvPicPr/>
          <p:nvPr/>
        </p:nvPicPr>
        <p:blipFill>
          <a:blip r:embed="rId1"/>
          <a:stretch/>
        </p:blipFill>
        <p:spPr>
          <a:xfrm>
            <a:off x="154080" y="357120"/>
            <a:ext cx="7775640" cy="4786560"/>
          </a:xfrm>
          <a:prstGeom prst="rect">
            <a:avLst/>
          </a:prstGeom>
          <a:ln w="0">
            <a:noFill/>
          </a:ln>
        </p:spPr>
      </p:pic>
      <p:sp>
        <p:nvSpPr>
          <p:cNvPr id="322" name="TextBox 3"/>
          <p:cNvSpPr/>
          <p:nvPr/>
        </p:nvSpPr>
        <p:spPr>
          <a:xfrm>
            <a:off x="2343600" y="5357880"/>
            <a:ext cx="443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9.2. Временная диаграмма МЦ "ПРИЕМ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им образом, в машинном цикле выполняются следующие действ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ча адрес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ча информации о начатом МЦ (PSW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ализ значения входных сигнало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необходимости - ожидание сигнала READY = 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ем/выдача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необходимости - внутренняя обработка/пересылка дан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реализации одного МЦ процессор може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ь из памяти байт команд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ь из памяти байт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ь из УВв байт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ь из стека байт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ь вектор прерыва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ть в память байт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ть в стек байт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ть на УВыв байт дан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носительно выходных сигналов МП все перечисленные выше разновидности МЦ отличаются только направлением передачи данных: в МП - циклы 1..5 (ПРИЕМ), из МП - циклы 6..8 (ВЫДАЧ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МЦ2"/>
          <p:cNvPicPr/>
          <p:nvPr/>
        </p:nvPicPr>
        <p:blipFill>
          <a:blip r:embed="rId1"/>
          <a:stretch/>
        </p:blipFill>
        <p:spPr>
          <a:xfrm>
            <a:off x="285840" y="428760"/>
            <a:ext cx="7667640" cy="4786200"/>
          </a:xfrm>
          <a:prstGeom prst="rect">
            <a:avLst/>
          </a:prstGeom>
          <a:ln w="0">
            <a:noFill/>
          </a:ln>
        </p:spPr>
      </p:pic>
      <p:sp>
        <p:nvSpPr>
          <p:cNvPr id="325" name="TextBox 3"/>
          <p:cNvSpPr/>
          <p:nvPr/>
        </p:nvSpPr>
        <p:spPr>
          <a:xfrm>
            <a:off x="2235600" y="5500800"/>
            <a:ext cx="456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9.3. Временная диаграмма МЦ "ВЫДАЧА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фицит внешних выводов МП не позволяет выводить во внешний интерфейс достаточный для эффективного функционирования объем управляющей информации. Для выдачи более полной информации о состоянии МП в текущем МЦ используется мультиплексирование шины данных. В начале каждого МЦ на линии шины данных D[7:0] выдается байт дополнительной управляющей информации (т.н. PSW), разряды которого имеют следующее назначе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0 - подтверждение прерыва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1 - запись (в ЗУ) или вывод (на УВыв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2 - обращение в стек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3 - подтверждение останов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4 - вывод (на УВыв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5 - M1 (считывание из памяти первого байта команды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6 - ввод (из УВв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7 - чтение (из ЗУ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личие на D[7:0] управляющей информации отмечается специальным выходным сигналом SY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йт управляющей информации присутствует на шине данных (ШД) один такт, а использоваться может в течение всего МЦ. Поэтому в МПС, использующих информацию PSW, предусматривается специальный, внешний по отношению к МП, регистр-защелка для фиксации PSW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тральный процессор выбирает и исполняет команды из памяти последовательно, адрес очередной команды задается "счетчиком адреса" в блоке управления. Этот принцип исполнения называется последовательной передачей управления. Данные, с которыми работает программа, могут включать переменные - именованные области памяти, в которых сохраняются значения с целью дальнейшего использования в программе. Фон-неймановская архитектура - не единственный вариант построения ЭВМ, есть и другие, которые не соответствуют указанным принципам (например, потоковые машины). Однако подавляющее большинство современных компьютеров основано именно на этих принципах, включая и сложные многопроцессорные комплексы, которые можно рассматривать как объединение фон-неймановских машин. Конечно же, за более чем полувековую историю ЭВМ классическая архитектура прошла длинный путь развития. В общем смысле под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рхитектуро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оцессора понимается его программная модель, то есть программно-видимые свойства. Под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икроархитектуро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нимается внутренняя реализация этой программной модели. Для одной и той же архитектуры разными фирмами и в разных поколениях применяются существенно различные микроархитектурные реализации, при этом, естественно, стремятся к максимальному повышению производительности (скорости исполнения программ). Сейчас существует множество архитектур процессоров, которые делятся на две глобальные категории - RISC и CISC. RISC - Reduced (Restricted) Instruction Set Computer - процессоры (компьютеры) с сокращенной системой коман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и процессоры обычно имеют набор однородных регистров универсального назначения, причем их число может быть большим. Система команд отличается относительной простотой, коды инструкций имеют четкую структуру, как правило, с фиксированной длиной. В результате аппаратная реализация такой архитектуры позволяет с небольшими затратами декодировать и выполнять эти инструкции за минимальное (в пределе 1) число тактов синхронизации. Определенные преимущества дает и унификация регистров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CISC - Complete Instruction Set Computer - процессоры (компьютеры) с полным набором инструкций, к которым относится и семейство х86. Состав и назначение их регистров существенно неоднородны, широкий набор команд усложняет декодирование инструкций, на что расходуются аппаратные ресурсы. Возрастает число тактов, необходимое для выполнения инструкций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ссоры х86 имеют самую сложную в мире систему команд. Хорошо ли это, вопрос спорный, но груз совместимости с программным обеспечением для IBM PC, имеющим уже 20-летнюю историю, не позволяет расставаться с этим "наследием тяжелого прошлого". В процессорах семейства х86, начиная с 486, применяется комбинированная архитектура - CISC-процессор имеет RISC-ядр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личают следующие способы организации вычислительного процесс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 поток команд - один поток данных (Simple Instruction - Simple Data, SISD) - характерно для традиционной фон-неймановской архитектуры (иногда вместо Simple пишут Single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 поток команд - множественный поток данных (Simple Instruction - Multiple Data, SIMD) - технология MM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ожественный поток команд - один поток данных (Multiple Instruction - Simple Data, MISD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ожественный поток команд - множественный поток данных (Multiple Instruction - Multiple Data, MIMD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8-РАЗРЯДНЫЙ МИКРОПРОЦЕССОР </a:t>
            </a:r>
            <a:r>
              <a:rPr b="1" lang="en-US" sz="2200" spc="-1" strike="noStrike">
                <a:solidFill>
                  <a:srgbClr val="04617b"/>
                </a:solidFill>
                <a:latin typeface="Arial"/>
              </a:rPr>
              <a:t>I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8080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599840"/>
            <a:ext cx="7467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  Рис. 9.1 представлена внутренняя структура МП i8080, включающего в себя 8-разрядное АЛУ с буферным регистром и схемой десятичной коррекции, блок РОН, регистры указателя стека SP и счетчика команд PC, первичный управляющий автомат УА, буферные схемы шин адреса и данных и схему управления систем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ешний интерфейс представлен 8-разрядной двунаправленной шиной данных D[7:0], 16-разрядной шиной адреса A[15:0] и группой линий  управления. Назначение входных и выходных линий МП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[7:0]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вунаправленная шина данных служит для приема и выдачи данных, приема команды, приема вектора прерывания, выдачи дополнительной управляющей информации (слово PSW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A[15:0]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однонаправленная шина адреса служит для выдачи адреса памяти и устройств ввода/выво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1,Ф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игналы тактового генератора частотой 1..2,5 МГц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i8080"/>
          <p:cNvPicPr/>
          <p:nvPr/>
        </p:nvPicPr>
        <p:blipFill>
          <a:blip r:embed="rId1"/>
          <a:stretch/>
        </p:blipFill>
        <p:spPr>
          <a:xfrm>
            <a:off x="428760" y="214200"/>
            <a:ext cx="6643440" cy="5835600"/>
          </a:xfrm>
          <a:prstGeom prst="rect">
            <a:avLst/>
          </a:prstGeom>
          <a:ln w="0">
            <a:noFill/>
          </a:ln>
        </p:spPr>
      </p:pic>
      <p:sp>
        <p:nvSpPr>
          <p:cNvPr id="314" name="TextBox 4"/>
          <p:cNvSpPr/>
          <p:nvPr/>
        </p:nvSpPr>
        <p:spPr>
          <a:xfrm>
            <a:off x="3366360" y="628668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унок 9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56840" y="357120"/>
            <a:ext cx="74674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брос (начальная установка и запуск программы с адреса 000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EADY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ходной сигнал готовности памяти или ВУ к обмену (обеспечивает асинхронный режим обмена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запрос внешнего преры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захват шины (требование прямого доступа в память со стороны ВУ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W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запись - выходной сигнал, определяющий направление передачи информации по шине данных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 процессора к памя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ли В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чтение - выходной сигнал, определяющий направление передачи информации по шине данных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 памяти или ВУ к процессор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YN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ыходной сигнал, идентифицирующий наличие на шине данных дополнительной управляющей информации (PSW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ыходной сигнал, отмечающий состояние ожидания или останова МП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NT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ыходной сигнал, подтверждающий режим внешних прерыва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LD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ыходной сигнал, подтверждающий режим прямого доступа в память (подтверждение захвата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КОМАНДНЫЙ ЦИКЛ МИКРОПРОЦЕССОРА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-46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П работает в составе МПС, обмениваясь информацией с памятью и ВУ. В основе работы МП лежит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мандный цик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ействия по выбору из памяти и выполнению одной команды. В зависимости от типа и формата команды, способов адресации и числа операндов командный цикл может включать в себя различное число обращений к памяти и ВУ и следовательно - иметь различную длитель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юбой командный цикл (КЦ) начинается с извлечения из памяти первого байта команды по адресу, хранящемуся в PC, что команды i8080 имеют длину 1, 2 или 3 байта, причем в первом байте содержится информация о длине команды. В случае 2- или 3-байтовой команды реализуются дополнительные обращения к памяти по соседним (большим) адреса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 считывания команды начинается ее выполнение, причем в процессе выполнения может потребоваться еще одно или несколько обращений к памяти или ВУ (чтение операнда, запись результата)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реализации команды i8080 может потребоваться от 1 до 5 обращений к памяти (ВУ). Хотя обращения к ЗУ/ВУ располагаются в разных частях КЦ, выполняются они по единым правилам, соответствующим интерфейсу МПС и реализованы на общем оборудовании управляющего автомата. Действия МПС по передаче в/из МП одного байта данных/команды называются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ашинным цикл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МАШИННЫЕ ЦИКЛЫ И ИХ ИДЕНТИФИКАЦИЯ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андный цикл представляет собой последовательность машинных циклов (МЦ), причем КЦ i8080 может содержать от 1 до 5 МЦ, которые принято обозначать M1, M2,..M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Ц обязательно включает в себя действия по передаче байта информации. Кроме того, в некоторых МЦ дополнительно реализуются действия по пересылке и/или преобразованию информации внутри МП. Поэтому длительность МЦ может быть различной - за счет различного числа содержащихся в них машинных тактов (T1, T2,...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шинный такт (такт) образует пара сигналов тактового генератора Ф1, Ф2, поэтому длительность такта постоянна - период тактового генератора (за исключением такта Tw - см. ниж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им образом, просматривается иерархия процедур при работе микропроцессора (не только i8080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омандный цикл - Машинный цикл - Машинный та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i="1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ждому такту соответствует определенное состояние управляющего автомата. Любой МЦ i8080 обязательно содержит такты T1, T2, T3, предназначенные для передачи байта по интерфейсу. МЦ, в которых осуществляется передача и/или преобразование информации в МП, содержат дополнительно один или два такта T4, T5. МП i8080 вырабатывает несколько типов МЦ, основными из которых являются циклы ПРИЕМ и ВЫДАЧ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02:31:08Z</dcterms:created>
  <dc:creator>Evgeniy</dc:creator>
  <dc:description/>
  <dc:language>en-US</dc:language>
  <cp:lastModifiedBy>Сивченко</cp:lastModifiedBy>
  <dcterms:modified xsi:type="dcterms:W3CDTF">2009-06-16T23:08:11Z</dcterms:modified>
  <cp:revision>21</cp:revision>
  <dc:subject/>
  <dc:title>Микропроцессоры и микроконтроллеры </dc:title>
</cp:coreProperties>
</file>