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3A4CE-3456-4B99-BC11-D6E28D81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624BA-4B96-4326-83CE-73719934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0141-3642-4F3F-BF63-97BF6A92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5A6CF-E624-414D-B3EF-1F0449FB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4D19-6E4F-41AB-AA53-DA6F0557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4E94-B151-4A17-AD95-C49C5FBE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C7CD-C90F-45FD-A0A3-74ABC3AF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AA1D-0019-4F53-B5E2-DFC416EB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4E77-8896-4BB0-9B8D-61211B9D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B141-BB14-4904-A726-23042161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CCF6-EF62-4097-804B-8F58A85F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3F73-EA72-48BA-AD10-B2245B06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9FA5-4BF3-40C9-AB1F-570AB409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294F-4F51-45EA-9C4A-F70743B7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01DE-6104-45B7-8472-86148E8E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D82F-20C1-42D9-927F-59BB9B03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F1AA-088D-474B-A81E-5FE726C9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5BA14-42EC-4434-85F6-954449F0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CD9D-828A-4EF8-8D85-2DC0832D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8F57C-BAE4-40BF-B02E-F2FEA19B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FF92D-3EF3-4E40-97AA-D511CB3E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07D3-5EF4-48EC-A23A-E7C52DE6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109A-4CC8-476C-8010-676218A6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56F8-C68D-4797-AE85-8AED39F2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14D8-F1BE-45A6-ACF8-503250CCF9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D477-2CD8-4B87-8D9D-2ACDBEB76E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601956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кроконтрол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исание выв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ывод источника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общий провод («земля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(РВ7...РВ0) — порт В является 8-битовым двунаправленным параллельным портом ввода/вывода с встроенными подтягивающими резисторами. У выводов порта предусмотрены внутренние подтягивающие резисторы (их можно включать или выключать для каждого бита отдельно). Выводы РВ0 и РВ1 также являются положи­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и отрица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входами встроенного ана­логового компаратора. Выходные буферы порта В могут поглощать ток до 20 мА и непосредственно управлять светодиодными индикаторами. Это означает, что микроконтроллер способен управлять нагрузкой до 20 мА при состоянии логического 0 на выходе порта. Таким образом, для управления светодиодом его следует подсоединить одним выводом к выводу порта микроконтроллера, а другим — к напряжению питания 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Соответственно светиться светодиод (а значит, и потреблять ток) будет при значении 0 на соответствующей линии порта. Если выводы РВ0...РВ7 используются как входы и извне устанавливаются в низкое состояние, они являются источниками тока, если включены внутренние подтягивающие резисторы. Кроме того, порт В обслуживает некоторые специа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475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—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7-битовым двунаправленным параллельным портом ввода/вывода с встроенными подтягивающими резисторами. Выходные буферы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акже могут поглощать ток до 20 мА. Как входы, установленные в низкое состояние,   выводы   порта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являются   источниками   тока, если задействованы подтягивающие резисторы. Кроме того,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луживает некоторые специа­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ход сброса. Удержание на входе низкого уровня в течение двух машинных циклов (если работает тактовый генератор), перезапускает микроконтролл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— вход инвертирующего усилителя генератора и вход внешнего тактового сиг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— выход инвертирующего усилителя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983120" y="549360"/>
            <a:ext cx="4160880" cy="5832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90S23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регистров общего на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стровый файл микроконтроллера содержит 32 8-разрядных регистра общего назначения, доступ к которым осуществляется за один машинный цикл. Благодаря этому микроконтроллер может выполнить большинство команд за один цикл тактовой ча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У поддерживает арифметические и логические операции с регистрами, с константами и регист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регистровых операций, для работы с регистровым файлом могут использоваться доступные режимы адресации, так как регистровый файл занимает адреса $00-$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области данных, обращаться к ним можно и как к ячейкам памя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транство ввода/вывода состоит из 64 адресов для периферийных функций процессора, таких, как управляющие регистры, таймеры/счетчики и др. Доступ к пространству ввода/вывода может осуществляться непосредственно как к ячейкам памяти, расположенным после регистрового файла ($20—$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инство команд, использующих регистры, могут использовать любые регистры общего назначения. Исключение составляют пять команд, оперирующих с константам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C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команд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загружающая регистр константой. Эти команды работают только со второй половиной регистрового файла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ому регистру присвоен адрес в пространстве данных, они отображаются на первые 32 ячейки ОЗУ. Хотя регистровый файл физически размещен вне ОЗУ, подобная организация памяти дает гиб­кий доступ к регистр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разработке микроконтроллеров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а использована так называемая гарвардская архитектура. Смысл ее состоит в том, что память программ и данных программы располагается в разных областях памяти. На рис. 3 изображена структура памяти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уп к памяти программ осуществляется следующим образом: во время выполнения одной команды следующая команда выбирается из памяти программ. Это дает возможность выполнять по одной команде за каждый машинный ци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помощи команд относительных переходов и вызова подпрограмм осуществляется доступ ко всему адресному пространству. Большая часть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ет размер 16-разрядов одно слово. Каждый адрес в памяти программ содержит одну 16- или 32-разрядную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ботке прерываний и вызове подпрограмм адрес возврата запоминается в стеке. Стек размещается в оперативной памяти дан­ных общего назначения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его размер ограничен только размером доступной памя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ее использованием в программе. Все программы пользователя должны инициализировать указатель стека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сразу после запуска микроконтроллера, до того как вызываются подпрограммы и разрешаются преры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492360" y="549360"/>
            <a:ext cx="51944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е пространство памя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линейным и непреры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рерываний имеет собственный управляющий регистр в пространстве ввода/вывода, и флаг глобального разрешения прерываний в регистре состояния. Каждому прерыванию назначен свой вектор в начальной области памяти программ. Различные прерывания имеют приоритет в соответствии с расположением их векторов. По младшим адресам расположены векторы с большим приоритето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>
            <a:lum contrast="42000"/>
          </a:blip>
          <a:srcRect l="16529" t="8159" r="15830" b="8729"/>
          <a:stretch/>
        </p:blipFill>
        <p:spPr>
          <a:xfrm>
            <a:off x="324000" y="765000"/>
            <a:ext cx="3384360" cy="3673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95280" y="443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3 Структура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(АЛУ) микроконтроллера непосредственно подключено к 32 регистрам общего назначения. За один машинный цикл АЛУ производит операции между регистрами регистрового файла. АЛУ может выполнять арифметические, логические и битовы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ь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2 Кб флэш-памяти для хранения программ. Флэш-память организована как 1Кх16. В фирменном описании микроконтроллера утверждается, что флэш-память можно перепрограммировать до 1000 р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имеет ширину 10 битов и позволяет адресовать 1024 слов памяти 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ы занесения информации (т. е. программ) во флэш-память микроконтроллера будут рассмотрены даль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128 байтов электрически стираемой энерго­независимой памя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рганизована как отдель­ная область данных, каждый байт которой может быть прочитан и при необходимости перезаписан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держивает не менее 100 000 циклов записи/стирания. К этой памяти может обращаться программа, считывая или записывая какие-либо данные. Кроме того, данные в эту память можно занести с помощью специального устройства — программатора, на этапе изготовления и программиро­вания конструкции. Ее удобно использовать для хранения каких-либо конста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4897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еративная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рисунке показана организация памяти данных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. 224 ячейки памяти включают в себя регистровый файл, память ввода/вывода и оперативную память данн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е 96 адресов используются для регистрового файла и памя­ти ввода/вывода, следующие 128 — для ОЗУ да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щении к памяти используются пять различных режимов адресации: прямой, непосредственный со смещением, непосредст­венный, непосредственный с предварительным декрементом и непо­средственный с постинкрементном. Регист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 регистрового файла используются как указатели для непосредственной адрес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>
            <a:lum contrast="42000"/>
          </a:blip>
          <a:srcRect l="14511" t="0" r="14511" b="0"/>
          <a:stretch/>
        </p:blipFill>
        <p:spPr>
          <a:xfrm>
            <a:off x="5219640" y="620640"/>
            <a:ext cx="3745080" cy="561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 состояния 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>
            <a:lum contrast="60000"/>
          </a:blip>
          <a:srcRect l="7085" t="0" r="4427" b="0"/>
          <a:stretch/>
        </p:blipFill>
        <p:spPr>
          <a:xfrm>
            <a:off x="468360" y="1197000"/>
            <a:ext cx="8136000" cy="1138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50920" y="2421000"/>
            <a:ext cx="8353440" cy="4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стр состояния расположен по адресу $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 пространства ввода/вывода и определен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7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общее разрешение прерываний. Для разрешения пре­рываний этот бит должен быть установлен в единицу. Управление отдельными прерываниями производится регистрами маски прерываний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Если бит 1 = 0, независимо от состоя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рывания запрещены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обнуляется аппаратно после входа в прерывание и восстанавливается в состояние 1 командой возврата из подпрограммы обработки прерывани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для раз­решения обработки последующих преры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 — Т: хранение копируемого бита. Бит из регистра регист­рового файла может быть скопирован в Т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бит Т может быть скопирован в бит регистрового файла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 — Н: флаг половинного переноса. Этот флаг индицирует перенос из младшей половины байта при некоторых арифмет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4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бит знака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R 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вен исключающему ИЛИ между флагами N (отрицательный результат)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ереполне­ние дополнения до двух). Если после операций сложения или вычи­тания чисел со знаком флаг переполне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удет установлен в 1, то результатом будет 9-разрядное число, причем старшим (т. е. знако­вым) разрядом числа будет флаг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8 остальных битов результата будут храниться в 8-разрядном регистре-приемнике выполнявшейся оп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3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переполнения дополнения до двух. Этот флаг надо проверять после операций сложения или вычитания чисел в до­полнительном коде. Он устанавливается в том случае, если результат операции выходит за пределы диапазона от -128 до +127. Это — допустимый диапазон чисел со знаком, которые можно сохранить в 8 разрядах. Соответственно,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становится в 1, если при сложении двух положительных чисел получится число, большее 127, или при сложении двух отрицательных чисел меньше -1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2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отрицательного результата. Этот флаг устанавливается в 1, если старший (знаковый) разряд (бит 7) равен 1, что означает, что результат отрицателен. Следует, однако, отметить, что флаг может быть также установлен и в результате логических опера­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1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нулевого результата. Этот флаг индицирует нулевой результат различных арифметических и логических операций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0 — С: флаг переноса. Этот флаг индицирует перенос в арифметических и лог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казатель сте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50920" y="119700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т 8-разрядный регистр с адресом $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хранит указатель; стека процесс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313. Восьми разрядов достаточно для адресации ОЗУ в пределах $60 — 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>
            <a:lum contrast="66000"/>
          </a:blip>
          <a:srcRect l="7767" t="23212" r="5819" b="1295"/>
          <a:stretch/>
        </p:blipFill>
        <p:spPr>
          <a:xfrm>
            <a:off x="324000" y="2205000"/>
            <a:ext cx="8351640" cy="1220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468360" y="3429000"/>
            <a:ext cx="80643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казатель стека указывает на область памяти, в которой сохраняется адрес возврата из подпрограмм и прерываний. Также с помощью стека подпрограммы могут получать или передавать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ласть стека в ОЗУ должна быть задана до того, как произойдет любой вызов подпрограммы или будут разрешены прерывания. Указатель стека уменьшается на 1 при записи данных в стек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и уменьшается на 2 при вызове подпрограммы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обработке прерывания. Указатель стека увеличивается на 1 при выборе данных из стека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увеличивается на 2 при выполнении команд возврата из подпрограммы или обработчика прерыва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комство 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40388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контроллеры являются сердцем многих современных устройств и приборов, в том числе и быт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й главной особенностью микроконтроллеров, с точки зрения конструктора-проектировщика, является то, что с их помощью легче и зачастую гораздо дешевле реализовать различны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140360" y="2060640"/>
            <a:ext cx="4762440" cy="3875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рисунка видно, что микроконтроллер может управлять раз­личными устройствами и принимать от них данные при минимуме дополнительных узлов, так как большое число периферийных схем уже имеется непосредственно на кристалле микроконтроллера. Это позволяет уменьшить размеры конструкции и снизить потребление энергии от источника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равнения: при использовании традиционных микропроцессоров приходится все необходимые схемы сопряжения с другими устройствами реализовывать на дополнительных компонентах, что увеличивает массу, размеры и потребление электро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рассмотрим типичные схемы, присутствующие в микро­контролл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ое процессорное устройство (ЦПУ) — сердце микроконтроллера. Оно принимает из памяти программ коды команд декодирует их и выполняет. ЦПУ состоит из регистров, арифмети­ко-логического устройства (АЛУ) и цепей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. Здесь хранятся коды команд, последовательность которых формирует программу для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ая память данных. Здесь хранятся переменные программ. У большинства микроконтроллеров здесь расположен также ст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товый генератор. Этот генератор определяет скорость работы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пь сброса. Эта цепь служит для правильного запуска микро­ 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овательный порт — очень полезный элемент микроконтроллера. Он позволяет обмениваться данными с внешними устройствами при малом количестве пров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фровые линии ввода/вывода. По сравнению с последовательным портом с помощью этих линий возможно управлять одновременно несколькими линиями (или проверять несколько лин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. Используется для отсчета временных интерв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рожевой таймер. Это специальный таймер, предназначенный для предотвращения сбоев программы. Он работает следующим образом: после запуска он начинает отсчет заданного временного интервала. Если программа не перезапустит его до истечения этого интервала времени, сторожевой таймер перезапустит микроконтроллер. Таким образом, программа должна давать сторожевому таймеру сигнал – все в порядке. Если она этого не сделала, значит, по какой-либо причине произошел с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мейств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это новое семейство 8-разрядны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кроконтроллеров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микроконтроллеры позволяют решать множество задач встроенных систем. Они отличаются от других распространенных в настоящее время микроконтроллеров большей скоростью работы, большей универсальностью. Быстродействие данных микроконтроллеров позволяет в ряде случаев применять их в устройствах, для реализации которых ранее можно было применять только 16-разрядные микроконтроллеры, что позволяет ощутимо удешевить готовую систему. Кроме того, микроконтролл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чень легко программируются — простейший программатор можно изготовить самостоятельно буквально в течение 30 мину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заявлению фирмы-производителя микроконтроллеров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микроконтролле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но перепрограммировать до 1000 раз, причем непосредственно в собранной сх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это делает эти микроконтроллеры очень привлекательными для создания новых разрабо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именно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работаны фирм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бладают следующими основными характеристик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быстрая гарвардска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а загрузки и вы­полнения большинства инструкций в течение ОДНОГО цикла тактового генератора. При этом достигается скорость работы примерн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Гц. Частота тактового генератора мно­гих типов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жет достигать 10...16 МГц (10...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!)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lions Instructions per Seco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миллионов операций в секунду). Отсутствует внутреннее деление частоты, как, например,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Таким образом, если использован кварцевый резонатор с часто­той 16 МГц, микроконтроллер будет работать с быстродействи­ем почти 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содержатся в электрически перепрограммируемой постоянной памяти програм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та память может быть перепрограммирована до 1000 раз. Это облегчает настройку и отладку систем. Кроме того, возможность внутрисхемного программирования позволяет не вынимать микроконтроллер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вой схемы в процессе программирования, что значительно ускоряет процесс разработки систем на основе этих микроконтролл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начально проектировалась с учетом особенностей языка программирования высокого уровня С, что в результате позволяет получать после компиляции программ на С гораздо более эффективный код, чем для других микроконтроллеров. А это уже выигрыш и в размере полученного кода (в объеме памяти на кристалле), и в скорости работы микроконтролле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32 регистра, все из которых напрямую работают с АЛУ. Это значительно уменьшает размер программ. 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же самое займет всего одну коман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небольшое потребление энергии и наличие нескольких режимов работы с пониженным потреблением энергии делает эти микроконтроллеры идеальными для применения в конструкциях, питающихся от батарее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ичие дешевых и простых в использовании программных средств. Многие полноценные программы доступны в свободно распространяемом варианте, как, например, отладчи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Studi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ссемб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ras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множество версий программаторов и даже компилятор языка С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g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екоторые из этих про­грамм имеются на компакт-диске, прилагаемом к книг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з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широтно-импульсная модуляция), таймеры/счетчики, аналоговый компаратор и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ART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роены в микроконтроллеры и могут управляться с помощью прерываний, что значительно упрощает работу с ни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относительные команды переходов и ветвлений, что позволяет получать перемещаемый ко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ует необходимость переключать страницы памяти (в отличие, например, от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электрически перепрограммируемую постоянную память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оторая может быть перепрограммирована более 100 000 раз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7760" y="549360"/>
            <a:ext cx="8435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ется три подсемейства микроконтроллер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недорогие миниатюрные микроконтроллеры в 8-выводном исполн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c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сновная линия микроконтроллеров с производительностью отдельных модификаций до 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2...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...512 бай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a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производительностью 4...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сложных приложений, требующих большого объема памят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до 12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...4 Кб, встроенным 10-разрядным 8-канальным АЦП, аппаратным умножителем 8x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й особенностью семейства микроконтроллер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то, что система команд всего семейства совместима при переносе программы со слабого на более мощный микроконтрол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микроконтролле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13 фирм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— современный 8-битовый КМОП - микроконтроллер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производительность окол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егагерц за счет того, что почти все команды он выполняет за один пери­од тактового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строены на основе расширенн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ы, объединяющей развитый набор команд и 32 регистра общего назначения. Все 32 регистра непосредственно подключены к арифметико-логическому устройству (АЛУ), что дает доступ к любым двум регистрам в течение одного машинного цикла. Подобная архитектура обеспечивает почти десятикратный выигрыш в производительности по сравнению с традиционными микроконтроллерами, например, серии 805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следующие характеристики: 2 Кб загружаемой флэш-памяти; 128 байт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15 линий ввода/вывода общего назначения; 32 рабочих регистра; два таймера/счетчика, один 8-разрядный, другой 16-разрядный; внешние и внутренние прерывания; встроенный последовательный порт; программируемый сторожевой таймер со встроенным генератором;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загрузки программ; два выбираемых программно режима низкого энергопотреб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эш-память на кристалле может быть перепрограммирована прямо в системе через последовательный интерфей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04Z</dcterms:modified>
  <cp:revision>12</cp:revision>
  <dc:subject/>
  <dc:title>Микропроцессорные системы</dc:title>
</cp:coreProperties>
</file>