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73C-FDC9-4A72-A8F5-7DE906E7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9EA-E3A3-4326-A51C-F731EF0B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447-F4FE-48C6-9DD0-C3F8C0C2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BA9-DDC9-4D43-B256-40133923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9EAA-12A6-42F0-9098-7C07353C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E2EB-044D-4607-9C28-AB18AF44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29E2-5E3D-4E9C-A37C-348EA7B4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3D78-8A56-4C72-A995-D53EE771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0560-9E6A-4C6A-80BF-72176E2E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5EE0-CED0-4C1E-90AF-96ECAAE1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ACA5-4452-4E0B-9139-CC610F7E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F8D-8F9F-406E-872D-AAEB8EB7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ABD8-9EC8-4D44-A4DF-D8A7B3BB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72AE-D5B9-437E-BEDD-C542BCF2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6E9B-80CB-47BC-BEE8-5B2714F5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8962-79D1-4BB3-BAB9-BDE22850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273D-8E02-4451-AE1E-CD51FDF9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628E-152C-4F53-A365-3C72FA7D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95BD5-E5EA-4AEB-9E8C-15BEBCF9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154C-5946-4570-9443-8559E11C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5710C-7110-4B79-9B3D-B9DB0262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93A1-65FC-4EAB-A0C7-A01E5BC8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C69-0DF4-413E-B5B1-58933EC3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854E-8395-410E-8994-189E6D16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A609-A3E3-43A7-AE2B-941272C9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3ECD6-4796-4709-8049-31F998AA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C8B0C-70DD-43AA-81F4-F6781B32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01577-3222-4FC3-98C0-22BA1281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310B-E6F4-4669-B9F0-1A1E4965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85068-D2C8-46C4-9CE1-92E1C789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56D924-7DBF-4EAB-9201-4327E9B4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34605-D7C5-46FE-B3BA-0F6D5253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F12D9B-324F-4AB4-A916-FDCAFD37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582-5093-4A22-A591-69FFAD57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718E77-6832-47EC-B11D-D49194DE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906C6-56D0-4DC9-ABA0-8120FBCE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40996-C571-472E-BA4A-D9DDDA3D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5F6141-F4B2-43DF-86C1-DABABEC6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0D199-4819-43E0-823E-201D9CA0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F2DDA-6A0B-451E-AB5C-D2F7D4EF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BF862-98E8-45BB-84DF-57104E61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43883-970B-4704-85C3-45DFBE53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403B8F-D2B5-4505-B1EE-3A6EA797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DAB26-94C0-49EE-B183-609537A5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26C-3887-43B1-BD9C-86547BBA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0452E-C038-4FFC-855C-B0F1D649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706C9-E4B1-4AA1-B76E-95B6FE10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835C26-352F-42D2-B3A9-CD4CD29D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24660-6BFD-4B17-8217-9867C50D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5D961-9ADC-4E22-8E9F-8B3E6C9B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DE154-A3B6-4B37-9A3A-03E60D62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78CD0-98BF-4F94-9E0B-ADA68A59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F3B8A-BF10-4684-AF9A-CFC60F5F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233CF0-E814-486A-BDB5-04CCD1B9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10A10-49D2-4397-98C1-1A2FFBF8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912-5E29-4AEF-920A-210EF334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8CA37-BA9F-4F3B-9599-628A11FB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666397-12EF-42AB-A254-61F76F17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6F963A-94F8-4666-B679-D7A7DB11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25180B-7D96-421A-8908-214F979C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6B7CB-B424-49EB-984D-78809C3D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E420A-8D22-4BEF-8093-6861ACD3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20107C-BB48-4355-973F-5B4EA430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BC31B0-F752-48EF-9CAB-3C3DF58D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4FE48-900B-4F63-827F-14084084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33C4A-DF12-4CE2-8D29-21FF6F0B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3B2-2F2E-45F6-A81D-FF38F50B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81033-5FE5-4710-A945-DF43179F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FB1D1D-60F8-4D48-976F-AB49C846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FEF5C-B2FB-4438-BF4E-7E7BCEB9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DA8-897E-4034-82E0-1F1EED87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A41-0448-468D-894A-EE04CFF3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0229-EE44-4B2A-B892-42C9458C285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4758-8D0D-475E-92D2-51BD3A4DE42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B614-F866-40B2-A7C1-22E183E6A32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547F-5263-48E8-A098-B8601CD0C86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F583-D680-47AE-8EF9-A838649C601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253F-C3D7-4A05-8746-702E86D75D9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2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000" y="1341000"/>
            <a:ext cx="7467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В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известно, процессор является основным вычислительным блоком компьютера, в наибольшей степени определяющим его мощь. Процессор является устройством, исполняющим программу - последовательность команд (инструкций), задуманную программистом и оформленную в виде модуля программного кода. Чтобы понять, что делает процессор, рассмотрим его в окружении системных компонентов IBM PC-совместимого компьютера. Этой компьютерной архитектурой, естественно, не ограничивается сфера применения процессоров. Всем известный IBM PC-совместимый компьютер представляет собой реализацию так называемой фон-неймановской архитектуры вычислительных машин. Эта архитектура была представлена Джоном фон-Нейманом еще в 1945 году и имеет следующие основные признаки. Машина состоит из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ока управления, арифметико-логического устрой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ЛУ)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мяти и устройств ввода/вывод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й реализуе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пция хранимой программ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граммы и данные хранятся в одной и той же памяти. Выполняемые действия определяются блоком управления и АЛУ, которые вместе являются основой центрального процесс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D:\vvsu.gif"/>
          <p:cNvPicPr/>
          <p:nvPr/>
        </p:nvPicPr>
        <p:blipFill>
          <a:blip r:embed="rId1"/>
          <a:stretch/>
        </p:blipFill>
        <p:spPr>
          <a:xfrm>
            <a:off x="14292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микропроцессора i8080 предусматривает возможность обмена как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ак и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жиме. Если в составе МПС использованы только "быстрые" устройства, т.е. такие, которые могут работать с тактовой частотой МП, то передача информации в МЦ осуществляется в синхронном режиме. В этом случае на вход READY МП подается константа "1" и после такта T2 начинается такт T3. При работе с "медленными" устройствами, быстродействие которых не позволяет переключаться с частотой тактового генератора МП, необходимо "растянуть" во времени МЦ, реализовав асинхронный принцип обмена. Для этого в начале МЦ обмена с "медленными" устройствами на входе READY формируется уровень логического нуля. В такте T2 МП анализирует состояние READY, и если READY = 0, то МП после T2 переходит не к T3, а к такту ожидания Tw, который может длиться произвольное число периодов тактового генератора. Переход к T3 осуществляется по фазе Ф1, если в предыдущей Ф2 READY установился в "1". С помощью входа READY можно не только согласовывать работу МП с устройствами различного быстродействия, но и реализовывать пошаговый и потактовый режимы работы М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МЦ"/>
          <p:cNvPicPr/>
          <p:nvPr/>
        </p:nvPicPr>
        <p:blipFill>
          <a:blip r:embed="rId1"/>
          <a:stretch/>
        </p:blipFill>
        <p:spPr>
          <a:xfrm>
            <a:off x="154080" y="357120"/>
            <a:ext cx="7775640" cy="478656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2343600" y="535788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2. Временная диаграмма МЦ "ПРИЕМ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в машинном цикле выполняются следующие действ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адре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информации о начатом МЦ (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значения входных сигнал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ожидание сигнала READY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ем/выдача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внутренняя обработка/пересылка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ализации одного МЦ процессор мож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коман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УВв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стека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вектор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память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стек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на УВыв байт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выходных сигналов МП все перечисленные выше разновидности МЦ отличаются только направлением передачи данных: в МП - циклы 1..5 (ПРИЕМ), из МП - циклы 6..8 (ВЫДАЧ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МЦ2"/>
          <p:cNvPicPr/>
          <p:nvPr/>
        </p:nvPicPr>
        <p:blipFill>
          <a:blip r:embed="rId1"/>
          <a:stretch/>
        </p:blipFill>
        <p:spPr>
          <a:xfrm>
            <a:off x="285840" y="428760"/>
            <a:ext cx="7667640" cy="47862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2235600" y="5500800"/>
            <a:ext cx="45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3. Временная диаграмма МЦ "ВЫДАЧ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фицит внешних выводов МП не позволяет выводить во внешний интерфейс достаточный для эффективного функционирования объем управляющей информации. Для выдачи более полной информации о состоянии МП в текущем МЦ используется мультиплексирование шины данных. В начале каждого МЦ на линии шины данных D[7:0] выдается байт дополнительной управляющей информации (т.н. PSW), разряды которого имеют следующее назнач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0 - подтверждение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1 - запись (в ЗУ) или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2 - обращение в сте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3 - подтверждение остано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4 -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5 - M1 (считывание из памяти первого байта команд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6 - ввод (из УВ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7 - чтение (из З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ичие на D[7:0] управляющей информации отмечается специальным выходным сигналом SY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управляющей информации присутствует на шине данных (ШД) один такт, а использоваться может в течение всего МЦ. Поэтому в МПС, использующих информацию PSW, предусматривается специальный, внешний по отношению к МП, регистр-защелка для фиксации PS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й процессор выбирает и исполняет команды из памяти последовательно, адрес очередной команды задается "счетчиком адреса" в блоке управления. Этот принцип исполнения называется последовательной передачей управления. Данные, с которыми работает программа, могут включать переменные - именованные области памяти, в которых сохраняются значения с целью дальнейшего использования в программе. Фон-неймановская архитектура - не единственный вариант построения ЭВМ, есть и другие, которые не соответствуют указанным принципам (например, потоковые машины). Однако подавляющее большинство современных компьютеров основано именно на этих принципах, включая и сложные многопроцессорные комплексы, которые можно рассматривать как объединение фон-неймановских машин. Конечно же, за более чем полувековую историю ЭВМ классическая архитектура прошла длинный путь развития. В общем смысле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цессора понимается его программная модель, то есть программно-видимые свойства.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икро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нимается внутренняя реализация этой программной модели. Для одной и той же архитектуры разными фирмами и в разных поколениях применяются существенно различные микроархитектурные реализации, при этом, естественно, стремятся к максимальному повышению производительности (скорости исполнения программ). Сейчас существует множество архитектур процессоров, которые делятся на две глобальные категории - RISC и CISC. RISC - Reduced (Restricted) Instruction Set Computer - процессоры (компьютеры) с сокращенной системой коман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процессоры обычно имеют набор однородных регистров универсального назначения, причем их число может быть большим. Система команд отличается относительной простотой, коды инструкций имеют четкую структуру, как правило, с фиксированной длиной. В результате аппаратная реализация такой архитектуры позволяет с небольшими затратами декодировать и выполнять эти инструкции за минимальное (в пределе 1) число тактов синхронизации. Определенные преимущества дает и унификация регистров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ISC - Complete Instruction Set Computer - процессоры (компьютеры) с полным набором инструкций, к которым относится и семейство х86. Состав и назначение их регистров существенно неоднородны, широкий набор команд усложняет декодирование инструкций, на что расходуются аппаратные ресурсы. Возрастает число тактов, необходимое для выполнения инструкци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х86 имеют самую сложную в мире систему команд. Хорошо ли это, вопрос спорный, но груз совместимости с программным обеспечением для IBM PC, имеющим уже 20-летнюю историю, не позволяет расставаться с этим "наследием тяжелого прошлого". В процессорах семейства х86, начиная с 486, применяется комбинированная архитектура - CISC-процессор имеет RISC-ядр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способы организации вычислительного процес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один поток данных (Simple Instruction - Simple Data, SISD) - характерно для традиционной фон-неймановской архитектуры (иногда вместо Simple пишут Singl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множественный поток данных (Simple Instruction - Multiple Data, SIMD) - технология MM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один поток данных (Multiple Instruction - Simple Data, MIS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множественный поток данных (Multiple Instruction - Multiple Data, MIM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-РАЗРЯДНЫЙ МИКРОПРОЦЕССОР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080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59984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  Рис. 9.1 представлена внутренняя структура МП i8080, включающего в себя 8-разрядное АЛУ с буферным регистром и схемой десятичной коррекции, блок РОН, регистры указателя стека SP и счетчика команд PC, первичный управляющий автомат УА, буферные схемы шин адреса и данных и схему управления систе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ий интерфейс представлен 8-разрядной двунаправленной шиной данных D[7:0], 16-разрядной шиной адреса A[15:0] и группой линий  управления. Назначение входных и выходных линий МП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[7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вунаправленная шина данных служит для приема и выдачи данных, приема команды, приема вектора прерывания, выдачи дополнительной управляющей информации (слово 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[15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однонаправленная шина адреса служит для выдачи адреса памяти и устройств ввода/выв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1,Ф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гналы тактового генератора частотой 1..2,5 МГ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i8080"/>
          <p:cNvPicPr/>
          <p:nvPr/>
        </p:nvPicPr>
        <p:blipFill>
          <a:blip r:embed="rId1"/>
          <a:stretch/>
        </p:blipFill>
        <p:spPr>
          <a:xfrm>
            <a:off x="428760" y="214200"/>
            <a:ext cx="6643440" cy="58356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3366360" y="6286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унок 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6840" y="357120"/>
            <a:ext cx="74674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брос (начальная установка и запуск программы с адреса 000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ходной сигнал готовности памяти или ВУ к обмену (обеспечивает асинхронный режим обмена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рос внешнего преры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хват шины (требование прямого доступа в память со стороны В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ись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роцессора к памя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чтение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амяти или ВУ к процессор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YN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идентифицирующий наличие на шине данных дополнительной управляющей информации (PSW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отмечающий состояние ожидания или останова М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внешни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LD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прямого доступа в память (подтверждение захват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ОМАНДНЫЙ ЦИКЛ МИКРОПРОЦЕССОРА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П работает в составе МПС, обмениваясь информацией с памятью и ВУ. В основе работы МП лежи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андный цик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ействия по выбору из памяти и выполнению одной команды. В зависимости от типа и формата команды, способов адресации и числа операндов командный цикл может включать в себя различное число обращений к памяти и ВУ и следовательно - иметь различную дли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командный цикл (КЦ) начинается с извлечения из памяти первого байта команды по адресу, хранящемуся в PC, что команды i8080 имеют длину 1, 2 или 3 байта, причем в первом байте содержится информация о длине команды. В случае 2- или 3-байтовой команды реализуются дополнительные обращения к памяти по соседним (большим) адреса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считывания команды начинается ее выполнение, причем в процессе выполнения может потребоваться еще одно или несколько обращений к памяти или ВУ (чтение операнда, запись результата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реализации команды i8080 может потребоваться от 1 до 5 обращений к памяти (ВУ). Хотя обращения к ЗУ/ВУ располагаются в разных частях КЦ, выполняются они по единым правилам, соответствующим интерфейсу МПС и реализованы на общем оборудовании управляющего автомата. Действия МПС по передаче в/из МП одного байта данных/команды называю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шинным цикл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ИХ ИДЕНТИФИКАЦИЯ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представляет собой последовательность машинных циклов (МЦ), причем КЦ i8080 может содержать от 1 до 5 МЦ, которые принято обозначать M1, M2,..M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обязательно включает в себя действия по передаче байта информации. Кроме того, в некоторых МЦ дополнительно реализуются действия по пересылке и/или преобразованию информации внутри МП. Поэтому длительность МЦ может быть различной - за счет различного числа содержащихся в них машинных тактов (T1, T2,..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инный такт (такт) образует пара сигналов тактового генератора Ф1, Ф2, поэтому длительность такта постоянна - период тактового генератора (за исключением такта Tw - см. ниж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просматривается иерархия процедур при работе микропроцессора (не только i8080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мандный цикл - Машинный цикл - Машинный т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i="1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ому такту соответствует определенное состояние управляющего автомата. Любой МЦ i8080 обязательно содержит такты T1, T2, T3, предназначенные для передачи байта по интерфейсу. МЦ, в которых осуществляется передача и/или преобразование информации в МП, содержат дополнительно один или два такта T4, T5. МП i8080 вырабатывает несколько типов МЦ, основными из которых являются циклы ПРИЕМ и ВЫ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08:11Z</dcterms:modified>
  <cp:revision>21</cp:revision>
  <dc:subject/>
  <dc:title>Микропроцессоры и микроконтроллеры </dc:title>
</cp:coreProperties>
</file>