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4C81B-F968-4920-83D5-C35FDE75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CA9FF-2E74-4CAD-84BC-EE7FB910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66370-8C2C-40AB-94D7-33459E3D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9E1F3-460C-40D2-B55F-996386D3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4CE4-94B2-48D0-9D85-9294D7CD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2F9D-B6EE-4C10-A5FF-36F206C3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2BD6-CF15-4453-9855-8E121A7A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ABE8-8CFB-48C3-868A-D496193D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F311-8E9C-42F6-8387-C562B9A9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0ECB-95AA-46B7-A7F3-8D7FE648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AE66-979E-40AF-B055-CC1BBE14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7342C-D36E-419D-9E13-4282A5D1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3380-9A36-4598-97D4-BC24DC47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75E0-78F1-42B5-BCE4-1F683A8F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DC35-5FA1-4662-A11F-B7E556AB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8223-DF96-46E5-B24A-7B2CBE00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2CAE-93FD-4798-9C15-9B06F66E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59E73-437A-4457-B56F-7FBC3BCE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95325-BB33-4324-9D52-DEB1259D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11C72-21C6-4F35-B9B4-A70EC4D0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B9016-6488-40F9-900D-F88242F3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27FF5-53EF-4F98-B31D-BE03CD01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2C1FD-07DC-442E-BD0C-054FFF53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694FC-EF40-447F-BC00-962E866D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CB81-1CC5-43A1-91BD-D210793ED64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F499-F2DD-4EF8-ABED-B4393FDCD0B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857320" y="4500360"/>
            <a:ext cx="601956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ы ввода/вывод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 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порт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3628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6 IC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захвата таймера/счетчика 1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5 Т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актовый вход таймера/счетчика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4 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актовый вход таймера/счетчика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3 INT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внешних прерываний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2 IN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внешних прерываний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1 TX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ыход передатчика U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324000" y="765000"/>
            <a:ext cx="82296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3964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разрядный — двунаправленный для ввода/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-разрядный двунаправленный со встроенными подтягивающими регист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выводов порта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81080"/>
          <a:ext cx="8435880" cy="4187880"/>
        </p:xfrm>
        <a:graphic>
          <a:graphicData uri="http://schemas.openxmlformats.org/drawingml/2006/table">
            <a:tbl>
              <a:tblPr/>
              <a:tblGrid>
                <a:gridCol w="1738440"/>
                <a:gridCol w="6697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в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льтернативн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IN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положительный вход аналогового компарато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I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(отрицательный вход аналогового компарато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С1 (выход совпадения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OS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ход данных дл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IS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ыход данных дл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CK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тактовых импульсо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158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В как порт ввода/вывода обще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16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8 битов порта В при использовании для ввода/вывода одинак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лияние DDBn на выводы порта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2133720"/>
          <a:ext cx="8229600" cy="3744720"/>
        </p:xfrm>
        <a:graphic>
          <a:graphicData uri="http://schemas.openxmlformats.org/drawingml/2006/table">
            <a:tbl>
              <a:tblPr/>
              <a:tblGrid>
                <a:gridCol w="861840"/>
                <a:gridCol w="957240"/>
                <a:gridCol w="1202040"/>
                <a:gridCol w="2306520"/>
                <a:gridCol w="2901960"/>
              </a:tblGrid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DB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ORTB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одтягивающий резис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Коммента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ретье состоя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Hi-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п источник тока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если соединен с зем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 установлен в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 установлен в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7 SC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ход тактовой частоты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6 MIS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ыход данных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5 MOS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ход данных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3 ОС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ыход совпа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POR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-разрядный двунаправленный со встроенными подтягивающими регистрами. Выходные буферы порта могут поглощать ток до 20 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воды используются как входы и на них подан низкий уровень, то при подключении подтягивающих резисторов они являются источниками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порта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539640" y="297180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468360" y="5373720"/>
            <a:ext cx="828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2133720"/>
          <a:ext cx="8229600" cy="3886200"/>
        </p:xfrm>
        <a:graphic>
          <a:graphicData uri="http://schemas.openxmlformats.org/drawingml/2006/table">
            <a:tbl>
              <a:tblPr/>
              <a:tblGrid>
                <a:gridCol w="2444760"/>
                <a:gridCol w="578484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льтернативная фу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XD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данных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XD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ыход данных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TO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внешнего прерывания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T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внешнего прерывания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О (внешний вход таймера/счетчика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1 (внешний вход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CP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ход захвата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порт ввода/вывода обще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 DDDn регистра DDRD выбирает направление передачи дан­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ит установлен, вывод сконфигурирован как вы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ит сброшен — вывод сконфигурирован как в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PORTDn установлен и вывод сконфигурирован как вход, включается КМОП подтягивающий резист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тключения резистора PORTDn должен быть сброшен или вывод должен быть сконфигурирован как вы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35Z</dcterms:modified>
  <cp:revision>10</cp:revision>
  <dc:subject/>
  <dc:title>Микропроцессорные системы</dc:title>
</cp:coreProperties>
</file>