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36579-C6DB-46EF-B4E2-15190197B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2B437-2687-4BB3-933D-4602A04D2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834B9-4A6F-469D-9B53-2D4676E50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34457-A6AE-4381-977E-CCADB5469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50420-8EB0-4D39-92E1-8A70659AB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D0C4C-7B5C-4277-987D-D8AA825E9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DC326-D40E-41C6-A2A9-27E7C1D1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4ACE7-9B3F-49CF-869C-C06F37362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9AF22-417F-418D-8DD5-365B205EC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ED867-01DB-4679-B438-1CB3E6DB7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2F94F-7B44-4C3C-A342-C1CE763C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DB58A-F613-4058-A2B3-B576A89A5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01E4F-3FA9-4C20-8D77-8DE8FC4E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0C73E-264F-427C-B8EF-8CDCBB77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CCD59-B016-4615-BD10-C7FFD681A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CCB20-ADF7-4F28-985D-AA165B575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AB2FD-7850-416F-A976-9448092AD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465CC-C642-4E37-9C90-1ACA59F6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280D9-127B-4339-84B0-35E69FB7B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373D3-7CFF-453C-8922-C93B673BA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1294F-452E-48A2-9221-5F2D87119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2142B-8301-4119-87E6-3E944B6B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0005E-8CB3-43E3-9BD2-F01BD22C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133C1-4955-4F81-8582-AEDDDBCF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36B62-0B5F-4DC2-BD53-6598DEDD675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C3B16-4DB7-4932-B2A2-08852AB1CC3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икропроцессорные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214280" y="4428720"/>
            <a:ext cx="71726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ограммы и инструмен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то описание предполагает, что транслятор wavrasm правильно установлен на компьютер, на котором происходит рабо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152280" y="6477120"/>
            <a:ext cx="243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©</a:t>
            </a:r>
            <a:r>
              <a:rPr b="0" lang="ru-RU" sz="800" spc="-1" strike="noStrike">
                <a:solidFill>
                  <a:srgbClr val="3333cc"/>
                </a:solidFill>
                <a:latin typeface="Times New Roman"/>
              </a:rPr>
              <a:t> Е.А. Сторожок, доц. каф. ИСКТ ВГУЭ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D:\vvsu.gif"/>
          <p:cNvPicPr/>
          <p:nvPr/>
        </p:nvPicPr>
        <p:blipFill>
          <a:blip r:embed="rId1"/>
          <a:stretch/>
        </p:blipFill>
        <p:spPr>
          <a:xfrm>
            <a:off x="228600" y="228600"/>
            <a:ext cx="838080" cy="3729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21844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ер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4000" y="1961640"/>
            <a:ext cx="3384360" cy="41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Логическое 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битовое 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Унарный мин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Умно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4572000" y="1413000"/>
            <a:ext cx="338472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е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ло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ычит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двиг вле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двиг вправ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ер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98864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ньше или рав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е или рав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в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рав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4643280" y="1773360"/>
            <a:ext cx="4038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битовое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битовое исключающее 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битовое 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огическое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огическое 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21844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мпилятор языка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С CodeVision AV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4920" y="2204640"/>
            <a:ext cx="8280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CodeVision представляет собой кросс-компилятор языка С, графическую оболочку и автоматический генератор программ, ориентированные на работу с семейством микроконтроллеров AVR фирмы Atm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а представляет собой 32-разрядное приложение для работы в операционных системах Windows 95, 98, NT4.0 и 2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16000" y="1699920"/>
            <a:ext cx="73454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ссемблер, формат программы на ассембле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анды микроконтролл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рективы транслятора ассембл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н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пилятор язык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 CodeVision AV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30088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ссембл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микроконтроллеров семейства AVR имеется свободно распространяемый транслятор ассемблера — wavrasm. Также одновременно с транслятором ассемблера устанавливается программа для отладки программ на языке ассемблера для микроконтроллеров семейства AV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ако она заметно уступает свободно распространяемому фирмой Atmel отладчику AVR Studio, поэтому ее мы рассматривать не буд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35344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ормат программы на ассембле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6560" y="1773000"/>
            <a:ext cx="8137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[метка:] директива [аргументы директивы] [комментарий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[метка:] мнемоника команды [аргументы команды] [комментарий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ментар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устая ст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94920" y="1557360"/>
            <a:ext cx="8496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рифметические и логическ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анды условных и безусловных переход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анды передачи данны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анды для работы с бит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манды микроконтролл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ирективы транслятора ассембл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BYTE — резервирует 1 байт для использования в качестве переменно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CSEG — сегмент програм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B — определяет байт-констант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EF — определяет символическое имя для регистр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EVICE — задает тип целевого микроконтроллер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SEG — сегмент данны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W — определяет слово-констант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ENDMACRO — конец определения макрос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EQU — сопоставляет символьному имени арифметическое выраж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8"/>
          <p:cNvSpPr/>
          <p:nvPr/>
        </p:nvSpPr>
        <p:spPr>
          <a:xfrm>
            <a:off x="539640" y="2971800"/>
            <a:ext cx="4038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468360" y="5373720"/>
            <a:ext cx="8281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ирективы транслятора ассембл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ESEG — сегмент EEPRO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EXIT — выйти из файла (конец текста программы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INCLUDE — загрузить исходный текст из другого файл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LIST — включить генерацию листинг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LISTMAC — включить печать содержимого макросов в листинг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MACRO — начать определение макрос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NOLIST — выключить генерацию листинг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ORG — установить располож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SET — сопоставить символу выраж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ра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362800" cy="40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ссемблер позволяет использовать в тексте программы выраж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и могут содержать операнды, операции и функ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выражения имеют разрядность 32 би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еран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352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еременные, определенные с помощью директивы SE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нстанты, определенные с помощью директивы EQ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целые констан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есятичные (по умолчанию): 10, 255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шестнадцатеричные (два вида записи): ОхОа, $0а, Oxff, $ff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воичные: 000000 1010, 00 1111111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ды символов ASCII: 'A', 'a'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троки ASCII (без нуля в конце строки): «String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 — текущее значение счетчика команд в памяти програм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02:43:19Z</dcterms:created>
  <dc:creator>Dexter</dc:creator>
  <dc:description/>
  <dc:language>en-US</dc:language>
  <cp:lastModifiedBy>Сивченко</cp:lastModifiedBy>
  <dcterms:modified xsi:type="dcterms:W3CDTF">2009-06-16T22:56:20Z</dcterms:modified>
  <cp:revision>10</cp:revision>
  <dc:subject/>
  <dc:title>Микропроцессорные системы</dc:title>
</cp:coreProperties>
</file>