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BEE6-D44B-4F27-88FE-C25E938E2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AE3F-CABF-41BD-827F-458D8F4EE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D901-2F5E-44AC-9F1E-B07792668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1D0D-5603-4750-A0EF-5DBB2BD81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0D0C2-6124-4041-86F0-5616F4891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6F3DF-8F63-4F50-AB11-BF7E71A9F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3D035-02D3-47FB-97DF-702343B85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88BA8-EB5D-4CD4-86D0-53ED5E4E0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AF48E-A875-4B83-A94B-F3BA73A6B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D4A92-4866-444A-9040-AD6BAADEF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DA054-D8DB-45FE-A707-384BCE32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5AAF-AEA8-4004-BA6A-6A1007BC6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D6666-AEA8-4C6A-97E6-D3406B93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A5B24-666E-4E68-9AB8-4008F438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35B4D-55AF-4157-A9D7-DEDA1D774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46FA0-3CBF-43C8-892F-5358AB87A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D9905-134E-4394-A3AC-263B1A8D8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843F25-5EF4-4806-867A-529D2DF4F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08D3E5-0DAF-4B82-9F3D-243E1A0A7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106147-723C-4A7C-8E4A-F57FC63F5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2D9772-36FE-450C-B422-A58FD4A7C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E1F261-7F38-44E4-BCA9-D57526936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9E13-0D64-40FD-88EA-0D4B2F7DB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D3BF9E-BF2A-407E-AF49-466DCC953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35FEBF-F206-40EE-A063-117EED54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54E604-A8D6-42AA-A219-2972EE60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12F3F0-09D9-48FD-AC95-8F66928E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5B7CD1-0B23-43FF-B648-A4A492423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D206F8-2B59-492C-9636-F9450EEE5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417676-C90F-438A-8527-AB84DB53C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E6793-376E-4741-8E0F-837B4BD99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394B5-42DC-4058-A4F3-306D83830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9CBEF-2264-4BC5-BC5F-E90ABA944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70A8-F7E1-4330-928D-79E94ACC4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64FB4-1023-44AB-8A20-F409F844A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E3F88-65C6-49A4-B1F4-0601ADA6E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EEBA6-CAC6-4D17-AF9A-63F80BB87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378A5-1693-4EA7-BC83-E802A025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AB7B4-5D65-4814-A7D2-ABB0EB2F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A920B-2D12-4B18-9DA5-5A885D1C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C1E35-7690-4249-B0DD-15FAF9407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155F8-3AF7-4DEE-A1F4-46D68E17D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8D797-5C51-454E-B8AC-08357278C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162456-45CA-4C46-9FED-0E8D5C2C1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34F3-2EF0-4978-B97D-6DC578FBA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A190E5-979A-4902-8C58-46DB57188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BCDD7E-A7BD-4A18-8B89-F436C9E33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8D383D-A6EA-4795-9B69-53A33388A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4B043D-06C0-4931-916A-89E3CF55A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4C9ABA-F077-4BF5-99B5-899A13E8B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AD9AC8-BDEE-47B2-BFB1-87F55002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29A7E6-D99D-40D3-8DDD-74D80BED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A46938-138B-46E0-986A-2692BBBD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25139B-90E3-48AD-9214-5D2E32DA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43C6E7-D5E3-4897-9340-7E1A6D60D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559C-DA36-4E08-8EA6-484389B5F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0B3CB7-0A9D-4444-A0CF-F463A2805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0BFFAD-17B5-4154-837C-FF8CF9025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EE5745-5DAD-4D4B-818A-DF214ACBE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69EE09-0D0A-4CE3-B584-13909265E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1D2A86-615E-4613-A01C-25B256586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A450CC-A429-4F1E-9E13-DD6CB02A5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61A1F7-F13D-4C2C-B167-A33CF8B3E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88F9E2-17D6-4F06-AE9E-D1D45CEB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B7C0EC-73E3-49EC-8950-1CD9559A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232031-2FE6-47E8-8619-A53404AE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81CA-4D30-4148-9FCF-175986EA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999056-F424-40C0-AA50-41D142A66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12EAC0-FE99-4866-A917-AF9B713AA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60C00E-1F3A-415E-BACA-8F488E772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2D92B0-CEB3-4BE6-A3B5-9FD4B313C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34EF99-BF02-4597-AFD3-DEA1AB6F8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51BE27-FF01-4B94-A8A0-A69E3E0A5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C3136C-F533-443D-B3F8-58FCD44BE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43BCE0-4F62-49C4-973B-D3B6A872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ECC040-DF9C-401C-9A37-E4D865AB9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A426C0-8030-41A8-BCD2-AC5F4D40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81A6-F104-4DE0-B426-E48D5ABA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3850F4-E972-4EB1-853D-E5DE8716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664F47-5FA0-4A76-AA47-AF416836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0D3114-7F43-4B12-A488-AC32F5959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35E1A7-44A2-489D-A9CA-0AC9A534D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52C416-6B04-480F-948F-F43DAA317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15F0-0647-40C7-8C74-BC92E173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F39C-13D4-4B1E-A0A7-4E6F1B3B575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bbd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d5e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d5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ebf5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bbd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ebf5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bbd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bbd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95EBE-F02E-44CD-9626-94534C6CB59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44CED-CE28-412B-9573-E7258E4F303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bbd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d5e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d5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ebf5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bbd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ebf5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bbd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bbd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1E02A-90C8-4B59-AD22-C9BC9E20614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F9DCE-862B-4E79-81A3-AE3F44B12E9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2450A-0ECC-413F-B7A3-0C4C5DCDF48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C380D-5577-4D3F-B8F8-AF930765399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ОДНОКРИСТАЛЬНЫЕ МИКРОЭВМ ТИПА МК51</a:t>
            </a:r>
            <a:br>
              <a:rPr sz="2200"/>
            </a:b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23640" y="1989000"/>
            <a:ext cx="746748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К51 это серия с ядром 80С51В. В странах СНГ МК51 выпускаются на базе  n-МОП технологии (серия 1816) и КМОП технологии (серия 1830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4" descr="9"/>
          <p:cNvPicPr/>
          <p:nvPr/>
        </p:nvPicPr>
        <p:blipFill>
          <a:blip r:embed="rId1"/>
          <a:stretch/>
        </p:blipFill>
        <p:spPr>
          <a:xfrm>
            <a:off x="1571760" y="2786040"/>
            <a:ext cx="5549760" cy="3286080"/>
          </a:xfrm>
          <a:prstGeom prst="rect">
            <a:avLst/>
          </a:prstGeom>
          <a:ln w="0">
            <a:noFill/>
          </a:ln>
        </p:spPr>
      </p:pic>
      <p:sp>
        <p:nvSpPr>
          <p:cNvPr id="354" name="TextBox 4"/>
          <p:cNvSpPr/>
          <p:nvPr/>
        </p:nvSpPr>
        <p:spPr>
          <a:xfrm>
            <a:off x="3005640" y="6143760"/>
            <a:ext cx="268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9.10. Структура МК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Заголовок 3"/>
          <p:cNvSpPr/>
          <p:nvPr/>
        </p:nvSpPr>
        <p:spPr>
          <a:xfrm>
            <a:off x="457200" y="274680"/>
            <a:ext cx="7467480" cy="922320"/>
          </a:xfrm>
          <a:prstGeom prst="rect">
            <a:avLst/>
          </a:prstGeom>
          <a:solidFill>
            <a:srgbClr val="85dfd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КРОПРОЦЕССОРЫ И МИКРОКОНТРОЛЛЕРЫ</a:t>
            </a:r>
            <a:br>
              <a:rPr sz="24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аст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3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6" descr="D:\vvsu.gif"/>
          <p:cNvPicPr/>
          <p:nvPr/>
        </p:nvPicPr>
        <p:blipFill>
          <a:blip r:embed="rId2"/>
          <a:stretch/>
        </p:blipFill>
        <p:spPr>
          <a:xfrm>
            <a:off x="0" y="0"/>
            <a:ext cx="838080" cy="372960"/>
          </a:xfrm>
          <a:prstGeom prst="rect">
            <a:avLst/>
          </a:prstGeom>
          <a:ln w="0">
            <a:noFill/>
          </a:ln>
        </p:spPr>
      </p:pic>
      <p:sp>
        <p:nvSpPr>
          <p:cNvPr id="357" name="Text Box 7"/>
          <p:cNvSpPr/>
          <p:nvPr/>
        </p:nvSpPr>
        <p:spPr>
          <a:xfrm>
            <a:off x="152280" y="6477120"/>
            <a:ext cx="243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©</a:t>
            </a:r>
            <a:r>
              <a:rPr b="0" lang="ru-RU" sz="800" spc="-1" strike="noStrike">
                <a:solidFill>
                  <a:srgbClr val="3333cc"/>
                </a:solidFill>
                <a:latin typeface="Times New Roman"/>
              </a:rPr>
              <a:t> В.В. Сивченко, ст. преп. каф. ИСКТ ВГУЭ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ВНЕШНИЕ УСТРОЙСТВА МК51</a:t>
            </a:r>
            <a:br>
              <a:rPr sz="2200"/>
            </a:b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68000" y="1413000"/>
            <a:ext cx="7467480" cy="49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 "внешним" устройствам МК51 отнесе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 параллельных двунаправленных порта ввода/вывода P0..P3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уфер SBUF и регистр управления SCON последовательного  канал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ймеры/счетчики T0,  T1,  их регистр управления TCON и регистр режимов TMOD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гистры управления подсистемой прерываний: регистр приоритетов IP и регистр маски IE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гистр управления машиной PC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состав МК51 входит дуплексный последовательный канал связи с буферизацией,  который может быть запрограммирован для работы в одном из четырех режимо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жим "0" - синхронный ввод/вывод с частотой OSC/12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жим "1" - асинхронный с 8-бит. кадром, частота k*f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жим "2" - асинхронный с 9-бит. кадром, частота k*OSC/32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жим "3" - асинхронный с 9-бит. кадром, частота k*f; где k {1, 1/2}, f - частота переполнения T1 (FOV), деленная на 16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4617b"/>
                </a:solidFill>
                <a:latin typeface="Arial"/>
              </a:rPr>
              <a:t>ПОДСИСТЕМА ПРЕРЫВАНИЙ МК51 </a:t>
            </a:r>
            <a:br>
              <a:rPr sz="2400"/>
            </a:br>
            <a:endParaRPr b="0" lang="en-US" sz="2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68000" y="1341000"/>
            <a:ext cx="74674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рхитектура МК51 поддерживает двухуровневую радиальную приоритетную подсистему прерываний (ПП) с шестью  источниками  запросов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приема внешних прерываний служат входы INT0\,  INT1\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точниками внутренних запросов могут служить сигналы переполнения таймеров T0,  T1 и сигнал окончания работы последовательного кан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4617b"/>
                </a:solidFill>
                <a:latin typeface="Arial"/>
              </a:rPr>
              <a:t>СИСТЕМА КОМАНД МК51 </a:t>
            </a:r>
            <a:br>
              <a:rPr sz="2400"/>
            </a:br>
            <a:endParaRPr b="0" lang="en-US" sz="2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68000" y="1341000"/>
            <a:ext cx="74674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стема команд включает 111 команд - однобайтовых (49), двухбайтовых  (45)  и трехбайтовых (17).  Все команды выполняются за 1 или 2 МЦ (16 тактов CLK в каждом), за исключением команд умножения и деления MUL и DIV,  для выполнения которых требуется 4 МЦ. Большинство двухбайтовых команд - одноцикловые,  а все трехбайтовые -двухцикловые. За  один  МЦ  в МК51 можно вводить до двух байтов программного ко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К51 работает с данными четырех основных типов - битами,  полубайтами (4 бита),  байтами и адресами (16 бит).  Наиболее  часто используемой единицей данных является байт: внутренние магистрали данных имеют 8-битный размер.  Программная память, внутренняя память и внешняя память данных запоминают и возвращают данные в виде байтов. Кроме этого, имеется много команд, которые работают с одиночными битами.  Бит может быть установлен, очищен, проинвертирован,  логически скомбинирован с флагом переноса и проверен для выполнения последующих переходов.  Полубайт (двоично-десятичная упакованная цифра) обычно мало применяется в МК51,  но  двоично-десятичная арифметика может выполняться без преобразования операндов в двоичное представл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6840" y="285840"/>
            <a:ext cx="74674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анды, которые  используют  16-битные адреса,  имеют дело с указателем данных (16-битный регистр DPTR ) и с программным  счетчиком (переходы и вызовы подпрограммы).  Использование команд сложения с битом переноса (ADDC) и вычитание с заемом  (SUBB)  делает программирование 16-битной арифметики относительно простым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граммно-доступными объектами в составе ОМЭВМ являются: аппаратные регистры, четыре банка по восемь регистров R0..R7,R0..R7 и 128 ячеек внутренней памяти данных - с адресами 00H..7FH.  Кроме того,  по  специальным  командам  MOVX  и MOVC может быть доступна внешняя память данных и программ. В МК51 возможна битовая адресация аппаратных регистров и части внутренней памяти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программировании следует иметь в виду, что в качестве регистров R0..R7 банка 0 используются ячейки внутренней памяти  данных с адресами 00H..07H,  банка 1 - 08Н..0FН, банка 2 - 10Н..17Н, банка 3 - 18Н..1F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системе команд МК51 используются  регистровая, прямая, косвенная и непосредственная адресац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регистровой  адресации  операнды  находятся  в регистрах, имена которых определяются кодом операции команды.  Эта  адресация используется  для  обращения  к регистрам выбранного банка рабочих регистров,  к регистрам А,  В,  DPTR и к флагу переноса 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6840" y="285840"/>
            <a:ext cx="74674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прямому  адресу  можно обращаться к аппаратным регистрам и внутренней памяти.  Используется также прямая  битовая  адресация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свенно можно  адресоваться  к  ячейкам внутренней и внешней памяти данных через регистры R0,R1 текущего ба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 любой ячейке внешней памяти (данных и программ) можно обратиться с использованием регистра DPT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типу операций можно выделить следующие классы команд:  пересылки;  арифметические и логические; передачи управления; специальные коман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94920" y="274320"/>
            <a:ext cx="75294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4617b"/>
                </a:solidFill>
                <a:latin typeface="Arial"/>
              </a:rPr>
              <a:t>МИКРОКОНТРОЛЛЕР PIC ФИРМЫ PARALLAX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39640" y="836280"/>
            <a:ext cx="74678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то особо малый микроконтроллер. Простейший микроконтроллер имеет 8 выводов. Микроконтроллер 8-ми разрядный с Гарвардской архитектурой, что повышает производительность. Одновременно считывается команда и происходит обращение за данными. В некоторых микроконтроллерах есть операции умножения, деления, операции с плавающей точкой. Система команд компактная – не более 51 команды (LOW, LITLE и HIGH – 51 команда). Есть банки регистров как МК5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ть ПЗУ разных типов и перифирийные устройства (АЦП, ЦАП). В составе перифирийных устройств имеется несколько выводов последовательного интерфейса – обычный RS232, интерфейс I2C фирмы Philips, SPI.  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троллеры PIC могут быть использованы как ?умные? перифирийные устройства, т.е. SLAVE – контроллер может быть подсоединен к управляющему контроллеру PIC как обычное перифирийное устройство через порт (или линю данных). Очень развиты перифирийные средства коммуникации (I2C, SPI, RS232, порты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основе PIC может быть организованна сеть микроконтроллеров (через шину I2C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SPI и I2C общая особенность: для передачи используется два провод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рфейс SPI работает со стробиованием по фронту сигнала (клока), т.е. по одной линии передаются данные, по другой – клок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I2C стробирование осуществляется по уровню. В обоих интерфейсах Master обеспечивает выдачу сигналов тактиро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456840" y="285840"/>
            <a:ext cx="746748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МК51 используются следующие сигнал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E  - строб адрес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PSEN\  - строб чтения внешней памяти програм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RD\,WR\- стробы чтения и записи внешней памяти данны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A\  - разрешение обращения во внутреннюю память програм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T0,T1 - входы счетчиков внешних событ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INT0,INT1- запросы внешних радиальных прерыва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RxD - вход данных последовательного канал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TxD - выход данных последовательного кана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состав МК51 входят параллельные 8-разрядные квазидвунаправленные порты P0..P3. Порт Р3 может быть использован для ввода и вывода управляющих сигнал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ким  образом,  в циклах обращения к внешним ресурсам на линиях порта P3 работают управляющие сигналы, а при отсутствии необходимости  управления внешними  ресурсами эти же линии могут быть использованы как линии пор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АРХИТЕКТУРНЫЕ ОСОБЕННОСТИ МК51</a:t>
            </a:r>
            <a:br>
              <a:rPr sz="2200"/>
            </a:b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68000" y="1413000"/>
            <a:ext cx="7467480" cy="49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К51  позволяет управлять пятью (частично пересекающимися) адресными пространствами памяти,  четыре из которых являются областями данных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RSEG   - пространство регистров (4*8 байт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DSEG   - пространство внутренней памяти данных (256 байт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BSEG   - битовое пространство данных (256 бит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XSEG   - пространство внешней памяти данных (до 64К байт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CSEG   - пространство программного кода (до 64К байт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странства RSEG и BSEG частично пересекаются, физически совмещаются с DSEG и образуют единую внутреннюю среду для  хранения  данных.  Это позволяет одни и те же данные рассматривать с разных позиций (ячейка памяти,  регистр,  битовое поле, порт ввода/вывода и т.п.)  и организовывать наиболее удобный для данного случая доступ к ни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арактерно, что  все порты ввода/вывода,  системные регистры, таймеры так же отображены на пространство DSE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456840" y="285840"/>
            <a:ext cx="746748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странство регистров  представлено четырьмя банками регистров по 8 в каждом,  а так же 16-разрядными программным счетчиком PC и регистром косвенного адреса DPTR,  8-разрядными аккумуляторами A и B, указателем стека SP и регистром PS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се регистры, кроме PC, отображаются на DSE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PSW[7] - CY - перенос из старшего (7) разряда АЛБ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PSW[6] - AC - перенос из третьего разряда АЛБ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PSW[5] - F0 - флаг пользовате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оме того, формат PSW включает двухбитовое поле PSW[4:3] - RS номера  банка  регистров  и  флаги  арифметического  переполнения OV (PSW[2]) и четности P (PSW[0]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лаги CY,  AC  и  OV  отражают  признаки результата последней арифметической операции,  а P - четность содержимого  аккумулятора A. Расширение  аккумулятора B используется в командах умножения и деления, а в остальных операциях - как обычная ячейка памяти. Программный счетчик  адресует  пространство  памяти  программ CSEG объемом до 64K байт, причем переход из области внутренней памяти программ к внешней осуществляется автоматичес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456840" y="285840"/>
            <a:ext cx="746748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казатель данных DPTR используется для обращения к XSEG и при пересылке  констант из CSEG в A.  Кроме того,  содержимое DPTR используется а  качестве  смещения  в  команде  переход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казатель стека SP образует системный стек  глубиной  до  256 байт. SP хранит адрес последнего занесенного байта и растет при записи в сторону больших адрес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гистры R0,  R1 каждого банка используются в качестве указателей данных. При сбросе машины в A,  B,  PC и DPTR загружаюся 0h, а в SP - 07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ОРГАНИЗАЦИЯ ВНУТРЕННЕЙ ПАМЯТИ ДАННЫХ</a:t>
            </a:r>
            <a:br>
              <a:rPr sz="2200"/>
            </a:b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539640" y="1412640"/>
            <a:ext cx="746784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странство DSEG включает  в себя 256 ячеек памяти,  часть из которых является одновременно элементами других пространств.  Так,  первые  32 байта ОЗУ занимают 4 банка.  Служебные регистры,  порты ввода/вывода, таймеры, аккумуляторы и др. так же совмещены с ячейками памяти и полями битового сегмента.  Это дает возможность обращения к одному физическому объекту  разными  способами.  Так,  к  ячейке DSEG[E0]  можно  обратиться по прямому и косвенному адресу,  обратиться как к аккумулятору A и как к полю BSEG[E0..E7]  (к  каждому биту в отдельност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2" descr="9"/>
          <p:cNvPicPr/>
          <p:nvPr/>
        </p:nvPicPr>
        <p:blipFill>
          <a:blip r:embed="rId1"/>
          <a:stretch/>
        </p:blipFill>
        <p:spPr>
          <a:xfrm>
            <a:off x="684360" y="3860640"/>
            <a:ext cx="4330440" cy="2389320"/>
          </a:xfrm>
          <a:prstGeom prst="rect">
            <a:avLst/>
          </a:prstGeom>
          <a:ln w="0">
            <a:noFill/>
          </a:ln>
        </p:spPr>
      </p:pic>
      <p:sp>
        <p:nvSpPr>
          <p:cNvPr id="366" name="TextBox 6"/>
          <p:cNvSpPr/>
          <p:nvPr/>
        </p:nvSpPr>
        <p:spPr>
          <a:xfrm>
            <a:off x="517680" y="6357960"/>
            <a:ext cx="573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9.11. Пространство внутренней памяти данных DSE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456840" y="285840"/>
            <a:ext cx="746748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мять программ адресуется PC[15:0] и может составлять до 64К байт,  причем младшие 4 К могут располагаться  непосредственно на кристалле, а остальная память внешнее ЗУ. С точки зрения программиста внешняя и внутренняя  память  программ представляют единое адресное пространств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меются «особые точки»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SE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RESET   0000h - стартовый адрес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XTI0   0003h - внешнее прерывание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TIMER0  000Bh - прерывание от таймера/счетчика T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XTI1   0013h - внешнее прерывание 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TIMER1  001Bh - прерывание от таймера/счетчика T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SINT      0023h - прерывание последовательного порт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МАШИННЫЕ ЦИКЛЫ И СИНХРОНИЗАЦИЯ МИКРОЭВМ</a:t>
            </a:r>
            <a:br>
              <a:rPr sz="2200"/>
            </a:b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68000" y="1483920"/>
            <a:ext cx="74674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итание МК51 осуществляется от одного источника +5В. Кварцевый резонатор 3,5..12 МГц подключается к выводам Х1, Х2; возможно подключение внешнего тактового генератора через Х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OSC/2 - основная внутренняя тактовая частота CLK.  Первая половина периода CLK фаза P1,  вторая - P2.  Каждый машинный  цикл состоит из шести периодов CLK: состояний S1, S2, .. S6 или двенадцати периодов OSC,  называемых фазами S1P1,  S1P2,  S2P1,  .. S6P, S6P2.  Каждый машинный цикл сопровождается генерацией двух стробов ALE длительностью в один период  CLK  -  S1P2..S2P1,  S4P2..  S5P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андный цикл (КЦ) содержит один или несколько машинных циклов  (МЦ)  и отсчитывается от S1P1.  По фазе S1P2 в IR фиксируется код операции, второй байт двухбайтовой команды читается в S4P2 того же МЦ,  третий байт трехбайтовой - в S1P2 следующего МЦ.  Таким образом,  для ввода каждого байта команды требуется один полуцик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  время  всех оставшихся полуциклов в фазах S1P2 и S4P2 читается код операции следующей размещенной в памяти команды,  однако он не помещается в IR и не инкрементируется PC. Текущий КЦ всегда завершается в S6P2. Вслед за этим начинается S1, в котором в IR вводится новый бай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56840" y="285840"/>
            <a:ext cx="74674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ращение к внешней памяти данных XSEG по команде MOVX требует  второго МЦ,  в котором не вырабатывается первый строб ALE.  На рис. 3.7 приведена временная диаграмма обращения к XSEG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приведение МК51 в исходное состояние необходимо  подать на  вход  RST  импульс H-уровня длительностью не менее 24 периодов OSC (два МЦ) при условии что генератор запущен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02:31:08Z</dcterms:created>
  <dc:creator>Evgeniy</dc:creator>
  <dc:description/>
  <dc:language>en-US</dc:language>
  <cp:lastModifiedBy>Сивченко</cp:lastModifiedBy>
  <dcterms:modified xsi:type="dcterms:W3CDTF">2009-06-16T23:10:49Z</dcterms:modified>
  <cp:revision>55</cp:revision>
  <dc:subject/>
  <dc:title>Микропроцессоры и микроконтроллеры </dc:title>
</cp:coreProperties>
</file>