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8970-6779-4982-A943-423647E9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7A2BE-92F1-4457-8768-DFADDBEE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552C-8F49-42C6-AC16-1D9AF6A5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EA47B-52C4-45E1-971E-A5F0C08E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5D74-F7D1-42A9-A681-78ECC06F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C423-6BE6-4537-B921-B28ACE58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6416-28EF-40BD-B5D5-AD5E4CE5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0FCA-3CF8-48E9-AAF7-242043B4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144E-5C5E-4A4E-82E8-6D81DB14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01B2-50B7-4220-8214-82338DB9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6ADD-D904-4EE2-B038-F61451BE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6DDD-483B-4FAB-9A61-15054C91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1398-0D6F-44E4-88DB-E33DB803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470F-7230-416F-8C2C-9C544890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691F-42FC-40DD-A92C-CB28F121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7AC4-FF33-4172-8C9B-19EEF15F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A398-3651-427D-8193-53DCB778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B9E9-B0F3-453A-A964-0B2CED02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7A10-9EB4-4FF6-B7EB-2E52132B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ED21-A510-4302-8F48-2E6E64D1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5992-DC52-4649-BC8A-DA007A6A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A53F9-7BFC-4179-9C28-A247E6AF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0B8B-57B0-472D-B5AC-966B8557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3175-A26B-424F-9562-9CECE404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003D-83F8-4010-9ED8-BA7A6736EE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B263-5A12-4759-B1CC-C2C855AAD9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4797360"/>
            <a:ext cx="7677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Цифровые процессоры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бработки сигналов фирм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правляет конвейерной обработкой команд, аппаратной организацией цик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бращением к подпрограммам и обслуживанием прерыв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ератор адрес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декодирования команд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прерывани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мещаю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начального адреса цикл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четчик цикло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состояни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режима обработк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M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ный сте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указателя сте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P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ный сте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азового семейства процессо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ъемом 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ивает до 7 цикл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15 прерываний, или 15 вложенных под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A/IR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 программного прерыва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ет четыре выв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A/IRQ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установки режимов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приема маскируемых запросов на прерывание (управляющих сигналов)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ется для установки режима обработки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риема немаскируемых запросов на прерывание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рмируют конфигураци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, Y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а также определяют процедуру запуска процессора после его выхода из состояния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тся для установки процессора в начальное состояние, называемое состоянием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нератор тактовых импульсов(ГТИ) с фазовой автоподстройкой частоты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автоподстройкой частоты (ФАПЧ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ляет формировать тактовые импульсы высокой частоты внутри процессора при низкочастотном внешнем задающем генераторе. Границы диапазона тактовых частот регулируются от минимальной (обычно 10МГц) до максимальной, которая зависит от возможностей внешнего генератора и коэффициента умножения, устанавливаемого программно. В состоянии останова процессора генераторное оборудование остается активным, хотя ГТИ запирается, поэтому процессор переходит на минимально возможное потребление 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52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ют три пор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ющий разносторонний интерфейс с внешней памятью и внешней периферией как быстродействующей, так и низкоскоростной. Порт содержит внешнюю адресную 16-разрядную шину, внешнюю 24-разрядную шину данных и шину управления пор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управления обеспечивает управление чтением/записью по шине данных, выбор адресного пространства памяти и управление магистральной шиной при организации  многопроцессорной системы; обмен данными осуществляется в параллельном форм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фей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оследовательного обмена данны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носятся к внутрикристальной периферии; способы их использования определяются специальными регистрами данных и состояния, размещенными во внутрикристальн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ет использоваться либо как порт ввода/вывода общего назначения, либо ка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нтерфейс. Второй вариант применяется в том случае, когда процессор входит в состав некоторой системы ЦОС и есть необходимость взаимодействия с ведущим процессоро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ом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мен данными осуществляется по 8-разрядной шине в последовательно-параллельном формате: 24-разрядные данные делятся на три байта, которые передаются в параллельном формате последовательно друг за дру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ый интерфейс, предназначенный для дуплексного асинхронного и синхронного обменов данными с внешней периферией. Направление передачи данных на выводах пор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яется программно. Прием/передача данных осуществляется последовательно, начиная с младшего (0-го) или старшего (23-го) бита 24-разрядного слова, которое, в свою очередь, передается побайтно. Формат асинхронного слова, кроме байта данных, содержит дополнительные служебные биты и поэтому может быть 10- или 11-разряд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ется аппаратным элементом системы отладки и работает под управлением ведущего компьютера, на который инсталлируют программные средства отладки. Эмулятор обеспечивает быстрый и независимый доступ к внутренним регистрам и периферии процессора для проверки их состояния. Связь между эмулятором и компьютером осуществляется с помощью специального устройства – внешнего контроллера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 контроллер и программные средства отладки поставляются фирмой-производителем 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1120" y="1773360"/>
            <a:ext cx="86425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932360" y="1125360"/>
            <a:ext cx="381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ор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кристалле функционально можно выделить две ча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бласть расш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 является основой любого процессо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его состав вход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тор тактовых импульсо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фазовой автоподстройкой частоты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ФАПЧ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DSP56K"/>
          <p:cNvPicPr/>
          <p:nvPr/>
        </p:nvPicPr>
        <p:blipFill>
          <a:blip r:embed="rId1"/>
          <a:stretch/>
        </p:blipFill>
        <p:spPr>
          <a:xfrm>
            <a:off x="250920" y="1052640"/>
            <a:ext cx="4608360" cy="554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318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403280" y="1773360"/>
            <a:ext cx="65278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компоненты архите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ад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дстройкой частот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859280" y="1125360"/>
            <a:ext cx="38894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бласти расширения размещаютс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программ и периферийные модули. Организация памяти определяется конкретным типом процесс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центрального модуля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U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ератор тактовых импульсов ГТИ с фазовой автоподстройкой частот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ФАПЧ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SP56000"/>
          <p:cNvPicPr/>
          <p:nvPr/>
        </p:nvPicPr>
        <p:blipFill>
          <a:blip r:embed="rId1"/>
          <a:stretch/>
        </p:blipFill>
        <p:spPr>
          <a:xfrm>
            <a:off x="395280" y="1341360"/>
            <a:ext cx="4568760" cy="5300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84358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четыре двунаправленных 24-разрядных шины данны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по которой передаются кома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B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ых, обеспечивающая обмен данными с внутренней или внешне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пор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ерифер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назначены для передачи данных 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ю, соответственно. При необходимости 24-разрядные 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гут быть объединены в одну 48-разрядную ш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(24-разрядная) ш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еспечивает обмен данными с внутрикристальной и внешней перифериями. Обмен данными с внешней периферией может осуществляться через внешнюю шину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араллельном формате, 8-разрядную шину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фейса (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-параллельном формате и через п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м форма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у данных между шинами осущ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ереключатель внутренних шин дан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ереключатель дополнительно содержит блок манипуляции битами, позволяющий управлять состоянием битов любого типа ячеек памяти данных и регист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, PC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адресов используются для адресации ячеек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две однонаправленные шины адресов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дн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вунаправлен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адреса програм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соответ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назначена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ация внешней памяти осуществляется через единственную однонаправленную шину, которая подключается 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ыбором шины управляет переключатель внешней шины адреса – мультиплексор с тремя вхо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дресации внешней памяти необходимо учитывать, что в одном командном цикле доступно только одно пространство внешней памяти. В этом случае командный цикл реализуется без дополнительной задержки. Обращение к внешним пространствам памяти контролирует устройство управления ш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х выполняет все арифметические и логические операции над операндами. 24-разрядные процессоры базового семейст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ют в своем соста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ыре 24-разрядных входных регис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56-разрядных аккумулятора, каждый из которых содержит 48-разрядный регистр аккумулятора и 8-разрядный регистр расши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сдвигателя/ограничителя д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ллельное одноцикловое устройство умножения с накопл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ы расширения хранят целую часть результата. Ее максимальное значение по модулю равно 255. Возможен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жим насы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гласно которому, если 48-разрядный результат операции оказывается больше максимально допустимого (при переполнении) либо меньше минимального допустимого (при потере значимости), в процессоре автоматически устанавливается соответствующая амплитуда насы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ные регистры могут объединяться в пары, удваивая таким образом разрядность обрабатываемых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полняет все операции, связанные с определением и хранением адресов в режиме косвенной адресации. Это устройство работает независимо от остальных блоков процессора. Формирование адреса происходит параллельно с другими операциями процессора. Процессоры фир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дают чрезвычайно мощной системой адресации, позволяющей производить манипуляции с данными за один командный ци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ят два одинаковых арифметических блока, формирующие два 16-разрядных адреса в каждом командном цикле. При формировании адреса могут использоваться три типа арифметики: линейная, модульная и бит-реверсив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7:13Z</dcterms:modified>
  <cp:revision>9</cp:revision>
  <dc:subject/>
  <dc:title>Микропроцессорные системы</dc:title>
</cp:coreProperties>
</file>