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7B6A6-2102-41F0-84EC-A4A4152E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09C9-3631-4376-96AC-E90547A5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4C1F8-42A2-4E8B-8D37-74182149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3B83-A66C-42E1-8856-55B0B379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D926-B880-4103-A697-A663C76C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4575-6AA2-4C3A-B2EB-94C6BAA7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5542-B33B-4880-97C4-6E47FD71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F5E5-80AB-4367-8C8E-E8297768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1F44-524B-415F-926A-5545B5D8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786A-F291-4C59-A95F-B43C9D5B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6ECE-A3EF-40DF-BC20-3B5A4FB6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76C50-BD58-4E57-93A2-BEF189BA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AA00-8E8B-4D8B-B764-B99601EB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AD68-2797-4663-BDE1-CAE0F385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2BC3-C3F6-4729-AF34-660A5ED6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9902-8AA7-4739-9C78-1D1620FD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2CDA-1566-4507-80C8-04F511CD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75A1C-8A1B-4C1A-AA5F-BA197E57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7CF6E-F6A4-4DAF-BAB3-77B0BFB5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D5B9-DAA1-4704-BBCF-B5CDF06B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818ED-9956-496A-8E4F-A3B54615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7695D-1810-47F7-8F80-C3F4FA59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83C8-EBC8-4F8E-8571-B85B8602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97E58-7B45-4AAB-97B3-A43FA125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7E43-FE69-4000-A563-532F5DAC9D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3417-3F03-4A26-8676-D51EEFC9CF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857320" y="4500360"/>
            <a:ext cx="601956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ы ввода/вывод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628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6 IC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захвата таймера/счетчика 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5 Т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4 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3 INT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2 IN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1 TX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ыход передатчика U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24000" y="765000"/>
            <a:ext cx="82296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964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разрядный — двунаправленный для ввода/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выводов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435880" cy="4187880"/>
        </p:xfrm>
        <a:graphic>
          <a:graphicData uri="http://schemas.openxmlformats.org/drawingml/2006/table">
            <a:tbl>
              <a:tblPr/>
              <a:tblGrid>
                <a:gridCol w="1738440"/>
                <a:gridCol w="669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положи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(отрица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С1 (выход совпадения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OS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IS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ы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CK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тактовых импульс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158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В 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8 битов порта В при использовании для ввода/вывода одинак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лияние DDBn на выводы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2133720"/>
          <a:ext cx="8229600" cy="3744720"/>
        </p:xfrm>
        <a:graphic>
          <a:graphicData uri="http://schemas.openxmlformats.org/drawingml/2006/table">
            <a:tbl>
              <a:tblPr/>
              <a:tblGrid>
                <a:gridCol w="861840"/>
                <a:gridCol w="957240"/>
                <a:gridCol w="1202040"/>
                <a:gridCol w="2306520"/>
                <a:gridCol w="2901960"/>
              </a:tblGrid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D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ORT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одтягивающий резис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оммента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ретье состоя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Hi-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п источник тока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ли соединен с зем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7 SC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тактовой частоты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6 MIS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5 MOS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3 ОС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совпа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POR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 Выходные буферы порта могут поглощать ток до 20 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воды используются как входы и на них подан низкий уровень, то при подключении подтягивающих резисторов они являются источниками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2133720"/>
          <a:ext cx="8229600" cy="3886200"/>
        </p:xfrm>
        <a:graphic>
          <a:graphicData uri="http://schemas.openxmlformats.org/drawingml/2006/table">
            <a:tbl>
              <a:tblPr/>
              <a:tblGrid>
                <a:gridCol w="2444760"/>
                <a:gridCol w="5784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ы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O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О (внешний вход таймера/счетчика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1 (внешний вход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CP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захвата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 DDDn регистра DDRD выбирает направление передачи дан­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установлен, вывод сконфигурирован как вы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сброшен — вывод сконфигурирован как в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PORTDn установлен и вывод сконфигурирован как вход, включается КМОП подтягивающий резист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тключения резистора PORTDn должен быть сброшен или вывод должен быть сконфигурирован как вы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35Z</dcterms:modified>
  <cp:revision>10</cp:revision>
  <dc:subject/>
  <dc:title>Микропроцессорные системы</dc:title>
</cp:coreProperties>
</file>