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0B2CA-0CD8-4462-8B2B-4320811C0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09821-909E-42CB-8C7C-90EF8F4D2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B24CD-052F-436F-881F-BA91589C6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D33FC-B9CA-40DE-80F2-4275A3749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C8728-86C1-4AAD-8DCE-8035C1C4D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88029-91BD-4775-8FBE-FD92C6733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606C1-3EE5-4558-9AC5-C7554600B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99924-3D98-4882-9C98-27D513D26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A5A53-DD6C-433F-81B0-4FA28893D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38E8C-0E9E-44F3-9696-3B72EBE2C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44BAF-18D6-4A9B-92B2-2C3582F2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04228-B6EE-48D4-A8C7-77BAEDEB8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62D67-7A9D-4210-B9F7-15739BE8E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AC522-B03B-44E7-9B39-2AFEC38E5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3344D-CBCE-47A8-A058-C5275B3A0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D5359-C919-4542-81A6-463F1561F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0BEF8-B01B-4D1D-8BB1-E3FE81099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6A496-0AA2-4C29-A045-302622DAF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FA426-E5CE-43DF-9032-52040253E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0F123-8AFC-41AE-9DF2-FFEDBA13D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22811-A0D8-4DBF-9D99-90833E113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8DE55-FA79-4D08-A0C0-6A64B9B9A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1A5AB-33F7-42BE-9541-60758A8F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2F5D4-F7F8-4AA7-97C5-77557C41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CEF9C-3F7F-40B6-8F15-89A6D475C0C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8FC41-FB5C-4063-9527-143BD788532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икропроцессорные сист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1714680" y="4786200"/>
            <a:ext cx="5903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2050920" y="4653000"/>
            <a:ext cx="59040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СЛЕДОВАНИЕ ПРОГРАММИРУЕМОГО ПАРАЛЛЕЛЬНОГ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ТЕРФЕЙС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D:\vvsu.gif"/>
          <p:cNvPicPr/>
          <p:nvPr/>
        </p:nvPicPr>
        <p:blipFill>
          <a:blip r:embed="rId1"/>
          <a:stretch/>
        </p:blipFill>
        <p:spPr>
          <a:xfrm>
            <a:off x="228600" y="228600"/>
            <a:ext cx="838080" cy="3729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7"/>
          <p:cNvSpPr/>
          <p:nvPr/>
        </p:nvSpPr>
        <p:spPr>
          <a:xfrm>
            <a:off x="152280" y="6477120"/>
            <a:ext cx="243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©</a:t>
            </a:r>
            <a:r>
              <a:rPr b="0" lang="ru-RU" sz="800" spc="-1" strike="noStrike">
                <a:solidFill>
                  <a:srgbClr val="3333cc"/>
                </a:solidFill>
                <a:latin typeface="Times New Roman"/>
              </a:rPr>
              <a:t> В.В. Сивченко, ст. преп. каф. ИСКТ ВГУЭ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755640" y="3367080"/>
            <a:ext cx="676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. Исследование режима 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вводе информации данные записываются с шин каналов в буферные регистры ППИ без стробирования, а передаются на внутреннюю магистраль микроЭВМ по сигналу RD/. При выводе данные от микроЭВМ записываются в соответствующий регистр ППИ по фронту сигнала WR/ и сразу же выводятся на шину канала. Недостаток режима 0 состоит в том, что при вводе данных из БИС ППИ возможно считывание ложной информации, если в процессе выполнения команды ввода (чтения) происходит изменение данных на входах каналов ППИ. После включения питания и подачи импульса начальной установки (INIT) все каналы ППИ настраиваются на ввод данных в режиме 0. Поэтому при программировании ППИ для вывода данных из микроЭВМ после записи управляющего слова в ППИ возможна выдача случайной информации, записанной в регистр канала ранее или установившейся в нем сразу после включения пита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Установить переключатель SA20 (слева) в положение "РАБ", SA21(справа)- в положение "АВТ"(оба в нижнее положение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ставить и выполнить программу в автоматическом режиме согласно следующего алгоритм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ициализация ВВ55 на режим 0 (ввод через КB, вывод через КA и КС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вод данных с наборного поля канала К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вод данных на индикаторы каналов КA и К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вод данных в одну из ячеек линейного дисплея «Электроники-580» (адреса 83F8…83FF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еход на п.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Определить состояния выходов канала КС после загрузки управляющего слова для вывода данных через канал К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. Исследование режима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ременные диаграммы работы каналов КА и КВ в режимах ввода и вывода приведены на рис.4, 5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работе каналов КА и КВ на ввод данных информация записывается в регистр канала по заднему фронту сигнала STBRC/( стробирующий сигнал приема). Получив данные, ППИ вырабатывает сигнал ACKRC/ (подтверждение приема), сохраняемый до окончания передачи в микроЭВМ по сигналу RD/. Возвращаемый внешнему устройству сигнал ACKRC/ запрещает ему формировать новый сигнал STBRC/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ли сигнал ACKRC/ и внутренний триггер разрешения прерываний (INTE) канала установлены в "1", то по фронту сигнала STBRC/ на выходе ППИ формируется сигнал запроса прерывания INT, одновременно фиксируемый в слове состояния ППИ. Этот сигнал может быть использован для информирования микроЭВМ о готовности данных к вводу. По сигналу чтения RD/ из микроЭВМ сначала сбрасывается сигнал запроса, а затем сигнал ACKRC/, разрешая внешнему устройству передачу следующего байта данны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становка - сброс триггеров разрешения прерывания INTE1, INTE2 осуществляется с помощью управляющих слов установки разрядов 4 (INTE1) и 2 (INTE2) канала КС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ris45_55.bmp (1021734 bytes)"/>
          <p:cNvPicPr/>
          <p:nvPr/>
        </p:nvPicPr>
        <p:blipFill>
          <a:blip r:embed="rId1"/>
          <a:stretch/>
        </p:blipFill>
        <p:spPr>
          <a:xfrm>
            <a:off x="1476360" y="620640"/>
            <a:ext cx="5834160" cy="60483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611280" y="738000"/>
            <a:ext cx="822960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ряды 6, 7 канала КС могут быть использованы как для ввода, так и для вывода. Если они запрограммированы для ввода, то чтение информации на этих входах производится с помощью операции чтения из канала КС. Если они запрограммированы для вывода, то их можно использовать только путем установки или сброса разрядов 6, 7 канала К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работе каналов КА и КВ в режиме вывода данные в выходной регистр канала записываются по сигналу WR/. В момент окончания записи ППИ формирует управляющий сигнал STBWR/ (строб записи), указывающий на то, что данные на выходе ППИ установлены и могут быть считаны внешним устройством. Прием данных ВУ подтверждается сигналом ACKWR/ (подтверждение записи). Для информирования микроЭВМ о завершении цикла передачи и готовности канала к получению новых данных может быть использован сигнал INT, который устанавливается в "1" при высоких уровнях сигналов STBWR/, ACKWR/ и единичном состоянии триггера разрешения прерывания INTE. На интервале вывода данных в ВУ этот сигнал остается на низком уровне. Установка и сброс триггеров разрешения прерывания INTE0, INTE2 каналов производится путем программирования разрядов 6 и 2 канала КС. Разряды 4 и 5 КС могут быть использованы для синхронного ввода/вывода информ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ли ППИ запрограммирован для работы в режимах 1 или 2, то состояние обмена можно определить программным путем при чтении содержимого регистра канала КС. Форматы слова состояния для режима 1 приведены на рис.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ris6_55.gif (5749 bytes)"/>
          <p:cNvPicPr/>
          <p:nvPr/>
        </p:nvPicPr>
        <p:blipFill>
          <a:blip r:embed="rId1"/>
          <a:stretch/>
        </p:blipFill>
        <p:spPr>
          <a:xfrm>
            <a:off x="684360" y="549360"/>
            <a:ext cx="7561080" cy="30938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68000" y="3833640"/>
            <a:ext cx="8496360" cy="28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модуле УМПК-80/МИ2 при выводе информации через разряды канала КС переключатель SA20 необходимо перевести в положение "БЛК". Для формирования входной информации в разряде КС4 можно использовать кнопку STBRC/ (SA2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Установить переключатель SA20 в положение "РАБ", SA21 в положение "АВТ". Выполнить циклическую программу стробируемого ввода данных по каналу КВ и вывода данных в канал КА. Для имитации сигналов ВУ использовать кнопки SA1 (STBRC/ и ACKWR/ канала КВ), SA2 (STBRC/ канала КА) и SA3 (ACKWR/ канала КА). В качестве флагов готовности можно использовать разряды 1, 5 (при вводе) и разряды 1, 7 (при выводе) слова состояния ППИ. Перед началом цикла обмена инициализировать работу каналов КА и КВ для работы в режиме 1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539640" y="691920"/>
            <a:ext cx="822960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писание алгоритм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ициализация ВВ55 на режим 1 (ввод через КВ, вывод через КА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ение слова состояния (SW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верка флага готовности канала КВ ( по сигналу STBRC/ от кнопки SA1). Если флаг равен 0, переход на п.2, иначе на п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вод данных с наборного поля канала К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есылка данных в РОН 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ение слова состояния (SW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верка флага готовности канала КА ( по сигналу ACKWR/ от кнопки SA3).Если флаг равен 0, переход на п.6, иначе на п.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есылка данных из РОН В в аккумулято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вод данных на индикаторы канала 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еход на п.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Исследовать временные диаграммы обмена по каналу КА в динамике с помощью осциллографа, имитируя сигналы внешнего устройства с помощью выходных сигналов канала КВ ( рис. 7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ris7_55"/>
          <p:cNvPicPr/>
          <p:nvPr/>
        </p:nvPicPr>
        <p:blipFill>
          <a:blip r:embed="rId1"/>
          <a:stretch/>
        </p:blipFill>
        <p:spPr>
          <a:xfrm>
            <a:off x="971640" y="1125360"/>
            <a:ext cx="6696000" cy="44643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68360" y="76500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исследования диаграмм в режиме ввода выполнить программу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MVI A, CW ; Запись управляющего слов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OUT RGCW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SET1: MVI A, SET ; Установка триггера INTE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OUT RGCW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MVI A,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OUT KB ; Формирование сигнала STB RC/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C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OUT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C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OUT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IN 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JMP SE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остоятельно подготовить программу для исследования временных диаграмм ППИ в режиме вывода. Выполнить программу на стенде. Снять осциллограммы сигналов цикла ввода и цикла вывода данны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 Выполнить программы, обеспечив ввод (вывод) в режиме 1 по одному из каналов КА или КВ, одновременно используя один из разрядов канала КС для синхронного обмена. При выводе информации через разряды канала КС перевести переключатель SA20 в положение "БЛК"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24000" y="691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жим 2 используется для двунаправленного асинхронного обмена информацией по каналу КА. Сигналы управления (рис. 8), передаваемые по пяти линиям канала КС, представляют собой комбинацию сигналов, используемых при работе канала КА в режиме 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" descr="ris8_55"/>
          <p:cNvPicPr/>
          <p:nvPr/>
        </p:nvPicPr>
        <p:blipFill>
          <a:blip r:embed="rId1"/>
          <a:srcRect l="10029" t="5868" r="5505" b="13915"/>
          <a:stretch/>
        </p:blipFill>
        <p:spPr>
          <a:xfrm>
            <a:off x="1332000" y="1700280"/>
            <a:ext cx="6049800" cy="49831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новным отличием режима 2 от режима 1 является то, что информация, записанная в регистр канала КА для вывода, появляется на его выходах не сразу, а после выдачи внешним устройством сигнала ACKWR/. До этого момента выходы канала КА находятся в состоянии высокого импеданса. Временные диаграммы обмена в режиме 2 эквивалентны временным диаграммам обмена в режиме 1 и допускают любую последовательность передачи данных, при которой сигнал WR/ появляется раньше сигнала ACKWR/, а сигнал STBRC/ раньше сигнала RD/. Установка-сброс триггеров разрешения прерывания INTE0, INTE1 осуществляется путем программной установки разрядов 6 (вывод) и 4 (ввод) канала КС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нал КВ может использоваться при работе канала КА в режиме 2 как для синхронного (режим 0), так и для асинхронного (режим 1) ввода-вывода. Формат слова состояния для режима 2 приведен на рис. 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ris9_55bmp.bmp (316458 bytes)"/>
          <p:cNvPicPr/>
          <p:nvPr/>
        </p:nvPicPr>
        <p:blipFill>
          <a:blip r:embed="rId1"/>
          <a:stretch/>
        </p:blipFill>
        <p:spPr>
          <a:xfrm>
            <a:off x="755640" y="4076640"/>
            <a:ext cx="7777080" cy="25783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1912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2700360" y="198900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бораторная раб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905760" y="764640"/>
            <a:ext cx="697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СЛЕДОВАНИЕ ПРОГРАММИРУЕМОГО ПАРАЛЛЕЛЬ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ФЕЙ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5280" y="2781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ель работ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воение принципов программного управления БИС программируемого параллельного интерфейса (ППИ) с помощью микроЭВМ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следование протоколов обмена между ППИ и микроЭВМ по внутренней магистрали, между ППИ и ВУ по внешней магистрали в различных режимах обмена (синхронном, асинхронном, однонаправленном, двунаправленном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работе канала КА в режиме 2 и канала КВ в режиме 0 можно использовать незадействованные под управляющие сигналы разряды КС0-2 для ввода-вывода информации. Убедиться в этом можно, используя в качестве формирователя входной информации разряда КС2 кнопку SA1 сигнала STBRC/.В (при вводе информации) или устанавливая/сбрасывая разряды КС0-2 (при выводе информации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. Составить программу для стробируемого ввода данных по каналу КА и КВ и последующего вывода данных в канал КА, используя режим 2 канала КА и режим 1 канала КВ. Исследовать влияние управляющих сигналов STBRC/.A и ACKWR/.A, ( а также триггеров INTE0 и INTE1) на работу канала КА в режиме 2, а также влияние сигнала STBRC/.B (и триггера INTE2) на работу канала КВ в режиме 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исание алгоритм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ициализация ВВ55 канала КВ на ввод в режиме 1, канала КА на режим 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ение слова состояния (SW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верка флага готовности канала КА по вводу ( по сигналу STBRC/ от кнопки SA2). Если флаг равен 0, переход на п.2, иначе на п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вод данных с наборного поля канала 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есылка данных в РОН 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ение слова состояния (SW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верка флага готовности канала КВ по вводу ( по сигналу STBRC/ от кнопки SA1). Если флаг равен 0, переход на п.6, иначе на п.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вод данных с наборного поля канала К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работка данных, полученных через каналы КА и К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вод результата совместной обработки через канал 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ение слова состояния (SW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верка флага готовности канала КА по выводу ( по сигналу ACKWR/ от кнопки SA3). Если флаг равен 0, переход на п.11, иначе на п.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мечание. Проверка флагов готовности может быть заменена проверкой запросов прерываний при разрешении прерыван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7. Изменить программу п.6, осуществив работу канала КА в режиме 2 совместно с работой канала KB в режиме 0 и обменом по линиям канала К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8. Оформить отч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чет должен содержать схемы связи ППИ с внутренней и внешней магистралями, тексты отлаженных программ на языке ассемблера и в 16-ичных кодах, отметки действий оператора в соответствующих точках программы, необходимые при воспроизведении того или иного режима работы, осциллограммы управляющих сигнал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итерату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Техническое описание УМПК - 8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94920" y="765000"/>
            <a:ext cx="82184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вед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сопряжения микроЭВМ с различными типами внешних устройств широко применяется программируемое устройство параллельного ввода/вывода данных - микросхема программируемый параллельный интерфейс КР580ВВ55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руктурная схема ППИ приведена на рис. 1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611280" y="6165720"/>
            <a:ext cx="518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1" descr="ris1_55"/>
          <p:cNvPicPr/>
          <p:nvPr/>
        </p:nvPicPr>
        <p:blipFill>
          <a:blip r:embed="rId1"/>
          <a:stretch/>
        </p:blipFill>
        <p:spPr>
          <a:xfrm>
            <a:off x="971640" y="2200320"/>
            <a:ext cx="7956360" cy="46576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ПИ содержит 8-разрядный буфер шины данных (БФД) для обмена данными через магистраль микроЭВМ, три 8-разрядных канала (буферных регистра) КА, КВ и КС для связи с внешними устройствами и схему управления с регистром управления (РгУ)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ходные сигналы управления: CS/ (выбор микросхемы), RD/ (чтение), WR/ (запись), а также сигналы A0, A1, определяющие адрес (номер) канала ввода-вывода или регистра управления, - устанавливают направление обмена данными между микроЭВМ и одним из регистров ППИ. В табл.1 приведены основные операции ППИ в зависимости от значений управляющих и адресных сигналов на вход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86" descr="tab1_55.gif (4734 bytes)"/>
          <p:cNvPicPr/>
          <p:nvPr/>
        </p:nvPicPr>
        <p:blipFill>
          <a:blip r:embed="rId1"/>
          <a:stretch/>
        </p:blipFill>
        <p:spPr>
          <a:xfrm>
            <a:off x="2268360" y="3860640"/>
            <a:ext cx="4896000" cy="27673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87"/>
          <p:cNvSpPr/>
          <p:nvPr/>
        </p:nvSpPr>
        <p:spPr>
          <a:xfrm>
            <a:off x="2268360" y="3499920"/>
            <a:ext cx="10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бл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ле установки режима работы ППИ обмен данными с каналами ввода-вывода может быть осуществлен по командам ввода (IN port N) и вывода (OUT port 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установки режима работы ППИ необходимо послать в регистр управления управляющее слово, обеспечив настройку каналов на тот или иной режим работы. Формат управляющего слова режима приведен на рис.2, 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жимы работы каналов КА и КВ программируются независимо друг от друга. Режим работы канала КС, который разделен на два 4-разрядных канала КС0-3 и КС4-7, зависит от режимов работы каналов КВ и КА соответственно. ППИ позволяет осуществить три режима работ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7d"/>
                </a:solidFill>
                <a:uFillTx/>
                <a:latin typeface="Arial"/>
              </a:rPr>
              <a:t>режим 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синхронный обмен по двум независимым каналам КА и КВ, а также по двум 4-разрядным каналам КС0-3 и КС4-7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7d"/>
                </a:solidFill>
                <a:uFillTx/>
                <a:latin typeface="Arial"/>
              </a:rPr>
              <a:t>режим 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стробируемый ввод/вывод, обеспечивая асинхронный однонаправленный обмен по 2-м независимым каналам КА и КВ. Линии канала КС используются для управления передачей данны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7d"/>
                </a:solidFill>
                <a:uFillTx/>
                <a:latin typeface="Arial"/>
              </a:rPr>
              <a:t>режим 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асинхронный двунаправленный обмен через канал КА под управлением сигналов канала КС. Канал КВ может быть использован для асинхронного однонаправленного ввода/выво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дополнение к перечисленным режимам работы БИС ППИ обеспечивает возможность программной независимой установки или сброса любого разряда канала С. Формат управляющего слова для установки/сброса разрядов КС показан на рис. 2,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8" descr="ris2_55.bmp (800174 bytes)"/>
          <p:cNvPicPr/>
          <p:nvPr/>
        </p:nvPicPr>
        <p:blipFill>
          <a:blip r:embed="rId1"/>
          <a:stretch/>
        </p:blipFill>
        <p:spPr>
          <a:xfrm>
            <a:off x="755640" y="333360"/>
            <a:ext cx="6985080" cy="60865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писание модуля параллельного интерфейс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дуль представляет собой печатную плату, один из внешних разъемов которой предназначен для связи с микроЭВМ, а второй для подключения внешних устройств. Разъем для подключения модуля к внутренней магистрали микроЭВМ содержит восемь линий данных, восемь адресных линий (младший байт адреса), три сигнала управления передачей данных (IORC/ - сигнал чтения из внешнего устройства, IOWC/ - сигнал записи во внешнее устройство и IOEN/- сигнал разрешения ввода/вывода), сигнал начальной установки INIT, а также линии ОБЩ и +5В. На разъем, предназначенный для подключения внешних устройств, выведены линии каналов КА, КВ и КС ППИ, а также сигнал внешней синхронизации осциллографа, необходимый для наблюдения временных диаграм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ощенная принципиальная схема модуля представлена в приложен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ентральным элементом схемы является БИС (ППИ, D2), непосредственно реализующая функции параллельного интерфейс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хема дешифрации адреса (ДША, D1) выдает сигналы выборки низкого уровня на следующие элементы схем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БИС ППИ при обращении микроЭВМ к внешнему устройству с адресами В0Н...В3Н. При этом адреса каналов КА, КВ, КС и регистра управляющего слова - В0, В1, В2 и В3 соответственно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регистр индикации состояния внутренних триггеров разрешения прерывания при чтении из канала КС по адресу В2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регистр индикации управляющего слова при записи в регистр управления ППИ по адресу В3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755640" y="3367080"/>
            <a:ext cx="676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755640" y="3311640"/>
            <a:ext cx="676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6840" y="692280"/>
            <a:ext cx="843588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хема индикации состояния внутренних триггеров разрешения прерывания (СИСТ, D3, Е1) позволяет отображать с помощью светодиодов информацию о том, установлены или сброшены триггеры разрешения прерывания каналов КА и КВ. Информация о состоянии триггеров записывается в регистр при чтении из канала К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хема индикации управляющего слова (СИУС, D4, E2) позволяет в любой момент времени видеть, в каком режиме работает БИС ППИ. Информация записывается в регистр при записи управляющего слова в ПП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уфер, схема индикации и наборное поле канала КА (БФА, ИКА и НПА, D6, D10, SA4...SA11, E4) позволяют отображать информацию, записанную в канал КА, а также осуществлять ввод через канал КА информации, задаваемой с помощью переключателей SA4...SA1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уфер, схема индикации и наборное поле канала КС (БФС, ИКС и НПС, D7, D8, E3, SA1...SA3) предназначены соответственно для отображения информации, записанной в канал КС, и для имитации управляющих сигналов внешнего устройств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борное поле и буфер канала КВ (НПВ и БФВ, D5, D9, SA12...SA19) позволяют задавать входную информацию для считывания через канал КВ и программно имитировать управляющие сигналы внешнего устройства. Буфер открывается для ввода информации с наборного поля при наличии "1" во втором разряде управляющего слова, то есть когда канал КВ программируется для ввода информ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755640" y="3367080"/>
            <a:ext cx="676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539640" y="549360"/>
            <a:ext cx="792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сположение переключателей, кнопок и элементов индикации приведено на рис. 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ris3_55"/>
          <p:cNvPicPr/>
          <p:nvPr/>
        </p:nvPicPr>
        <p:blipFill>
          <a:blip r:embed="rId1"/>
          <a:stretch/>
        </p:blipFill>
        <p:spPr>
          <a:xfrm>
            <a:off x="2050920" y="981000"/>
            <a:ext cx="4880160" cy="5877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3T02:43:19Z</dcterms:created>
  <dc:creator>Dexter</dc:creator>
  <dc:description/>
  <dc:language>en-US</dc:language>
  <cp:lastModifiedBy>Сивченко</cp:lastModifiedBy>
  <dcterms:modified xsi:type="dcterms:W3CDTF">2009-06-16T23:11:35Z</dcterms:modified>
  <cp:revision>28</cp:revision>
  <dc:subject/>
  <dc:title>Микропроцессорные системы</dc:title>
</cp:coreProperties>
</file>