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68D1-7E1C-4595-A76C-22C2F49F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175F-A1FB-480A-BE76-B74BADC2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E716-C826-4A87-B4F3-CEA0D06A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7F3A-B2B7-4236-9714-A1D32E4C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F832-1BB0-4C0F-BAFB-295F3C95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4609-E3C5-4D22-BCB8-27673082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0C11-9393-428B-865D-5AEE66D1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1D1D-CBE0-4E86-B691-B220CB5B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BD7B-07E6-4CA0-989A-28509ECB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56CA-F95B-45B1-9D5E-A4463462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DD62-41D2-4FDC-9D67-18984A9A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7666-19B7-4053-BDAF-6F202546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7966-EED3-49E2-8E2C-B62B614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7C2F-BFF7-4FCE-951D-3E45831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B60F-BB10-4D79-BD3A-E4C437DD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D7FE-979B-4D74-8BA8-174CAD75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B71C-92B1-4D5B-8385-5054A5CF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EC72-8251-4F4C-B37B-8237232D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2BC6-4E11-4E83-9817-515EC6C0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4642-779D-4F70-BCEB-3B6D201A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86CC-D1B5-44D6-9766-DC91DD3B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1AE7-3387-415D-852D-DDF32382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1166-8AAD-4250-ADC0-7EA03E2E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AB27-9E0B-4663-ADB1-BEA16F47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0A3-38F6-4A84-B5C3-613BFABFE7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AC06-1CE7-4798-A9DF-DEF8D35831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7677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ифровые процессоры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и сигналов фирм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равляет конвейерной обработкой команд, аппаратной организацией цик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щением к подпрограммам и обслуживанием преры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тор адрес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декодирования коман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прерыван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мещ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начального адреса цикл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чик цикл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состоя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режима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ный сте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указателя сте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P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й сте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зового семейства процессо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мом 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ет до 7 цикл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15 прерываний, или 15 вложенных под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/IR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 программного преры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ет четыре вы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/IRQ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установки режимов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иема маскируемых запросов на прерывание (управляющих сигналов)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установки режима обработки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иема немаскируемых запросов на прерывание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уют конфигура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, Y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а также определяют процедуру запуска процессора после его выхода из состояния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для установки процессора в начальное состояние, называемое состоянием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тор тактовых импульсов(ГТИ) с фазовой автоподстройкой частоты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автоподстройкой частоты (ФАПЧ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ляет формировать тактовые импульсы высокой частоты внутри процессора при низкочастотном внешнем задающем генераторе. Границы диапазона тактовых частот регулируются от минимальной (обычно 10МГц) до максимальной, которая зависит от возможностей внешнего генератора и коэффициента умножения, устанавливаемого программно. В состоянии останова процессора генераторное оборудование остается активным, хотя ГТИ запирается, поэтому процессор переходит на минимально возможное потребление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ют три пор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щий разносторонний интерфейс с внешней памятью и внешней периферией как быстродействующей, так и низкоскоростной. Порт содержит внешнюю адресную 16-разрядную шину, внешнюю 24-разрядную шину данных и шину управления пор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управления обеспечивает управление чтением/записью по шине данных, выбор адресного пространства памяти и управление магистральной шиной при организации  многопроцессорной системы; обмен данными осуществляется в параллельном форм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оследовательного обмена данны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носятся к внутрикристальной периферии; способы их использования определяются специальными регистрами данных и состояния, размещенными во внутрикристаль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использоваться либо как порт ввода/вывода общего назначения, либо ка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фейс. Второй вариант применяется в том случае, когда процессор входит в состав некоторой системы ЦОС и есть необходимость взаимодействия с ведущим процессор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о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мен данными осуществляется по 8-разрядной шине в последовательно-параллельном формате: 24-разрядные данные делятся на три байта, которые передаются в параллельном формате последовательно друг за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ый интерфейс, предназначенный для дуплексного асинхронного и синхронного обменов данными с внешней периферией. Направление передачи данных на выводах пор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программно. Прием/передача данных осуществляется последовательно, начиная с младшего (0-го) или старшего (23-го) бита 24-разрядного слова, которое, в свою очередь, передается побайтно. Формат асинхронного слова, кроме байта данных, содержит дополнительные служебные биты и поэтому может быть 10- или 11-разряд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аппаратным элементом системы отладки и работает под управлением ведущего компьютера, на который инсталлируют программные средства отладки. Эмулятор обеспечивает быстрый и независимый доступ к внутренним регистрам и периферии процессора для проверки их состояния. Связь между эмулятором и компьютером осуществляется с помощью специального устройства – внешнего контролл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контроллер и программные средства отладки поставляются фирмой-производителем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120" y="177336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32360" y="1125360"/>
            <a:ext cx="381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ор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кристалле функционально можно выделить две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ласть расш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 является основой любого процесс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тактовых импульсо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фазовой автоподстройкой частот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ФАПЧ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P56K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554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318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403280" y="1773360"/>
            <a:ext cx="6527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ад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дстройкой частот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859280" y="1125360"/>
            <a:ext cx="3889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расширения размещ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программ и периферийные модули. Организация памяти определяется конкретным типом процес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центрального модуля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U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атор тактовых импульсов ГТИ с фазовой автоподстройкой част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ФАПЧ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SP56000"/>
          <p:cNvPicPr/>
          <p:nvPr/>
        </p:nvPicPr>
        <p:blipFill>
          <a:blip r:embed="rId1"/>
          <a:stretch/>
        </p:blipFill>
        <p:spPr>
          <a:xfrm>
            <a:off x="395280" y="1341360"/>
            <a:ext cx="456876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четыре двунаправленных 24-разрядных шины дан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о которой передаются ком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B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х, обеспечивающая обмен данными с внутренней или внешн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пор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ерифе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ы для передачи данных 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ю, соответственно. При необходимости 24-разрядные 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гут быть объединены в одну 48-разрядную 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(24-разрядная) ш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еспечивает обмен данными с внутрикристальной и внешней перифериями. Обмен данными с внешней периферией может осуществляться через внешнюю шину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араллельном формате, 8-разрядную шину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а (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-параллельном формате и через п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м форм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у данных между шинами осущ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ключатель внутренних шин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ереключатель дополнительно содержит блок манипуляции битами, позволяющий управлять состоянием битов любого типа ячеек памяти данных и регист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, P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адресов используются для адресации ячеек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е однонаправленные шины адресов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вунаправлен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адреса про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а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ация внешней памяти осуществляется через единственную однонаправленную шину, которая подключается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ыбором шины управляет переключатель внешней шины адреса – мультиплексор с тремя в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дресации внешней памяти необходимо учитывать, что в одном командном цикле доступно только одно пространство внешней памяти. В этом случае командный цикл реализуется без дополнительной задержки. Обращение к внешним пространствам памяти контролирует устройство управления ш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выполняет все арифметические и логические операции над операндами. 24-разрядные процессоры базового семей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ют в своем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24-разрядных входных регис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56-разрядных аккумулятора, каждый из которых содержит 48-разрядный регистр аккумулятора и 8-разрядный регистр расши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сдвигателя/ограничителя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ное одноцикловое устройство умножения с накоп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сширения хранят целую часть результата. Ее максимальное значение по модулю равно 255. Возмож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жим насы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которому, если 48-разрядный результат операции оказывается больше максимально допустимого (при переполнении) либо меньше минимального допустимого (при потере значимости), в процессоре автоматически устанавливается соответствующая амплитуда насы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ые регистры могут объединяться в пары, удваивая таким образом разрядность обрабатываем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т все операции, связанные с определением и хранением адресов в режиме косвенной адресации. Это устройство работает независимо от остальных блоков процессора. Формирование адреса происходит параллельно с другими операциями процессора. Процессоры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ют чрезвычайно мощной системой адресации, позволяющей производить манипуляции с данными за один команд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ят два одинаковых арифметических блока, формирующие два 16-разрядных адреса в каждом командном цикле. При формировании адреса могут использоваться три типа арифметики: линейная, модульная и бит-реверсив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7:13Z</dcterms:modified>
  <cp:revision>9</cp:revision>
  <dc:subject/>
  <dc:title>Микропроцессорные системы</dc:title>
</cp:coreProperties>
</file>