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522E-6856-4572-BB88-D1AACBC8A8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55D9-A548-4AB6-B97F-8B4C693DACE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E3C-ADF4-4811-B43F-BE434EB1030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6D65-2876-4696-8E92-7D3EC731FC3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B6D-55F9-45F2-B5C6-CDA3EAA480B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8EC5-EC0E-4CCC-9B9B-93280541092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D56E-B9D0-4A42-8869-8915673DCD6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FB48-E63B-4340-9AF3-7459CBFF6B3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B3B-0F83-412E-AA2B-4AAA8E00B97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FEB4-2655-4FDD-B532-D5C9E95B854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6AA0-7A6A-4438-B33C-238741746FC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2E6-894D-4B31-96F0-88DBC3246C8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C7A-855D-452C-A0F5-08691451058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4E0-2F4A-4116-95C3-829D2773500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F4D-FE67-4A00-8754-7FBF2426BE0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E61F-9871-4294-A759-7E00EECE39B6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1AF4-C10B-4589-A80A-296D28C9B838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2F18-6DCB-4F37-8772-A328844D605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391A-C4B3-454E-A810-3769853D607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EE2-89FD-4170-A8CD-E11A04EC7D7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62BB-B79D-4D94-A744-14C234941A0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270C-74E2-49B4-9BA2-91A12B25197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68B-55CE-44E0-93BA-3400D0FC9CB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B27E-FA32-420C-B3F2-92807427391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32E-B98B-4590-9FD1-650E82FF960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6E7-31C6-4C11-9908-B40BF764E72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091-1873-409B-802E-4EA945ABBD74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F8FA-9CB6-4266-A5E9-A46B5932916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9221-0AF9-4CB8-89BD-D2C9BA2D58C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0A3F-D3B1-44DB-AD4B-719106248FC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868-8001-418E-AC0E-D2EF2581BAB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1D19-B656-41AC-AE7F-C845AB350214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5AED-1444-4C7B-8E4D-59690E31CB6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DA9E-4C29-408F-9B3E-65C123DF71A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1FE7-9052-4FF2-BA23-7CDEB45A8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36EF-2459-4F0C-B3A0-7CFCDB3F1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165F-D638-4327-8AEE-A7B1D66E3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81FB-C725-44FC-9FC2-F715042CD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53C9-F0A2-46C3-A421-067D15701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F9D9-E4EC-4212-AF96-97B5B220B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53F6-1412-4B15-80A7-082DBE9D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B95B-1FAE-4A65-AEC4-1EC8AC390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22EF-A03F-486B-8E20-DCB388ED2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DB48-7D17-4664-98AD-2746EEC0D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E636-AD31-4D6C-B96D-082038726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F924-5ABE-45AF-B01E-C4AD3964D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VIDEO_1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VIDEO_2"/>
          <p:cNvPicPr/>
          <p:nvPr/>
        </p:nvPicPr>
        <p:blipFill>
          <a:blip r:embed="rId3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975-6EFC-4E88-8FAB-B30930857695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7" descr="лого"/>
          <p:cNvPicPr/>
          <p:nvPr/>
        </p:nvPicPr>
        <p:blipFill>
          <a:blip r:embed="rId8"/>
          <a:stretch/>
        </p:blipFill>
        <p:spPr>
          <a:xfrm>
            <a:off x="-36360" y="-100080"/>
            <a:ext cx="1258560" cy="704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лого"/>
          <p:cNvPicPr/>
          <p:nvPr/>
        </p:nvPicPr>
        <p:blipFill>
          <a:blip r:embed="rId3"/>
          <a:stretch/>
        </p:blipFill>
        <p:spPr>
          <a:xfrm>
            <a:off x="0" y="61920"/>
            <a:ext cx="1511280" cy="84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именование мероприятия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547640" y="43164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Дата и место проведения мероприя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7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805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ладчик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лжность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целевого финансирования автономного учрежде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едется на счете 86 «Целевое финансирование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Целевое финансирование из бюджета учитывается обособленно от целевых поступлений из других источник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на счете 86 ведется по источникам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 статьям расходов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точник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определяет цели (целевой проект)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а которые были предоставлены целевые средств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татьи расходов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это конкретные статьи бюджета (сметы) для каждого целевого проект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6"/>
          <a:stretch/>
        </p:blipFill>
        <p:spPr>
          <a:xfrm>
            <a:off x="395280" y="4797360"/>
            <a:ext cx="820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ступле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ступле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креди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денежных средств, капитальных вложений и т. д.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мере фактического получения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76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«Расчеты с разными дебиторами и кредиторами»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факту принятия решения о выделении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расчетов по целевому финансированию ведется по контрагентам и назначениям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трагент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К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значение целевых средств –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Ч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январ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феврал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Целевая программа развития образования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Picture 6" descr="2"/>
          <p:cNvPicPr/>
          <p:nvPr/>
        </p:nvPicPr>
        <p:blipFill>
          <a:blip r:embed="rId10"/>
          <a:stretch/>
        </p:blipFill>
        <p:spPr>
          <a:xfrm>
            <a:off x="395280" y="5445000"/>
            <a:ext cx="8280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спользова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спользова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дебе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капитальных влож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83 «Добавочный капитал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текущих расход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затрат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 «Основное производство» и 26 «Общехозяйственные расходы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Picture 8" descr="4"/>
          <p:cNvPicPr/>
          <p:nvPr/>
        </p:nvPicPr>
        <p:blipFill>
          <a:blip r:embed="rId6"/>
          <a:stretch/>
        </p:blipFill>
        <p:spPr>
          <a:xfrm>
            <a:off x="468360" y="5229360"/>
            <a:ext cx="8353440" cy="131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"/>
          <p:cNvPicPr/>
          <p:nvPr/>
        </p:nvPicPr>
        <p:blipFill>
          <a:blip r:embed="rId7"/>
          <a:stretch/>
        </p:blipFill>
        <p:spPr>
          <a:xfrm>
            <a:off x="468360" y="2708280"/>
            <a:ext cx="6624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новн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Бухгалтерски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объектам основных средств АУ начисляетс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е амортизация, а износ на забалансовом счете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0 «Износ основных средств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зависимо от источника их приобрет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жемесячно, линейным способо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логовы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объект основных средств приобретен за счет доходов от предпринимательской деятельности и используется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ля ее осуществления, он подлежит амортизации в порядке, установленном главой 25 НК Р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этом случае возникает постоянная разниц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 НДС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Требования законодательст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редств целевого финансирования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должен быть включен в стоимость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оходов от предпринимательской деятельности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можно принять к выче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еализация в программ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раметр учетной политики «Организация осуществляет предпринимательскую деятельность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предпринимательская деятельность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ухгалтер управляет включением НДС в стоимость самостоятельно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т предпринимательской деятельности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ДС будет включаться в стоимость всегд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ой отчетност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ализована специализированная Форма № 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Бухгалтерский баланс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учетом рекомендаций Минфин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разделу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«Капитал и резервы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заполнение Формы № 6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тчет о целевом использовании полученных средств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анным бухгалтерского учет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формирование регистров налогового учета целев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поступлений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использования целевых поступл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8"/>
          <a:stretch/>
        </p:blipFill>
        <p:spPr>
          <a:xfrm>
            <a:off x="755640" y="1268280"/>
            <a:ext cx="6583320" cy="532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9"/>
          <a:stretch/>
        </p:blipFill>
        <p:spPr>
          <a:xfrm>
            <a:off x="1143000" y="1428840"/>
            <a:ext cx="6215040" cy="516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1187280" y="1733400"/>
            <a:ext cx="6624720" cy="485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11"/>
          <a:stretch/>
        </p:blipFill>
        <p:spPr>
          <a:xfrm>
            <a:off x="1692360" y="2205000"/>
            <a:ext cx="6119640" cy="43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пециализированные функции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ля образовательных учреждений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35280" y="1268280"/>
            <a:ext cx="4826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 родительской плате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ая плата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 содержание детей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детских учреждениях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а за дополнительные образовательные услуги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0" name="Picture 17" descr="MPj04337310000[1]"/>
          <p:cNvPicPr/>
          <p:nvPr/>
        </p:nvPicPr>
        <p:blipFill>
          <a:blip r:embed="rId4"/>
          <a:stretch/>
        </p:blipFill>
        <p:spPr>
          <a:xfrm>
            <a:off x="5651640" y="3933720"/>
            <a:ext cx="1697040" cy="2505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Pj04090480000[1]"/>
          <p:cNvPicPr/>
          <p:nvPr/>
        </p:nvPicPr>
        <p:blipFill>
          <a:blip r:embed="rId5"/>
          <a:stretch/>
        </p:blipFill>
        <p:spPr>
          <a:xfrm>
            <a:off x="357120" y="1428840"/>
            <a:ext cx="321948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24000" y="4076640"/>
            <a:ext cx="4825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 со студентам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ное обучение студентов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очие услуг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предоставление общежития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списков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етей и студен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отдельных справочниках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Дети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Студенты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дельно по учреждениям (организациям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личие понятий «Ребенок» и «Студент»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Дети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нтрагенту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Студенты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говору с контрагентом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4"/>
          <p:cNvSpPr/>
          <p:nvPr/>
        </p:nvSpPr>
        <p:spPr>
          <a:xfrm>
            <a:off x="395280" y="5661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395280" y="2781360"/>
            <a:ext cx="8353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AutoShape 42"/>
          <p:cNvSpPr/>
          <p:nvPr/>
        </p:nvSpPr>
        <p:spPr>
          <a:xfrm>
            <a:off x="395280" y="4581360"/>
            <a:ext cx="835344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Студ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AutoShape 41"/>
          <p:cNvSpPr/>
          <p:nvPr/>
        </p:nvSpPr>
        <p:spPr>
          <a:xfrm>
            <a:off x="395280" y="1989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ети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395280" y="378936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AutoShape 39"/>
          <p:cNvSpPr/>
          <p:nvPr/>
        </p:nvSpPr>
        <p:spPr>
          <a:xfrm>
            <a:off x="395280" y="1197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зличие понятий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Ребенок» и «Студент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8269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ладшая группа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рисо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007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пла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3635280" y="2060640"/>
            <a:ext cx="201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Ребенок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ася Ивано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87" name="AutoShape 9"/>
          <p:cNvCxnSpPr>
            <a:stCxn id="186" idx="2"/>
            <a:endCxn id="183" idx="0"/>
          </p:cNvCxnSpPr>
          <p:nvPr/>
        </p:nvCxnSpPr>
        <p:spPr>
          <a:xfrm flipH="1">
            <a:off x="1834920" y="2565360"/>
            <a:ext cx="280872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8" name="AutoShape 10"/>
          <p:cNvCxnSpPr>
            <a:stCxn id="186" idx="2"/>
            <a:endCxn id="184" idx="0"/>
          </p:cNvCxnSpPr>
          <p:nvPr/>
        </p:nvCxnSpPr>
        <p:spPr>
          <a:xfrm>
            <a:off x="4642920" y="2565360"/>
            <a:ext cx="108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9" name="AutoShape 11"/>
          <p:cNvCxnSpPr>
            <a:stCxn id="186" idx="2"/>
            <a:endCxn id="185" idx="0"/>
          </p:cNvCxnSpPr>
          <p:nvPr/>
        </p:nvCxnSpPr>
        <p:spPr>
          <a:xfrm>
            <a:off x="4643280" y="2565360"/>
            <a:ext cx="266616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90" name="AutoShape 12"/>
          <p:cNvSpPr/>
          <p:nvPr/>
        </p:nvSpPr>
        <p:spPr>
          <a:xfrm>
            <a:off x="68256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68256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ибернетики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2698920" y="4654440"/>
            <a:ext cx="180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63504" dir="2216091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713120" y="4654440"/>
            <a:ext cx="18021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63504" dir="221609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73092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  <a:effectLst>
            <a:outerShdw dist="63504" dir="2216091" blurRad="0" rotWithShape="0">
              <a:srgbClr val="ff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2698920" y="5734080"/>
            <a:ext cx="1800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Экономически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7131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латны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урс английского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67309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редоставление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бщежи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98" name="AutoShape 24"/>
          <p:cNvCxnSpPr>
            <a:stCxn id="190" idx="2"/>
            <a:endCxn id="191" idx="0"/>
          </p:cNvCxnSpPr>
          <p:nvPr/>
        </p:nvCxnSpPr>
        <p:spPr>
          <a:xfrm>
            <a:off x="158220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199" name="AutoShape 26"/>
          <p:cNvCxnSpPr>
            <a:stCxn id="192" idx="2"/>
            <a:endCxn id="195" idx="0"/>
          </p:cNvCxnSpPr>
          <p:nvPr/>
        </p:nvCxnSpPr>
        <p:spPr>
          <a:xfrm>
            <a:off x="359856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0" name="AutoShape 27"/>
          <p:cNvCxnSpPr>
            <a:stCxn id="193" idx="2"/>
            <a:endCxn id="196" idx="0"/>
          </p:cNvCxnSpPr>
          <p:nvPr/>
        </p:nvCxnSpPr>
        <p:spPr>
          <a:xfrm flipH="1">
            <a:off x="5613120" y="5230800"/>
            <a:ext cx="216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1" name="AutoShape 29"/>
          <p:cNvCxnSpPr>
            <a:stCxn id="194" idx="2"/>
            <a:endCxn id="197" idx="0"/>
          </p:cNvCxnSpPr>
          <p:nvPr/>
        </p:nvCxnSpPr>
        <p:spPr>
          <a:xfrm>
            <a:off x="763092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sp>
        <p:nvSpPr>
          <p:cNvPr id="202" name="AutoShape 32"/>
          <p:cNvSpPr/>
          <p:nvPr/>
        </p:nvSpPr>
        <p:spPr>
          <a:xfrm>
            <a:off x="3635280" y="127008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Вася Ивано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AutoShape 33"/>
          <p:cNvSpPr/>
          <p:nvPr/>
        </p:nvSpPr>
        <p:spPr>
          <a:xfrm>
            <a:off x="3562200" y="386244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Иван Василье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204" name="AutoShape 34"/>
          <p:cNvCxnSpPr>
            <a:stCxn id="186" idx="0"/>
            <a:endCxn id="202" idx="2"/>
          </p:cNvCxnSpPr>
          <p:nvPr/>
        </p:nvCxnSpPr>
        <p:spPr>
          <a:xfrm flipV="1">
            <a:off x="4642920" y="1783800"/>
            <a:ext cx="1080" cy="2768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5" name="AutoShape 35"/>
          <p:cNvCxnSpPr>
            <a:stCxn id="190" idx="0"/>
            <a:endCxn id="203" idx="2"/>
          </p:cNvCxnSpPr>
          <p:nvPr/>
        </p:nvCxnSpPr>
        <p:spPr>
          <a:xfrm flipV="1">
            <a:off x="1582560" y="4376160"/>
            <a:ext cx="298872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6" name="AutoShape 36"/>
          <p:cNvCxnSpPr>
            <a:stCxn id="192" idx="0"/>
            <a:endCxn id="203" idx="2"/>
          </p:cNvCxnSpPr>
          <p:nvPr/>
        </p:nvCxnSpPr>
        <p:spPr>
          <a:xfrm flipV="1">
            <a:off x="3598560" y="4376160"/>
            <a:ext cx="97236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7" name="AutoShape 37"/>
          <p:cNvCxnSpPr>
            <a:stCxn id="193" idx="0"/>
            <a:endCxn id="203" idx="2"/>
          </p:cNvCxnSpPr>
          <p:nvPr/>
        </p:nvCxnSpPr>
        <p:spPr>
          <a:xfrm flipH="1" flipV="1">
            <a:off x="4569840" y="4376160"/>
            <a:ext cx="104508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8" name="AutoShape 38"/>
          <p:cNvCxnSpPr>
            <a:stCxn id="194" idx="0"/>
            <a:endCxn id="203" idx="2"/>
          </p:cNvCxnSpPr>
          <p:nvPr/>
        </p:nvCxnSpPr>
        <p:spPr>
          <a:xfrm flipH="1" flipV="1">
            <a:off x="4570200" y="4376160"/>
            <a:ext cx="306144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ет и отчетность по взаиморасчетам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 родителями и студентами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по родительской плат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ыписка квитанций на опла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е 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ечать табеля учета посещаемости дете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 родителям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содержание детей в детском учреждении (ф. 327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дополнительные образовательны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расчета компенсаци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отчета по оплате квитанц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со студентам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я за платное обучение и прочие услуг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о студентами (ф. 809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латное обучени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рочи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561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ый продукт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1С:Бухгалтер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номного учреждения 8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то такое автономное учреждение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кого предназначен этот продукт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а конфигу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обенности учета в автономных учреждения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ункциональные возможности конфигураци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Picture 4" descr="MCj04326400000[1]"/>
          <p:cNvPicPr/>
          <p:nvPr/>
        </p:nvPicPr>
        <p:blipFill>
          <a:blip r:embed="rId7"/>
          <a:stretch/>
        </p:blipFill>
        <p:spPr>
          <a:xfrm>
            <a:off x="6732720" y="4797360"/>
            <a:ext cx="22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тавки о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тавка оплаты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фиксирова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ме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тавка за день (за посещение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цент льготы (скидки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еимуществ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 сравнению 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 «Бухгалтерией для бюджетных учреждений 7.7»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чень ставок оплаты «на одном листе»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Возможность автоматического расчета суммы начисления для любых видов услуг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и изменении тарифов на услуги нужно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сто изменить параметры ставки оплаты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еход с предыдущих верс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Действуют обычные условия апгрейда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Приобрести продукт на условиях апгрейда могут пользователи предыдущих версий программных продуктов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 для бюджетных учреждений 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. Упрощенная система налогообложения. Базовая версия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8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 переходе с указанных программных продуктов предусмотрен механизм переноса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31292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635280" y="364500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25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Что такое автономные учреждения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Автономные учреждения (АУ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коммерческие организации, созданные РФ для выполнения работ, оказания услуг в сферах образования, здравоохранения, науки, культуры, спорта, социальной защиты и других сферах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огут создаваться путем учреждения или изменения типа существующего бюджетного учрежд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Organization Chart 5"/>
          <p:cNvGrpSpPr/>
          <p:nvPr/>
        </p:nvGrpSpPr>
        <p:grpSpPr>
          <a:xfrm>
            <a:off x="1230120" y="3481200"/>
            <a:ext cx="5372280" cy="2486160"/>
            <a:chOff x="1230120" y="3481200"/>
            <a:chExt cx="5372280" cy="2486160"/>
          </a:xfrm>
        </p:grpSpPr>
        <p:cxnSp>
          <p:nvCxnSpPr>
            <p:cNvPr id="100" name="_s1028"/>
            <p:cNvCxnSpPr>
              <a:stCxn id="101" idx="2"/>
              <a:endCxn id="102" idx="0"/>
            </p:cNvCxnSpPr>
            <p:nvPr/>
          </p:nvCxnSpPr>
          <p:spPr>
            <a:xfrm rot="5400000">
              <a:off x="3344400" y="3320280"/>
              <a:ext cx="182520" cy="148644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1" idx="2"/>
            </p:cNvCxnSpPr>
            <p:nvPr/>
          </p:nvCxnSpPr>
          <p:spPr>
            <a:xfrm flipV="1" rot="16200000">
              <a:off x="5127840" y="3022560"/>
              <a:ext cx="182520" cy="208116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1" idx="2"/>
            </p:cNvCxnSpPr>
            <p:nvPr/>
          </p:nvCxnSpPr>
          <p:spPr>
            <a:xfrm flipV="1" rot="16200000">
              <a:off x="4642200" y="3508200"/>
              <a:ext cx="182520" cy="11095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0"/>
              <a:endCxn id="101" idx="2"/>
            </p:cNvCxnSpPr>
            <p:nvPr/>
          </p:nvCxnSpPr>
          <p:spPr>
            <a:xfrm flipV="1" rot="16200000">
              <a:off x="4185000" y="3965400"/>
              <a:ext cx="182520" cy="1951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302720" y="5183640"/>
              <a:ext cx="141480" cy="79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503160" y="5183280"/>
              <a:ext cx="141480" cy="80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11" idx="0"/>
              <a:endCxn id="102" idx="2"/>
            </p:cNvCxnSpPr>
            <p:nvPr/>
          </p:nvCxnSpPr>
          <p:spPr>
            <a:xfrm flipV="1" rot="16200000">
              <a:off x="3242160" y="3966480"/>
              <a:ext cx="181800" cy="128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16" idx="0"/>
              <a:endCxn id="102" idx="2"/>
            </p:cNvCxnSpPr>
            <p:nvPr/>
          </p:nvCxnSpPr>
          <p:spPr>
            <a:xfrm flipH="1" flipV="1" rot="5400000">
              <a:off x="2185200" y="4189680"/>
              <a:ext cx="181800" cy="835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6"/>
            <p:cNvSpPr/>
            <p:nvPr/>
          </p:nvSpPr>
          <p:spPr>
            <a:xfrm>
              <a:off x="1801440" y="4154760"/>
              <a:ext cx="178308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1230120" y="4698000"/>
              <a:ext cx="12571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гражданином или юрлицо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2715840" y="4698000"/>
              <a:ext cx="25153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Государственное </a:t>
              </a:r>
              <a:br>
                <a:rPr sz="1200"/>
              </a:b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РФ, субъектом РФ, муниципальным образование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4876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_s1040"/>
            <p:cNvSpPr/>
            <p:nvPr/>
          </p:nvSpPr>
          <p:spPr>
            <a:xfrm>
              <a:off x="40878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39733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48877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5916600" y="4154760"/>
              <a:ext cx="68580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1" name="_s1044"/>
            <p:cNvSpPr/>
            <p:nvPr/>
          </p:nvSpPr>
          <p:spPr>
            <a:xfrm>
              <a:off x="3287520" y="3481200"/>
              <a:ext cx="1783080" cy="49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споряжение Правительства РФ №1313-р от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3.09.2008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О реализации указа Президента об оценке эффе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ятельности органов местного самоуправлен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ородских округов и муниципальных районов»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я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по которым динамика роста свидетельствует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ффективности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рганов местного самоуправления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сфере организации муниципального управления, являются: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ля муниципальных автономных учреждений от общего числа муниципальных учреждений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бюджетных и автономных) в городском округе (муниципальном районе). Этот показатель позволяет оценить степень внедрен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ого типа муниципальных учреждени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автономных учреждений, большая финансова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изационная самостоятельность которых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воляет эффективнее управлять имеющимис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беспечивая при этом рост заработной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латы и улучшение качества предоставляемых услуг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поряжение от 17 ноября 2008 г. №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663-р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сновные направления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авительства Российской Федерации»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ериод до 2012 год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чественное и доступное здравоохранени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стимулировать изменение организационно-правовых форм, в том числе преобразование бюджетных учреждений здравоохранения в автономные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2012 году до 15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 процентов таких учреждений перейдут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другие организационно-правовые формы, в том числе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дошко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принять меры к постепенному изменению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х форм дошкольных учреждений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лексная модернизация высшего профессиона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Активизируется работа по внедрению нормативно-подушевых механизмов оплаты образовательных услуг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одновременным переводом образовательных учреждений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культур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Предстоит начать поэтапный переход к новым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м формам организаций культуры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е учрежд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ивное государство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Будет установлен с 1 января 2009 г. порядок формирования и финансового обеспечения выполнения государственных заданий на оказание государственных услуг… Это … создаст стимулы для более широкого участия в предоставлении государственных услуг федеральным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ми учреждениям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ля кого предназначен продукт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0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дукт предназначен для автоматизации бухгалтерского учета автономных учреждений, созданных в соответствии с ФЗ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Об автономных учреждениях» от 03.11.2006 года №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74-ФЗ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ные черты автономных учреждений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едут учет на хозрасчетном плане счетов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утв. приказом Минфина от 31.10.2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№ 94н),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чно коммерческим организация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нансирование основной деятельности осуществляется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 бюджета в соответствии с заданием учредител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осудар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гут оказывать услуги за плат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самостоятельно распоряжаться доходам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полагаем, что продукт с большой вероятностью подойдет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другим некоммерческим организациям (НКО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Organization Chart 4"/>
          <p:cNvGrpSpPr/>
          <p:nvPr/>
        </p:nvGrpSpPr>
        <p:grpSpPr>
          <a:xfrm>
            <a:off x="866520" y="4834080"/>
            <a:ext cx="5207400" cy="1553040"/>
            <a:chOff x="866520" y="4834080"/>
            <a:chExt cx="5207400" cy="1553040"/>
          </a:xfrm>
        </p:grpSpPr>
        <p:cxnSp>
          <p:nvCxnSpPr>
            <p:cNvPr id="128" name="_s3076"/>
            <p:cNvCxnSpPr>
              <a:stCxn id="129" idx="2"/>
              <a:endCxn id="130" idx="0"/>
            </p:cNvCxnSpPr>
            <p:nvPr/>
          </p:nvCxnSpPr>
          <p:spPr>
            <a:xfrm rot="5400000">
              <a:off x="2940480" y="4515480"/>
              <a:ext cx="126000" cy="1440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29" idx="2"/>
            </p:cNvCxnSpPr>
            <p:nvPr/>
          </p:nvCxnSpPr>
          <p:spPr>
            <a:xfrm flipV="1" rot="16200000">
              <a:off x="4668480" y="4226400"/>
              <a:ext cx="126000" cy="201672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29" idx="2"/>
            </p:cNvCxnSpPr>
            <p:nvPr/>
          </p:nvCxnSpPr>
          <p:spPr>
            <a:xfrm flipV="1" rot="16200000">
              <a:off x="4198320" y="4696560"/>
              <a:ext cx="126000" cy="10764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79"/>
            <p:cNvCxnSpPr>
              <a:stCxn id="136" idx="0"/>
              <a:endCxn id="129" idx="2"/>
            </p:cNvCxnSpPr>
            <p:nvPr/>
          </p:nvCxnSpPr>
          <p:spPr>
            <a:xfrm flipV="1" rot="16200000">
              <a:off x="3754440" y="5140440"/>
              <a:ext cx="126000" cy="189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3821760" y="5691600"/>
              <a:ext cx="18180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81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46680" y="5692680"/>
              <a:ext cx="181800" cy="77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082"/>
            <p:cNvCxnSpPr>
              <a:stCxn id="139" idx="0"/>
              <a:endCxn id="130" idx="2"/>
            </p:cNvCxnSpPr>
            <p:nvPr/>
          </p:nvCxnSpPr>
          <p:spPr>
            <a:xfrm flipV="1" rot="16200000">
              <a:off x="2841120" y="4990680"/>
              <a:ext cx="126360" cy="124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83"/>
            <p:cNvCxnSpPr>
              <a:stCxn id="144" idx="0"/>
              <a:endCxn id="130" idx="2"/>
            </p:cNvCxnSpPr>
            <p:nvPr/>
          </p:nvCxnSpPr>
          <p:spPr>
            <a:xfrm flipH="1" flipV="1" rot="5400000">
              <a:off x="1817280" y="5207400"/>
              <a:ext cx="126360" cy="80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84"/>
            <p:cNvSpPr/>
            <p:nvPr/>
          </p:nvSpPr>
          <p:spPr>
            <a:xfrm>
              <a:off x="1419480" y="5298120"/>
              <a:ext cx="1728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4" name="_s3085"/>
            <p:cNvSpPr/>
            <p:nvPr/>
          </p:nvSpPr>
          <p:spPr>
            <a:xfrm>
              <a:off x="866520" y="5674680"/>
              <a:ext cx="1218960" cy="315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9" name="_s3086"/>
            <p:cNvSpPr/>
            <p:nvPr/>
          </p:nvSpPr>
          <p:spPr>
            <a:xfrm>
              <a:off x="2305800" y="5674680"/>
              <a:ext cx="2437920" cy="315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Государственное 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1" name="_s3087"/>
            <p:cNvSpPr/>
            <p:nvPr/>
          </p:nvSpPr>
          <p:spPr>
            <a:xfrm>
              <a:off x="2085480" y="6171120"/>
              <a:ext cx="132840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8" name="_s3088"/>
            <p:cNvSpPr/>
            <p:nvPr/>
          </p:nvSpPr>
          <p:spPr>
            <a:xfrm>
              <a:off x="3636000" y="6171120"/>
              <a:ext cx="1330200" cy="216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6" name="_s3089"/>
            <p:cNvSpPr/>
            <p:nvPr/>
          </p:nvSpPr>
          <p:spPr>
            <a:xfrm>
              <a:off x="3524760" y="5298120"/>
              <a:ext cx="77508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4" name="_s3090"/>
            <p:cNvSpPr/>
            <p:nvPr/>
          </p:nvSpPr>
          <p:spPr>
            <a:xfrm>
              <a:off x="4412520" y="5298120"/>
              <a:ext cx="77400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2" name="_s3091"/>
            <p:cNvSpPr/>
            <p:nvPr/>
          </p:nvSpPr>
          <p:spPr>
            <a:xfrm>
              <a:off x="5408280" y="5298120"/>
              <a:ext cx="66564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29" name="_s3092"/>
            <p:cNvSpPr/>
            <p:nvPr/>
          </p:nvSpPr>
          <p:spPr>
            <a:xfrm>
              <a:off x="2859120" y="4834080"/>
              <a:ext cx="1730160" cy="3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ункциональные возмож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фигураци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587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целевого финансир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основн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НД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регламентированной отчетност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пециализированные функц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ля образовательных учреждений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по родительской плат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за платное обучение студент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32:40Z</dcterms:created>
  <dc:creator/>
  <dc:description/>
  <dc:language>en-US</dc:language>
  <cp:lastModifiedBy>0</cp:lastModifiedBy>
  <dcterms:modified xsi:type="dcterms:W3CDTF">2009-04-02T08:57:38Z</dcterms:modified>
  <cp:revision>320</cp:revision>
  <dc:subject/>
  <dc:title/>
</cp:coreProperties>
</file>