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AFEE-5346-4192-9177-CFCB7D8176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401C-88C1-4C21-B3A7-AE0D76D5A8EB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D056-F035-4837-8CA6-E050814CCE62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975A-0B78-4B96-81E8-732D30A657B6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B3EE-C68C-4BE3-91FD-26D8718812C0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A68F-59C2-4BF9-AD82-4B7391B58F59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A8AA-5868-4DE2-B588-A218DBCBCBF7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2226-7921-46AC-ABF3-4987B2F9EEAA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4A30-D5F3-445F-BB3C-F504D32C9EF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C807-C809-46DC-8502-6CD5C167BFF7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4DE1-3A23-47C2-A4A8-934ECA7F30A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CDD1-7B84-44AE-A422-35E151B23670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A803-C36A-44BF-AED2-464CD02689D4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67A3-038F-4CC7-906E-91BF92EBCA4B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AD79-23B1-4B10-896D-86F30194FCED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67F9-6ED7-4866-BA47-BD0C2AF52E1F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56C7-11F7-4199-99E9-401C0983AD35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C6C2-A986-4187-8ED0-7BA10D306332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293A-8DC7-40F3-A7DF-E3C182D5E54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7436-70CE-4CF8-AA22-115207DEFF0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434C-7C4B-4214-99F1-87EB85F4D3E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8A51-72D5-4A6B-B092-7693A498BFB9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A22E-1A79-4371-8AB1-5CD9DE9AA488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4B68-5772-4215-B7C5-C97E5C7E7E61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9B11-C0CF-4D15-8342-5269A59D4521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D00D-525A-4A99-9B15-645A7B6987A7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60C7-10B7-4299-8959-7A01D7C7EB9F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3F41-196C-47B2-8FE4-8B146F203BE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2877-2533-491E-BA7D-7AC9B24DE8A5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099A-B211-48C0-982B-7FE4BE8A8B01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B7CD-189F-483C-BBE0-4AE4E7CCF379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A4AD-C8B5-42AF-A757-08066D81B77B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BB4E-8065-41EA-8BE7-7BF5494776CC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25A2-8012-43E3-8EC8-DF3B5635DA72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546C-14BE-48E9-9528-6C7E535F3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22E5-D113-4B9E-9B2B-132CDE9AE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79AF-EB07-4A6D-B5D3-C0760ED7B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9F81-E557-411F-B4AC-86AE16583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745A-9417-4608-BC4C-5A798F651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98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40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98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40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7DCC-293F-45C1-AB74-2697E9934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B6A1-1AAF-49FC-8F33-6777DA48E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E692B-3309-4DC1-BCEA-689E8C1A6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06AB-2F32-45F4-B86F-019902F58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BD4B-F6AA-4564-82A9-7EFEDB4E8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38DE-DAF5-4DBD-9F23-53054CB2E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3C03E-51C2-4BBE-9FC3-FCA48F5D7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VIDEO_1"/>
          <p:cNvPicPr/>
          <p:nvPr/>
        </p:nvPicPr>
        <p:blipFill>
          <a:blip r:embed="rId2"/>
          <a:stretch/>
        </p:blipFill>
        <p:spPr>
          <a:xfrm>
            <a:off x="0" y="0"/>
            <a:ext cx="9144000" cy="2187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VIDEO_2"/>
          <p:cNvPicPr/>
          <p:nvPr/>
        </p:nvPicPr>
        <p:blipFill>
          <a:blip r:embed="rId3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8245080" y="6624360"/>
            <a:ext cx="86364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E366-D913-489E-B88B-AB2AAF2505DB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7" descr="лого"/>
          <p:cNvPicPr/>
          <p:nvPr/>
        </p:nvPicPr>
        <p:blipFill>
          <a:blip r:embed="rId8"/>
          <a:stretch/>
        </p:blipFill>
        <p:spPr>
          <a:xfrm>
            <a:off x="-36360" y="-100080"/>
            <a:ext cx="1258560" cy="704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лого"/>
          <p:cNvPicPr/>
          <p:nvPr/>
        </p:nvPicPr>
        <p:blipFill>
          <a:blip r:embed="rId3"/>
          <a:stretch/>
        </p:blipFill>
        <p:spPr>
          <a:xfrm>
            <a:off x="0" y="61920"/>
            <a:ext cx="1511280" cy="846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именование мероприятия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547640" y="43164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Дата и место проведения мероприят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050920" y="609300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27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Бухгалтерия автономного учреждения</a:t>
            </a:r>
            <a:endParaRPr b="1" lang="en-US" sz="3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5805360"/>
            <a:ext cx="395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кладчик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лжность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07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целевого финансирования автономного учрежде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едется на счете 86 «Целевое финансирование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Целевое финансирование из бюджета учитывается обособленно от целевых поступлений из других источник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Аналитический учет на счете 86 ведется по источникам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 по статьям расходов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сточник целевых средст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определяет цели (целевой проект),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а которые были предоставлены целевые средств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татьи расходов целевых средст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это конкретные статьи бюджета (сметы) для каждого целевого проект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9" name="Picture 6" descr="1"/>
          <p:cNvPicPr/>
          <p:nvPr/>
        </p:nvPicPr>
        <p:blipFill>
          <a:blip r:embed="rId6"/>
          <a:stretch/>
        </p:blipFill>
        <p:spPr>
          <a:xfrm>
            <a:off x="395280" y="4797360"/>
            <a:ext cx="8209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: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ступление целев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ступление средств целевого финансирова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отражается по кредиту счета 86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700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ами учета денежных средств, капитальных вложений и т. д.</a:t>
            </a:r>
            <a:br>
              <a:rPr sz="1800"/>
            </a:b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(учет ведется по мере фактического получения средств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700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ом 76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«Расчеты с разными дебиторами и кредиторами»</a:t>
            </a:r>
            <a:br>
              <a:rPr sz="1800"/>
            </a:b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(учет ведется по факту принятия решения о выделении средств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Аналитический учет расчетов по целевому финансированию ведется по контрагентам и назначениям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нтрагент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КТО должен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spcAft>
                <a:spcPts val="901"/>
              </a:spcAft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значение целевых средств –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ЧТО должен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Членские взносы за январь 2009 г.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Членские взносы за февраль 2009 г.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Целевая программа развития образования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2" name="Picture 6" descr="2"/>
          <p:cNvPicPr/>
          <p:nvPr/>
        </p:nvPicPr>
        <p:blipFill>
          <a:blip r:embed="rId10"/>
          <a:stretch/>
        </p:blipFill>
        <p:spPr>
          <a:xfrm>
            <a:off x="395280" y="5445000"/>
            <a:ext cx="8280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: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использование целев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спользование средств целевого финансирова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отражается по дебету счета 86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а финансирование капитальных вложен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ом 83 «Добавочный капитал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а финансирование текущих расход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ами учета затрат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0 «Основное производство» и 26 «Общехозяйственные расходы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5" name="Picture 8" descr="4"/>
          <p:cNvPicPr/>
          <p:nvPr/>
        </p:nvPicPr>
        <p:blipFill>
          <a:blip r:embed="rId6"/>
          <a:stretch/>
        </p:blipFill>
        <p:spPr>
          <a:xfrm>
            <a:off x="468360" y="5229360"/>
            <a:ext cx="8353440" cy="131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"/>
          <p:cNvPicPr/>
          <p:nvPr/>
        </p:nvPicPr>
        <p:blipFill>
          <a:blip r:embed="rId7"/>
          <a:stretch/>
        </p:blipFill>
        <p:spPr>
          <a:xfrm>
            <a:off x="468360" y="2708280"/>
            <a:ext cx="66247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 учета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новн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08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Бухгалтерский уче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объектам основных средств АУ начисляетс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е амортизация, а износ на забалансовом счете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0 «Износ основных средств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зависимо от источника их приобретени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жемесячно, линейным способом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алоговый уче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ли объект основных средств приобретен за счет доходов от предпринимательской деятельности и используется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для ее осуществления, он подлежит амортизации в порядке, установленном главой 25 НК Р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 этом случае возникает постоянная разниц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 учета НДС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Требования законодательств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имуществу, приобретенному за счет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редств целевого финансирования,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ДС должен быть включен в стоимость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имуществу, приобретенному за счет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доходов от предпринимательской деятельности,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ДС можно принять к вычету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еализация в программ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араметр учетной политики «Организация осуществляет предпринимательскую деятельность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сть предпринимательская деятельность –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бухгалтер управляет включением НДС в стоимость самостоятельно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т предпринимательской деятельности –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ДС будет включаться в стоимость всегд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егламентированной отчетност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ализована специализированная Форма № 1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Бухгалтерский баланс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 учетом рекомендаций Минфина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 разделу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«Капитал и резервы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втоматизировано заполнение Формы № 6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Отчет о целевом использовании полученных средств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данным бухгалтерского учет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втоматизировано формирование регистров налогового учета целевых средст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егистр учета поступлений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егистр учета использования целевых поступлен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8"/>
          <a:stretch/>
        </p:blipFill>
        <p:spPr>
          <a:xfrm>
            <a:off x="755640" y="1268280"/>
            <a:ext cx="6583320" cy="5324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9"/>
          <a:stretch/>
        </p:blipFill>
        <p:spPr>
          <a:xfrm>
            <a:off x="1143000" y="1428840"/>
            <a:ext cx="6215040" cy="516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10"/>
          <a:stretch/>
        </p:blipFill>
        <p:spPr>
          <a:xfrm>
            <a:off x="1187280" y="1733400"/>
            <a:ext cx="6624720" cy="4859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11"/>
          <a:stretch/>
        </p:blipFill>
        <p:spPr>
          <a:xfrm>
            <a:off x="1692360" y="2205000"/>
            <a:ext cx="6119640" cy="43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Специализированные функции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для образовательных учреждений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635280" y="1268280"/>
            <a:ext cx="48261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расчетов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о родительской плате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одительская плата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за содержание детей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 детских учреждениях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ата за дополнительные образовательные услуги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70" name="Picture 17" descr="MPj04337310000[1]"/>
          <p:cNvPicPr/>
          <p:nvPr/>
        </p:nvPicPr>
        <p:blipFill>
          <a:blip r:embed="rId4"/>
          <a:stretch/>
        </p:blipFill>
        <p:spPr>
          <a:xfrm>
            <a:off x="5651640" y="3933720"/>
            <a:ext cx="1697040" cy="2505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Pj04090480000[1]"/>
          <p:cNvPicPr/>
          <p:nvPr/>
        </p:nvPicPr>
        <p:blipFill>
          <a:blip r:embed="rId5"/>
          <a:stretch/>
        </p:blipFill>
        <p:spPr>
          <a:xfrm>
            <a:off x="357120" y="1428840"/>
            <a:ext cx="3219480" cy="2143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24000" y="4076640"/>
            <a:ext cx="4825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расчетов со студентами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атное обучение студентов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рочие услуги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предоставление общежития)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едение списков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етей и студент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24000" y="119700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 отдельных справочниках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равочник «Дети»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равочник «Студенты»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дельно по учреждениям (организациям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личие понятий «Ребенок» и «Студент»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лемент справочника «Дети» соответствует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нтрагенту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лемент справочника «Студенты» соответствует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оговору с контрагентом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44"/>
          <p:cNvSpPr/>
          <p:nvPr/>
        </p:nvSpPr>
        <p:spPr>
          <a:xfrm>
            <a:off x="395280" y="5661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оговоры контрагентов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" name="AutoShape 43"/>
          <p:cNvSpPr/>
          <p:nvPr/>
        </p:nvSpPr>
        <p:spPr>
          <a:xfrm>
            <a:off x="395280" y="2781360"/>
            <a:ext cx="83534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оговоры контрагентов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AutoShape 42"/>
          <p:cNvSpPr/>
          <p:nvPr/>
        </p:nvSpPr>
        <p:spPr>
          <a:xfrm>
            <a:off x="395280" y="4581360"/>
            <a:ext cx="835344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Студ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" name="AutoShape 41"/>
          <p:cNvSpPr/>
          <p:nvPr/>
        </p:nvSpPr>
        <p:spPr>
          <a:xfrm>
            <a:off x="395280" y="198900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ети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395280" y="378936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Контраг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AutoShape 39"/>
          <p:cNvSpPr/>
          <p:nvPr/>
        </p:nvSpPr>
        <p:spPr>
          <a:xfrm>
            <a:off x="395280" y="119700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Контраг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азличие понятий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«Ребенок» и «Студент»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82692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Младшая группа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63528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ружок рисован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630072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ружок плаван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3635280" y="2060640"/>
            <a:ext cx="201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cc00"/>
            </a:solidFill>
            <a:miter/>
          </a:ln>
          <a:effectLst>
            <a:outerShdw dist="63504" dir="2216091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Ребенок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Вася Ивано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187" name="AutoShape 9"/>
          <p:cNvCxnSpPr>
            <a:stCxn id="186" idx="2"/>
            <a:endCxn id="183" idx="0"/>
          </p:cNvCxnSpPr>
          <p:nvPr/>
        </p:nvCxnSpPr>
        <p:spPr>
          <a:xfrm flipH="1">
            <a:off x="1834920" y="2565360"/>
            <a:ext cx="280872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88" name="AutoShape 10"/>
          <p:cNvCxnSpPr>
            <a:stCxn id="186" idx="2"/>
            <a:endCxn id="184" idx="0"/>
          </p:cNvCxnSpPr>
          <p:nvPr/>
        </p:nvCxnSpPr>
        <p:spPr>
          <a:xfrm>
            <a:off x="4642920" y="2565360"/>
            <a:ext cx="108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89" name="AutoShape 11"/>
          <p:cNvCxnSpPr>
            <a:stCxn id="186" idx="2"/>
            <a:endCxn id="185" idx="0"/>
          </p:cNvCxnSpPr>
          <p:nvPr/>
        </p:nvCxnSpPr>
        <p:spPr>
          <a:xfrm>
            <a:off x="4643280" y="2565360"/>
            <a:ext cx="266616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90" name="AutoShape 12"/>
          <p:cNvSpPr/>
          <p:nvPr/>
        </p:nvSpPr>
        <p:spPr>
          <a:xfrm>
            <a:off x="682560" y="465444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cc00"/>
            </a:solidFill>
            <a:miter/>
          </a:ln>
          <a:effectLst>
            <a:outerShdw dist="63504" dir="2216091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68256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Факульте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ибернетики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" name="AutoShape 14"/>
          <p:cNvSpPr/>
          <p:nvPr/>
        </p:nvSpPr>
        <p:spPr>
          <a:xfrm>
            <a:off x="2698920" y="4654440"/>
            <a:ext cx="180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99cc00"/>
            </a:solidFill>
            <a:miter/>
          </a:ln>
          <a:effectLst>
            <a:outerShdw dist="63504" dir="2216091" blurRad="0" rotWithShape="0">
              <a:srgbClr val="ccf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4713120" y="4654440"/>
            <a:ext cx="18021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63504" dir="221609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6730920" y="465444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99cc"/>
            </a:solidFill>
            <a:miter/>
          </a:ln>
          <a:effectLst>
            <a:outerShdw dist="63504" dir="2216091" blurRad="0" rotWithShape="0">
              <a:srgbClr val="ff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2698920" y="5734080"/>
            <a:ext cx="1800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Факультет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Экономический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471312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Платный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урс английского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7" name="AutoShape 19"/>
          <p:cNvSpPr/>
          <p:nvPr/>
        </p:nvSpPr>
        <p:spPr>
          <a:xfrm>
            <a:off x="673092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Предоставление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общежит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198" name="AutoShape 24"/>
          <p:cNvCxnSpPr>
            <a:stCxn id="190" idx="2"/>
            <a:endCxn id="191" idx="0"/>
          </p:cNvCxnSpPr>
          <p:nvPr/>
        </p:nvCxnSpPr>
        <p:spPr>
          <a:xfrm>
            <a:off x="158220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199" name="AutoShape 26"/>
          <p:cNvCxnSpPr>
            <a:stCxn id="192" idx="2"/>
            <a:endCxn id="195" idx="0"/>
          </p:cNvCxnSpPr>
          <p:nvPr/>
        </p:nvCxnSpPr>
        <p:spPr>
          <a:xfrm>
            <a:off x="359856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200" name="AutoShape 27"/>
          <p:cNvCxnSpPr>
            <a:stCxn id="193" idx="2"/>
            <a:endCxn id="196" idx="0"/>
          </p:cNvCxnSpPr>
          <p:nvPr/>
        </p:nvCxnSpPr>
        <p:spPr>
          <a:xfrm flipH="1">
            <a:off x="5613120" y="5230800"/>
            <a:ext cx="216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201" name="AutoShape 29"/>
          <p:cNvCxnSpPr>
            <a:stCxn id="194" idx="2"/>
            <a:endCxn id="197" idx="0"/>
          </p:cNvCxnSpPr>
          <p:nvPr/>
        </p:nvCxnSpPr>
        <p:spPr>
          <a:xfrm>
            <a:off x="763092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sp>
        <p:nvSpPr>
          <p:cNvPr id="202" name="AutoShape 32"/>
          <p:cNvSpPr/>
          <p:nvPr/>
        </p:nvSpPr>
        <p:spPr>
          <a:xfrm>
            <a:off x="3635280" y="1270080"/>
            <a:ext cx="20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2320">
            <a:solidFill>
              <a:srgbClr val="ff99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Контрагент</a:t>
            </a:r>
            <a:br>
              <a:rPr sz="1600"/>
            </a:b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Вася Иванов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3" name="AutoShape 33"/>
          <p:cNvSpPr/>
          <p:nvPr/>
        </p:nvSpPr>
        <p:spPr>
          <a:xfrm>
            <a:off x="3562200" y="3862440"/>
            <a:ext cx="20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2320">
            <a:solidFill>
              <a:srgbClr val="ff99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Контрагент</a:t>
            </a:r>
            <a:br>
              <a:rPr sz="1600"/>
            </a:b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Иван Васильев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204" name="AutoShape 34"/>
          <p:cNvCxnSpPr>
            <a:stCxn id="186" idx="0"/>
            <a:endCxn id="202" idx="2"/>
          </p:cNvCxnSpPr>
          <p:nvPr/>
        </p:nvCxnSpPr>
        <p:spPr>
          <a:xfrm flipV="1">
            <a:off x="4642920" y="1783800"/>
            <a:ext cx="1080" cy="27684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5" name="AutoShape 35"/>
          <p:cNvCxnSpPr>
            <a:stCxn id="190" idx="0"/>
            <a:endCxn id="203" idx="2"/>
          </p:cNvCxnSpPr>
          <p:nvPr/>
        </p:nvCxnSpPr>
        <p:spPr>
          <a:xfrm flipV="1">
            <a:off x="1582560" y="4376160"/>
            <a:ext cx="298872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6" name="AutoShape 36"/>
          <p:cNvCxnSpPr>
            <a:stCxn id="192" idx="0"/>
            <a:endCxn id="203" idx="2"/>
          </p:cNvCxnSpPr>
          <p:nvPr/>
        </p:nvCxnSpPr>
        <p:spPr>
          <a:xfrm flipV="1">
            <a:off x="3598560" y="4376160"/>
            <a:ext cx="97236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7" name="AutoShape 37"/>
          <p:cNvCxnSpPr>
            <a:stCxn id="193" idx="0"/>
            <a:endCxn id="203" idx="2"/>
          </p:cNvCxnSpPr>
          <p:nvPr/>
        </p:nvCxnSpPr>
        <p:spPr>
          <a:xfrm flipH="1" flipV="1">
            <a:off x="4569840" y="4376160"/>
            <a:ext cx="104508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8" name="AutoShape 38"/>
          <p:cNvCxnSpPr>
            <a:stCxn id="194" idx="0"/>
            <a:endCxn id="203" idx="2"/>
          </p:cNvCxnSpPr>
          <p:nvPr/>
        </p:nvCxnSpPr>
        <p:spPr>
          <a:xfrm flipH="1" flipV="1">
            <a:off x="4570200" y="4376160"/>
            <a:ext cx="306144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чет и отчетность по взаиморасчетам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с родителями и студентами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счеты по родительской плат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ыписка квитанций на оплату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ачисление родительской платы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ечать табеля учета посещаемости дете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по расчетам с родителям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содержание детей в детском учреждении (ф. 327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дополнительные образовательные услуг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расчета компенсации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одительской платы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отчета по оплате квитанц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счеты со студентам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ачисления за платное обучение и прочие услуг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по расчетам со студентами (ф. 809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платное обучени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прочие услуг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 чем пойдет речь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75610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вый продукт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1С:Бухгалтер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втономного учреждения 8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то такое автономное учреждение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ля кого предназначен этот продукт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арактеристика конфигураци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собенности учета в автономных учреждения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Функциональные возможности конфигураци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6" name="Picture 4" descr="MCj04326400000[1]"/>
          <p:cNvPicPr/>
          <p:nvPr/>
        </p:nvPicPr>
        <p:blipFill>
          <a:blip r:embed="rId7"/>
          <a:stretch/>
        </p:blipFill>
        <p:spPr>
          <a:xfrm>
            <a:off x="6732720" y="4797360"/>
            <a:ext cx="2233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тавки опла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тавка оплаты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фиксированная ставка за месяц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еременная ставка за месяц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ставка за день (за посещение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оцент льготы (скидки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реимущества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о сравнению 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 «Бухгалтерией для бюджетных учреждений 7.7»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еречень ставок оплаты «на одном листе»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Возможность автоматического расчета суммы начисления для любых видов услуг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и изменении тарифов на услуги нужно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осто изменить параметры ставки оплаты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ереход с предыдущих версий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spcAft>
                <a:spcPts val="13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Действуют обычные условия апгрейда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spcAft>
                <a:spcPts val="13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Приобрести продукт на условиях апгрейда могут пользователи предыдущих версий программных продуктов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 для бюджетных учреждений 7.7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7.7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7.7. Упрощенная система налогообложения. Базовая версия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8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и переходе с указанных программных продуктов предусмотрен механизм переноса данных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050920" y="609300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312920"/>
            <a:ext cx="914400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Бухгалтерия автономного учреждения</a:t>
            </a:r>
            <a:endParaRPr b="1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635280" y="3645000"/>
            <a:ext cx="450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25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Что такое автономные учреждения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Автономные учреждения (АУ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коммерческие организации, созданные РФ для выполнения работ, оказания услуг в сферах образования, здравоохранения, науки, культуры, спорта, социальной защиты и других сферах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огут создаваться путем учреждения или изменения типа существующего бюджетного учреждени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Organization Chart 5"/>
          <p:cNvGrpSpPr/>
          <p:nvPr/>
        </p:nvGrpSpPr>
        <p:grpSpPr>
          <a:xfrm>
            <a:off x="1230120" y="3481200"/>
            <a:ext cx="5372280" cy="2486160"/>
            <a:chOff x="1230120" y="3481200"/>
            <a:chExt cx="5372280" cy="2486160"/>
          </a:xfrm>
        </p:grpSpPr>
        <p:cxnSp>
          <p:nvCxnSpPr>
            <p:cNvPr id="100" name="_s1028"/>
            <p:cNvCxnSpPr>
              <a:stCxn id="101" idx="2"/>
              <a:endCxn id="102" idx="0"/>
            </p:cNvCxnSpPr>
            <p:nvPr/>
          </p:nvCxnSpPr>
          <p:spPr>
            <a:xfrm rot="5400000">
              <a:off x="3344400" y="3320280"/>
              <a:ext cx="182520" cy="148644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29"/>
            <p:cNvCxnSpPr>
              <a:stCxn id="104" idx="0"/>
              <a:endCxn id="101" idx="2"/>
            </p:cNvCxnSpPr>
            <p:nvPr/>
          </p:nvCxnSpPr>
          <p:spPr>
            <a:xfrm flipV="1" rot="16200000">
              <a:off x="5127840" y="3022560"/>
              <a:ext cx="182520" cy="208116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1" idx="2"/>
            </p:cNvCxnSpPr>
            <p:nvPr/>
          </p:nvCxnSpPr>
          <p:spPr>
            <a:xfrm flipV="1" rot="16200000">
              <a:off x="4642200" y="3508200"/>
              <a:ext cx="182520" cy="110952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8" idx="0"/>
              <a:endCxn id="101" idx="2"/>
            </p:cNvCxnSpPr>
            <p:nvPr/>
          </p:nvCxnSpPr>
          <p:spPr>
            <a:xfrm flipV="1" rot="16200000">
              <a:off x="4185000" y="3965400"/>
              <a:ext cx="182520" cy="19512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2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4302720" y="5183640"/>
              <a:ext cx="141480" cy="799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3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3503160" y="5183280"/>
              <a:ext cx="141480" cy="801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34"/>
            <p:cNvCxnSpPr>
              <a:stCxn id="111" idx="0"/>
              <a:endCxn id="102" idx="2"/>
            </p:cNvCxnSpPr>
            <p:nvPr/>
          </p:nvCxnSpPr>
          <p:spPr>
            <a:xfrm flipV="1" rot="16200000">
              <a:off x="3242160" y="3966480"/>
              <a:ext cx="181800" cy="1281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35"/>
            <p:cNvCxnSpPr>
              <a:stCxn id="116" idx="0"/>
              <a:endCxn id="102" idx="2"/>
            </p:cNvCxnSpPr>
            <p:nvPr/>
          </p:nvCxnSpPr>
          <p:spPr>
            <a:xfrm flipH="1" flipV="1" rot="5400000">
              <a:off x="2185200" y="4189680"/>
              <a:ext cx="181800" cy="835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1036"/>
            <p:cNvSpPr/>
            <p:nvPr/>
          </p:nvSpPr>
          <p:spPr>
            <a:xfrm>
              <a:off x="1801440" y="4154760"/>
              <a:ext cx="178308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Учреждения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6" name="_s1037"/>
            <p:cNvSpPr/>
            <p:nvPr/>
          </p:nvSpPr>
          <p:spPr>
            <a:xfrm>
              <a:off x="1230120" y="4698000"/>
              <a:ext cx="1257120" cy="815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Част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(создается гражданином или юрлицом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2715840" y="4698000"/>
              <a:ext cx="2515320" cy="815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Государственное </a:t>
              </a:r>
              <a:br>
                <a:rPr sz="1200"/>
              </a:b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или муниципаль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(создается РФ, субъектом РФ, муниципальным образованием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2487600" y="5654520"/>
              <a:ext cx="1371600" cy="312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Бюджетное (Б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0" name="_s1040"/>
            <p:cNvSpPr/>
            <p:nvPr/>
          </p:nvSpPr>
          <p:spPr>
            <a:xfrm>
              <a:off x="4087800" y="5654520"/>
              <a:ext cx="1371600" cy="3128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втономное (А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8" name="_s1041"/>
            <p:cNvSpPr/>
            <p:nvPr/>
          </p:nvSpPr>
          <p:spPr>
            <a:xfrm>
              <a:off x="3973320" y="4154760"/>
              <a:ext cx="79992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НО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6" name="_s1042"/>
            <p:cNvSpPr/>
            <p:nvPr/>
          </p:nvSpPr>
          <p:spPr>
            <a:xfrm>
              <a:off x="4887720" y="4154760"/>
              <a:ext cx="79992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Фонды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4" name="_s1043"/>
            <p:cNvSpPr/>
            <p:nvPr/>
          </p:nvSpPr>
          <p:spPr>
            <a:xfrm>
              <a:off x="5916600" y="4154760"/>
              <a:ext cx="68580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1" name="_s1044"/>
            <p:cNvSpPr/>
            <p:nvPr/>
          </p:nvSpPr>
          <p:spPr>
            <a:xfrm>
              <a:off x="3287520" y="3481200"/>
              <a:ext cx="1783080" cy="49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Некоммерческие организации (НКО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споряжение Правительства РФ №1313-р от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3.09.2008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О реализации указа Президента об оценке эффективности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еятельности органов местного самоуправления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ородских округов и муниципальных районов»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казателям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по которым динамика роста свидетельствует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ффективности деятельност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органов местного самоуправления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сфере организации муниципального управления, являются: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ля муниципальных автономных учреждений от общего числа муниципальных учреждений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бюджетных и автономных) в городском округе (муниципальном районе). Этот показатель позволяет оценить степень внедрени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вого типа муниципальных учреждени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−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автономных учреждений, большая финансова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изационная самостоятельность которых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зволяет эффективнее управлять имеющимис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сурсам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обеспечивая при этом рост заработной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латы и улучшение качества предоставляемых услуг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поряжение от 17 ноября 2008 г. №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663-р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Основные направления деятельности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авительства Российской Федерации»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период до 2012 год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чественное и доступное здравоохранени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следует стимулировать изменение организационно-правовых форм, в том числе преобразование бюджетных учреждений здравоохранения в автономные.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 2012 году до 15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0 процентов таких учреждений перейдут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другие организационно-правовые формы, в том числе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форму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х учреждени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витие дошкольного образ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Следует принять меры к постепенному изменению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рганизационно-правовых форм дошкольных учреждений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плексная модернизация высшего профессионального образ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Активизируется работа по внедрению нормативно-подушевых механизмов оплаты образовательных услуг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 одновременным переводом образовательных учреждений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форму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х учреждени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витие культуры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Предстоит начать поэтапный переход к новым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рганизационно-правовым формам организаций культуры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е учрежден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Эффективное государство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Будет установлен с 1 января 2009 г. порядок формирования и финансового обеспечения выполнения государственных заданий на оказание государственных услуг… Это … создаст стимулы для более широкого участия в предоставлении государственных услуг федеральным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ми учреждениями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ля кого предназначен продукт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0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дукт предназначен для автоматизации бухгалтерского учета автономных учреждений, созданных в соответствии с ФЗ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Об автономных учреждениях» от 03.11.2006 года №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174-ФЗ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арактерные черты автономных учреждений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едут учет на хозрасчетном плане счетов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утв. приказом Минфина от 31.10.2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№ 94н),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налогично коммерческим организациям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инансирование основной деятельности осуществляется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 бюджета в соответствии с заданием учредител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осударства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огут оказывать услуги за плату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самостоятельно распоряжаться доходам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дполагаем, что продукт с большой вероятностью подойдет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другим некоммерческим организациям (НКО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7" name="Organization Chart 4"/>
          <p:cNvGrpSpPr/>
          <p:nvPr/>
        </p:nvGrpSpPr>
        <p:grpSpPr>
          <a:xfrm>
            <a:off x="866520" y="4834080"/>
            <a:ext cx="5207400" cy="1553040"/>
            <a:chOff x="866520" y="4834080"/>
            <a:chExt cx="5207400" cy="1553040"/>
          </a:xfrm>
        </p:grpSpPr>
        <p:cxnSp>
          <p:nvCxnSpPr>
            <p:cNvPr id="128" name="_s3076"/>
            <p:cNvCxnSpPr>
              <a:stCxn id="129" idx="2"/>
              <a:endCxn id="130" idx="0"/>
            </p:cNvCxnSpPr>
            <p:nvPr/>
          </p:nvCxnSpPr>
          <p:spPr>
            <a:xfrm rot="5400000">
              <a:off x="2940480" y="4515480"/>
              <a:ext cx="126000" cy="14400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7"/>
            <p:cNvCxnSpPr>
              <a:stCxn id="132" idx="0"/>
              <a:endCxn id="129" idx="2"/>
            </p:cNvCxnSpPr>
            <p:nvPr/>
          </p:nvCxnSpPr>
          <p:spPr>
            <a:xfrm flipV="1" rot="16200000">
              <a:off x="4668480" y="4226400"/>
              <a:ext cx="126000" cy="201672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3078"/>
            <p:cNvCxnSpPr>
              <a:stCxn id="134" idx="0"/>
              <a:endCxn id="129" idx="2"/>
            </p:cNvCxnSpPr>
            <p:nvPr/>
          </p:nvCxnSpPr>
          <p:spPr>
            <a:xfrm flipV="1" rot="16200000">
              <a:off x="4198320" y="4696560"/>
              <a:ext cx="126000" cy="10764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3079"/>
            <p:cNvCxnSpPr>
              <a:stCxn id="136" idx="0"/>
              <a:endCxn id="129" idx="2"/>
            </p:cNvCxnSpPr>
            <p:nvPr/>
          </p:nvCxnSpPr>
          <p:spPr>
            <a:xfrm flipV="1" rot="16200000">
              <a:off x="3754440" y="5140440"/>
              <a:ext cx="126000" cy="1890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3080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3821760" y="5691600"/>
              <a:ext cx="181800" cy="777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3081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3046680" y="5692680"/>
              <a:ext cx="181800" cy="775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3082"/>
            <p:cNvCxnSpPr>
              <a:stCxn id="139" idx="0"/>
              <a:endCxn id="130" idx="2"/>
            </p:cNvCxnSpPr>
            <p:nvPr/>
          </p:nvCxnSpPr>
          <p:spPr>
            <a:xfrm flipV="1" rot="16200000">
              <a:off x="2841120" y="4990680"/>
              <a:ext cx="126360" cy="1241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3083"/>
            <p:cNvCxnSpPr>
              <a:stCxn id="144" idx="0"/>
              <a:endCxn id="130" idx="2"/>
            </p:cNvCxnSpPr>
            <p:nvPr/>
          </p:nvCxnSpPr>
          <p:spPr>
            <a:xfrm flipH="1" flipV="1" rot="5400000">
              <a:off x="1817280" y="5207400"/>
              <a:ext cx="126360" cy="808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_s3084"/>
            <p:cNvSpPr/>
            <p:nvPr/>
          </p:nvSpPr>
          <p:spPr>
            <a:xfrm>
              <a:off x="1419480" y="5298120"/>
              <a:ext cx="1728720" cy="250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Учреждения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44" name="_s3085"/>
            <p:cNvSpPr/>
            <p:nvPr/>
          </p:nvSpPr>
          <p:spPr>
            <a:xfrm>
              <a:off x="866520" y="5674680"/>
              <a:ext cx="1218960" cy="315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Част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9" name="_s3086"/>
            <p:cNvSpPr/>
            <p:nvPr/>
          </p:nvSpPr>
          <p:spPr>
            <a:xfrm>
              <a:off x="2305800" y="5674680"/>
              <a:ext cx="2437920" cy="315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Государственное или муниципаль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41" name="_s3087"/>
            <p:cNvSpPr/>
            <p:nvPr/>
          </p:nvSpPr>
          <p:spPr>
            <a:xfrm>
              <a:off x="2085480" y="6171120"/>
              <a:ext cx="1328400" cy="21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Бюджетное (Б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8" name="_s3088"/>
            <p:cNvSpPr/>
            <p:nvPr/>
          </p:nvSpPr>
          <p:spPr>
            <a:xfrm>
              <a:off x="3636000" y="6171120"/>
              <a:ext cx="1330200" cy="216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втономное (А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6" name="_s3089"/>
            <p:cNvSpPr/>
            <p:nvPr/>
          </p:nvSpPr>
          <p:spPr>
            <a:xfrm>
              <a:off x="3524760" y="5298120"/>
              <a:ext cx="77508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НО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4" name="_s3090"/>
            <p:cNvSpPr/>
            <p:nvPr/>
          </p:nvSpPr>
          <p:spPr>
            <a:xfrm>
              <a:off x="4412520" y="5298120"/>
              <a:ext cx="77400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Фонды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2" name="_s3091"/>
            <p:cNvSpPr/>
            <p:nvPr/>
          </p:nvSpPr>
          <p:spPr>
            <a:xfrm>
              <a:off x="5408280" y="5298120"/>
              <a:ext cx="66564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29" name="_s3092"/>
            <p:cNvSpPr/>
            <p:nvPr/>
          </p:nvSpPr>
          <p:spPr>
            <a:xfrm>
              <a:off x="2859120" y="4834080"/>
              <a:ext cx="1730160" cy="33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Некоммерческие организации (НКО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ункциональные возможности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фигураци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5872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целевого финансир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учета основных средст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учета НДС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регламентированной отчетност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пециализированные функции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ля образовательных учреждений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расчетов по родительской плат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расчетов за платное обучение студент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32:40Z</dcterms:created>
  <dc:creator/>
  <dc:description/>
  <dc:language>en-US</dc:language>
  <cp:lastModifiedBy>0</cp:lastModifiedBy>
  <dcterms:modified xsi:type="dcterms:W3CDTF">2009-04-02T08:57:38Z</dcterms:modified>
  <cp:revision>320</cp:revision>
  <dc:subject/>
  <dc:title/>
</cp:coreProperties>
</file>