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E2B1-13A8-4F58-A5D0-87577051B5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6D37-3538-44CD-A234-5D36253DDD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AB16-3F3B-409C-912F-1FBE338971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CA6C-82DA-4B65-9AA6-87217319EA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8AC2-4AF0-4712-8210-58140F4CA4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A314-BC69-44E3-B6EE-5C6AC418B3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79BB-516A-4AAE-96A4-8AB89763A1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BE24-EFEE-4FFC-9358-4CB228FBFA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91BE-BF86-4776-81A0-6BDB3C5509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4C09-96CA-4A44-97E3-B60FEFE2BE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09A7-B15D-42F6-998C-2D17A4CD7A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F36D-C5CA-4153-A3FA-B82A0C23A5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22EB-FEA2-49DF-9567-29B98CAB09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352F-E3C1-40D7-AF35-1E0C403BE9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E6A2-7FD4-4E07-A6B7-51D52C0725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ABBE-FE90-4BE4-BCFF-2A3453F3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9739-E065-4E85-A411-D5171A78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C639-6F77-42C6-A4DE-8A89BD5B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8144-1C57-48CF-9B91-A3E90584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7CAC-2CDD-4E23-A3FD-6997C667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672F-3801-4EA2-B5D8-865EBA0E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512C-19AC-48BB-954D-99EBC2FC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5669-D445-426F-BD37-6DA50060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9320-8299-48F0-B786-4568E79A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0BAE-A6F0-4C9B-B70D-89496B2D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59CD-B1B6-4ECD-B49E-B424D154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FBB1-F61A-4685-B31E-1D2EC9D3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B2C8-50DA-4BC4-BB36-0CB4D857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C9BD-8C2F-43E7-BC88-CED2CA59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1976-5A41-49AE-802B-95FEE07A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AE69-C0A9-446B-B866-A5F4502B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76A0-E147-4C71-855B-0BC2E956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1D0A3-8291-45F7-B645-D81CA032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A7512-6E22-41E9-9598-76CC0500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73915-595B-49EC-A391-BBD76CDA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4BF6E-C656-42AC-B863-0CEBC631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842BB-45D5-457D-B7AF-F22970CD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8144-93CC-48D8-B9FB-DA4ACC94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388DF-7BEE-4C78-85B6-AF20DA1D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9C1E5-781C-4D7C-A148-EB5EC62A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94D15-7DFA-4E09-96E1-9A809D43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3914B-2389-4DAB-A8E5-98987956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DB319-8384-4911-B888-5754A0CD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1439D-4BBF-4026-92E0-7923C48B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6F684-C65E-413E-B2E6-3FA1D02A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E72C6-8A96-4FCE-82FC-45C84209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BD4A7-5F79-48BF-9070-736ADC75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57E87-926C-4980-AC05-D4F85F77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4336-B2F2-44D8-8617-A7F5AE86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6CF9E-2969-45F6-ACE5-E819397E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FA947-055D-4E1D-8B4D-6CEE4503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5F264-FC5B-4E6C-B7C4-5B66050E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AF606-AB8D-46E0-8AB7-9688CC39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25CEF-98C9-42C7-BEA8-13101326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14FBF-212F-4895-AD29-41A2DBE8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41E12-31F4-4DC0-8853-BBD25240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D2A39-ED78-4ABF-B57C-66383B1D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1FC14-F182-44AC-9794-79BEBD7D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52D3-5890-433E-95AB-30861239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D9AC-1BCD-47CB-8133-291B48B9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E45B-EFD8-483E-B7E4-0E5BB4B9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13EE-3240-43B5-8A7D-85BAC356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D90F-36B7-4F7A-A5B4-6403298A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2706-69C1-491F-A2E2-08506B841FE7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F3F0-2D44-48FF-85DB-706C34C89B4A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2D6E-7CE1-41EA-B1BC-E609FEA24EBF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316B-DDE2-4419-9190-85CF043F61C9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A8D1-E364-43E8-ABCA-4B44CC815369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A824-6E4B-436E-BA83-2D6E135F5AC4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D95F-ACC0-48A8-9E62-DE0A007B4574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6CD9-F2C4-4C80-9ADF-0D354A66E7C5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ad84c6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Стратегический анализ внешней среды орга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ad84c6"/>
                </a:solidFill>
                <a:uFillTx/>
                <a:latin typeface="Trebuchet MS"/>
              </a:rPr>
              <a:t>Конкурентный анализ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это исследование структуры отрасли, оценка конкурентной позиции отдельных СБЕ дает возможность фирме выбрать оптимальную деловую стратегию, ориентированную на создание долгосрочных конкурентных преимущест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ad84c6"/>
                </a:solidFill>
                <a:latin typeface="Trebuchet MS"/>
              </a:rPr>
              <a:t>Модель пяти конкурентных сил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pic>
        <p:nvPicPr>
          <p:cNvPr id="247" name="Рисунок 3" descr="Q:\Инна\В Г У Э С\Лекции\Стратегический менеджмент - бакалавры\media\image3.jpeg"/>
          <p:cNvPicPr/>
          <p:nvPr/>
        </p:nvPicPr>
        <p:blipFill>
          <a:blip r:embed="rId1"/>
          <a:stretch/>
        </p:blipFill>
        <p:spPr>
          <a:xfrm>
            <a:off x="324000" y="1700280"/>
            <a:ext cx="7929360" cy="4929120"/>
          </a:xfrm>
          <a:prstGeom prst="rect">
            <a:avLst/>
          </a:prstGeom>
          <a:ln w="0">
            <a:noFill/>
          </a:ln>
        </p:spPr>
      </p:pic>
      <p:sp>
        <p:nvSpPr>
          <p:cNvPr id="24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d84c6"/>
                </a:solidFill>
                <a:latin typeface="Trebuchet MS"/>
              </a:rPr>
              <a:t>Отраслевая конкуренция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571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соперничество среди основных конкурентов отрас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1" name="Рисунок 3" descr="Q:\Инна\В Г У Э С\Лекции\Стратегический менеджмент - бакалавры\media\image4.jpeg"/>
          <p:cNvPicPr/>
          <p:nvPr/>
        </p:nvPicPr>
        <p:blipFill>
          <a:blip r:embed="rId1"/>
          <a:stretch/>
        </p:blipFill>
        <p:spPr>
          <a:xfrm>
            <a:off x="179280" y="2133720"/>
            <a:ext cx="7858080" cy="3714480"/>
          </a:xfrm>
          <a:prstGeom prst="rect">
            <a:avLst/>
          </a:prstGeom>
          <a:ln w="0">
            <a:noFill/>
          </a:ln>
        </p:spPr>
      </p:pic>
      <p:sp>
        <p:nvSpPr>
          <p:cNvPr id="252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d84c6"/>
                </a:solidFill>
                <a:latin typeface="Trebuchet MS"/>
              </a:rPr>
              <a:t>Отраслевой анализ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еделение экономических характеристик отраслевого окруж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ценка степени конкурен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явление движущих сил конкурен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еделение ключевых факторов успех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ключение о степени привлекательности отрас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ad84c6"/>
                </a:solidFill>
                <a:latin typeface="Trebuchet MS"/>
              </a:rPr>
              <a:t>Ключевые факторы успеха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общие для всех предприя­тий отрасли управляемые переменные, реализация которых дает возможность улучшить конкурентные позиции предприятия в отрас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ИОКР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ркетинг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о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инансы и т.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d84c6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Характеристика и цели анализа внешней сред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Е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-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WOT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курентный 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раслевой 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утрифирменная диагностик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785520"/>
            <a:ext cx="822960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Основное назначение анализа внешней среды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выявить и уяснить возможности и угрозы, которые могут возникнуть для предприятия в будущем, с тем чтобы правильно определить стратегию и общую политику предприят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По степени воздействия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 процессы, протекающие в рамках предприятия, выделяют две группы внешних факторов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даленного воздействия, представляющих макросферу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епосредственного влияния ближнего окружения, или отраслевые фактор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ad84c6"/>
                </a:solidFill>
                <a:uFillTx/>
                <a:latin typeface="Trebuchet MS"/>
              </a:rPr>
              <a:t>РЕ</a:t>
            </a:r>
            <a:r>
              <a:rPr b="1" lang="en-US" sz="3200" spc="-1" strike="noStrike" u="sng">
                <a:solidFill>
                  <a:srgbClr val="ad84c6"/>
                </a:solidFill>
                <a:uFillTx/>
                <a:latin typeface="Trebuchet MS"/>
              </a:rPr>
              <a:t>S</a:t>
            </a:r>
            <a:r>
              <a:rPr b="1" lang="ru-RU" sz="3200" spc="-1" strike="noStrike" u="sng">
                <a:solidFill>
                  <a:srgbClr val="ad84c6"/>
                </a:solidFill>
                <a:uFillTx/>
                <a:latin typeface="Trebuchet MS"/>
              </a:rPr>
              <a:t>Т-анализ</a:t>
            </a:r>
            <a:endParaRPr b="0" lang="en-US" sz="32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стоит в выявлении и оценке влияния факторов макросреды на результаты текущей и будущей деятельности предприят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Цель РЕ</a:t>
            </a: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S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Т-анализ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— отслеживание (мониторинг) изменений макросреды по четырем узловым направлениям и выявление тенденций, событий, не подконтрольных предприятию, но оказывающих влияние на результаты принятых стратегических решен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571680" y="1165320"/>
          <a:ext cx="8072280" cy="5335560"/>
        </p:xfrm>
        <a:graphic>
          <a:graphicData uri="http://schemas.openxmlformats.org/drawingml/2006/table">
            <a:tbl>
              <a:tblPr/>
              <a:tblGrid>
                <a:gridCol w="4035240"/>
                <a:gridCol w="4037040"/>
              </a:tblGrid>
              <a:tr h="280800"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Эконо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51040"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авительственная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стабиль­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Изменение законодатель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Государственное влияние на отрасли, включая долю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госсоб­ствен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Государственное регулирова­ние конкуренции в отрасл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Налоговая полит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Общая характеристика эконо­мической ситуации (подъем, стабилизация, спад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Курс национальной валюты 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ка рефинансир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инфля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Уровень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безработиц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Цены на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энергоресурс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2560"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Демографические измен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Изменение структуры доход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тношение к труду и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отдых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циальная мобильность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насе­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Активность потребителе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.Государственная техническая,  полит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2. Значимые тенденци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област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ОК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овые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продукты (скорость об­новления и освоения новых тех­нологий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Новые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патент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ad84c6"/>
                </a:solidFill>
                <a:uFillTx/>
                <a:latin typeface="Trebuchet MS"/>
              </a:rPr>
              <a:t>SWOT</a:t>
            </a:r>
            <a:r>
              <a:rPr b="0" lang="ru-RU" sz="3600" spc="-1" strike="noStrike" u="sng">
                <a:solidFill>
                  <a:srgbClr val="ad84c6"/>
                </a:solidFill>
                <a:uFillTx/>
                <a:latin typeface="Trebuchet MS"/>
              </a:rPr>
              <a:t>-анализ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действенный инструмент оценки стратегического состояния организации на основе понимания ее внутренних сильных и слабых сторон и внешней среды, которая представляется в виде возможностей и угроз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ает обобщенную оценку организационной среды, имеющую преимущественно качественный характер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85680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ильные стороны организаци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— это то, в чем она преуспела, ее от­личительные особенности, которые усиливают конкурентоспособность и дают фирме преимущества на рынке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лабые стороны организаци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связаны в основном с отсутствием чего-то важного для функционирования фирмы или с тем, что у нее получается хуже в сравнении с прямыми конкурентам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Возможност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нужно рассматривать прежде всего с точки зрения рыночной привлекательности, которая может обеспечить максимальный рост прибыли фирмы и конкурентное преимущество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Угроз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(опасност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) — это определенные факторы внешней среды, которые могут отрицательно повлиять на благосостояние фирмы и препятствовать ее успешному развитию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3" descr="Q:\Инна\В Г У Э С\Лекции\Стратегический менеджмент - бакалавры\media\image1.jpeg"/>
          <p:cNvPicPr/>
          <p:nvPr/>
        </p:nvPicPr>
        <p:blipFill>
          <a:blip r:embed="rId1"/>
          <a:stretch/>
        </p:blipFill>
        <p:spPr>
          <a:xfrm>
            <a:off x="646200" y="281160"/>
            <a:ext cx="6218280" cy="631476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ad84c6"/>
                </a:solidFill>
                <a:latin typeface="Trebuchet MS"/>
              </a:rPr>
              <a:t>Матрица «вероятность усиления — интенсивность воздействия»</a:t>
            </a:r>
            <a:endParaRPr b="0" lang="en-US" sz="2900" spc="-1" strike="noStrike">
              <a:solidFill>
                <a:srgbClr val="ad84c6"/>
              </a:solidFill>
              <a:latin typeface="Trebuchet MS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00040" y="2071800"/>
          <a:ext cx="8072640" cy="4066920"/>
        </p:xfrm>
        <a:graphic>
          <a:graphicData uri="http://schemas.openxmlformats.org/drawingml/2006/table">
            <a:tbl>
              <a:tblPr/>
              <a:tblGrid>
                <a:gridCol w="2017800"/>
                <a:gridCol w="2019240"/>
                <a:gridCol w="2017800"/>
                <a:gridCol w="2017800"/>
              </a:tblGrid>
              <a:tr h="305280">
                <a:tc rowSpan="2"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ейст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оятность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8320"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960"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r>
                        <a:rPr b="0" i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2:14:18Z</dcterms:created>
  <dc:creator>И.В.</dc:creator>
  <dc:description/>
  <dc:language>en-US</dc:language>
  <cp:lastModifiedBy>Толя</cp:lastModifiedBy>
  <dcterms:modified xsi:type="dcterms:W3CDTF">2014-12-01T07:05:45Z</dcterms:modified>
  <cp:revision>9</cp:revision>
  <dc:subject/>
  <dc:title>Theme 6</dc:title>
</cp:coreProperties>
</file>