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74EA-5A7A-4588-AD15-0EB15E8BA0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7AB5-50F1-49BA-B0B7-D056D0130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304E-096C-4307-BD38-466660AF5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5E38-B356-4474-AFD3-5472B71FA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D417-C50A-436B-8840-A3EA860C2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659C-C782-4D37-B70F-1A242CF3E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A2BB-87F8-4A64-A16A-5EE98CD9E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F814-5529-4F9A-9166-73887AC47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F769-4CA6-42F2-8EBA-37EBACB942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9D53-F544-4617-8D1D-ABD6917FA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8BEC-7AC8-4512-B3BA-5D304030D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40BC-F112-4D0D-98A4-B22D761ED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CC50-DA9D-4895-B851-F7E6D1D5F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4AB-1425-4B0E-9FA6-6F170601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80D-1996-45F9-B2DB-10E5479D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912-EE3D-4B7B-88FD-F51D8FB8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95F-76A1-4060-B501-0DDC5078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0057-C2C4-4F51-8DB1-3618E169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4263-C054-45F1-BBA9-7D04A029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9563-B2AA-4CD3-861C-6D7E670E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B7C7-CACE-484D-896F-BF3EC504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A4BD-DACB-43D1-A344-42FFFCE6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C747-A4D9-4FC6-9ACD-C2C8F750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210D-D21D-426A-80AA-A33CEA43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A68-918A-4B5C-9367-A165949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E7F2-7680-42B6-B6C8-17DF1CD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4C01-5898-479C-BD7F-04FB103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FAEA-4071-4862-8A18-15DFD600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EBD9-46DF-457A-97EA-FD489BDC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AD05-10F5-4551-9801-A947CD9A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2026-D6E6-471C-BBBA-3A5078C9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8E0D-7BA3-4385-B82D-30EA42BC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9A09-1F1A-4339-8603-57424CCE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D606-FE39-4DCB-BC43-2E9C0E39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FF79-D08A-4B6B-8831-8E74A700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CE6-3691-4D70-88EC-5824A279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4FD4-28B9-4411-BE9C-82B69CFB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2AC0-2CB3-4577-9C64-7B2D57ED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1DD9-D720-47F5-8F3B-78843851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9DF5-94F1-4692-B939-0FE050D8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9C56-8E6A-4E72-A548-22EAABF3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B35B-CE60-4458-8891-C3612078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E8EBC-9BB0-4895-A4B4-DCC95E21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36A2-344B-4E7F-B7E3-1ECB92D3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0FAF-3CCD-4C72-B97B-1B5E718D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C1394-019F-43D2-A00D-E78CD67D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C41-60FE-4C98-847A-D55878FF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473F2-CD20-42C2-B00C-3EBAF22F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C6E8-60DA-401F-9DE4-B7D46351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EB00-98A2-41C6-9B6F-6696D245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1661-F73E-434B-97CC-F6596FC7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8B8C3-7232-4D10-AA8E-3FFAB0D4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0658-582E-4169-ACBC-800356C7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AAFAB-CE08-45F2-A57D-3A470048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9F12-F6DF-4A2C-AD9B-EC1C0E9B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9A862-B512-4C3B-AF96-C416394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E90-356F-46A5-B1B9-A498F8A7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A01-58AD-4ABB-9C15-8929CF56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B3D-EA47-494F-9D9C-76A74D11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8E8-975D-48B5-8862-5ADAF1D4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DA5-67AC-432A-9695-1579330F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F70A-C4E3-4AAC-8659-8393B219936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842D-1C12-42F8-BBE0-CD61A78E16A5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AAC1-1552-4BE4-811F-FAAB1EF0D32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9D43-86B7-4900-B170-CD88F3BEBBC0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9B69-4928-4A12-820F-86923ED0DE8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F2BB-E04C-4831-B3BE-29327F85F3F3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6CE2-2AF6-44E7-894A-8B0E2946A78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41DE-0D33-4A06-8910-A142DD9B45A6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b3d9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оль миссии и целей в стратегическом упр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125360"/>
          <a:ext cx="8072640" cy="5187960"/>
        </p:xfrm>
        <a:graphic>
          <a:graphicData uri="http://schemas.openxmlformats.org/drawingml/2006/table">
            <a:tbl>
              <a:tblPr/>
              <a:tblGrid>
                <a:gridCol w="2695680"/>
                <a:gridCol w="5376960"/>
              </a:tblGrid>
              <a:tr h="40356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выражены движением денежной наличности, структурой капитала, выпуском ценных бумаг, оборотным капиталом, выплатой дивиде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описать с помощью таких показателей, как: производственные мощности, постоянные затраты, единицы продукции в натуральном и денежном выра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проце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изменения в структуре или деятель­ности, может выражаться любым количеством ц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могут определять выполнение трудовых функций и отношение к работе, профессиональ­ное обучение, способы мотивации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целями в форме видов деятельности, ориентированных на участие в ре­шении острых социальных проблем (экология, безрабо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Дерево целей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428760" y="2071800"/>
            <a:ext cx="8286120" cy="3142800"/>
            <a:chOff x="428760" y="2071800"/>
            <a:chExt cx="8286120" cy="3142800"/>
          </a:xfrm>
        </p:grpSpPr>
        <p:grpSp>
          <p:nvGrpSpPr>
            <p:cNvPr id="252" name="Group 2"/>
            <p:cNvGrpSpPr/>
            <p:nvPr/>
          </p:nvGrpSpPr>
          <p:grpSpPr>
            <a:xfrm>
              <a:off x="428760" y="2071800"/>
              <a:ext cx="8286120" cy="3142800"/>
              <a:chOff x="428760" y="2071800"/>
              <a:chExt cx="8286120" cy="3142800"/>
            </a:xfrm>
          </p:grpSpPr>
          <p:sp>
            <p:nvSpPr>
              <p:cNvPr id="253" name="Oval 3"/>
              <p:cNvSpPr/>
              <p:nvPr/>
            </p:nvSpPr>
            <p:spPr>
              <a:xfrm>
                <a:off x="2883960" y="2071800"/>
                <a:ext cx="337608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Общая цель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"/>
              <p:cNvSpPr/>
              <p:nvPr/>
            </p:nvSpPr>
            <p:spPr>
              <a:xfrm flipH="1">
                <a:off x="18097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"/>
              <p:cNvSpPr/>
              <p:nvPr/>
            </p:nvSpPr>
            <p:spPr>
              <a:xfrm flipH="1">
                <a:off x="3651120" y="2811240"/>
                <a:ext cx="15336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>
                <a:off x="5339160" y="2811240"/>
                <a:ext cx="30672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61063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8"/>
              <p:cNvSpPr/>
              <p:nvPr/>
            </p:nvSpPr>
            <p:spPr>
              <a:xfrm>
                <a:off x="2286360" y="3000240"/>
                <a:ext cx="491040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Ключевые цели по подсистемам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9"/>
              <p:cNvGrpSpPr/>
              <p:nvPr/>
            </p:nvGrpSpPr>
            <p:grpSpPr>
              <a:xfrm>
                <a:off x="428760" y="4105800"/>
                <a:ext cx="1688040" cy="1108800"/>
                <a:chOff x="428760" y="4105800"/>
                <a:chExt cx="1688040" cy="1108800"/>
              </a:xfrm>
            </p:grpSpPr>
            <p:sp>
              <p:nvSpPr>
                <p:cNvPr id="260" name="Oval 10"/>
                <p:cNvSpPr/>
                <p:nvPr/>
              </p:nvSpPr>
              <p:spPr>
                <a:xfrm>
                  <a:off x="4287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1"/>
                <p:cNvSpPr/>
                <p:nvPr/>
              </p:nvSpPr>
              <p:spPr>
                <a:xfrm>
                  <a:off x="10425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2"/>
                <p:cNvSpPr/>
                <p:nvPr/>
              </p:nvSpPr>
              <p:spPr>
                <a:xfrm>
                  <a:off x="16563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3"/>
                <p:cNvSpPr/>
                <p:nvPr/>
              </p:nvSpPr>
              <p:spPr>
                <a:xfrm flipH="1">
                  <a:off x="58212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>
                  <a:off x="119592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"/>
                <p:cNvSpPr/>
                <p:nvPr/>
              </p:nvSpPr>
              <p:spPr>
                <a:xfrm>
                  <a:off x="16563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Oval 16"/>
              <p:cNvSpPr/>
              <p:nvPr/>
            </p:nvSpPr>
            <p:spPr>
              <a:xfrm>
                <a:off x="42876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роизводст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7"/>
              <p:cNvGrpSpPr/>
              <p:nvPr/>
            </p:nvGrpSpPr>
            <p:grpSpPr>
              <a:xfrm>
                <a:off x="2576880" y="4105800"/>
                <a:ext cx="1687320" cy="1108800"/>
                <a:chOff x="2576880" y="4105800"/>
                <a:chExt cx="1687320" cy="1108800"/>
              </a:xfrm>
            </p:grpSpPr>
            <p:sp>
              <p:nvSpPr>
                <p:cNvPr id="268" name="Oval 18"/>
                <p:cNvSpPr/>
                <p:nvPr/>
              </p:nvSpPr>
              <p:spPr>
                <a:xfrm>
                  <a:off x="257688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9"/>
                <p:cNvSpPr/>
                <p:nvPr/>
              </p:nvSpPr>
              <p:spPr>
                <a:xfrm>
                  <a:off x="31903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0"/>
                <p:cNvSpPr/>
                <p:nvPr/>
              </p:nvSpPr>
              <p:spPr>
                <a:xfrm>
                  <a:off x="38041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21"/>
                <p:cNvSpPr/>
                <p:nvPr/>
              </p:nvSpPr>
              <p:spPr>
                <a:xfrm flipH="1">
                  <a:off x="273024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2"/>
                <p:cNvSpPr/>
                <p:nvPr/>
              </p:nvSpPr>
              <p:spPr>
                <a:xfrm>
                  <a:off x="334404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3"/>
                <p:cNvSpPr/>
                <p:nvPr/>
              </p:nvSpPr>
              <p:spPr>
                <a:xfrm>
                  <a:off x="380412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Oval 24"/>
              <p:cNvSpPr/>
              <p:nvPr/>
            </p:nvSpPr>
            <p:spPr>
              <a:xfrm>
                <a:off x="24235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Маркетин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25"/>
              <p:cNvGrpSpPr/>
              <p:nvPr/>
            </p:nvGrpSpPr>
            <p:grpSpPr>
              <a:xfrm>
                <a:off x="4878720" y="4105800"/>
                <a:ext cx="1687320" cy="1108800"/>
                <a:chOff x="4878720" y="4105800"/>
                <a:chExt cx="1687320" cy="1108800"/>
              </a:xfrm>
            </p:grpSpPr>
            <p:sp>
              <p:nvSpPr>
                <p:cNvPr id="276" name="Oval 26"/>
                <p:cNvSpPr/>
                <p:nvPr/>
              </p:nvSpPr>
              <p:spPr>
                <a:xfrm>
                  <a:off x="48787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"/>
                <p:cNvSpPr/>
                <p:nvPr/>
              </p:nvSpPr>
              <p:spPr>
                <a:xfrm>
                  <a:off x="54921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"/>
                <p:cNvSpPr/>
                <p:nvPr/>
              </p:nvSpPr>
              <p:spPr>
                <a:xfrm>
                  <a:off x="61059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9"/>
                <p:cNvSpPr/>
                <p:nvPr/>
              </p:nvSpPr>
              <p:spPr>
                <a:xfrm flipH="1">
                  <a:off x="503208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30"/>
                <p:cNvSpPr/>
                <p:nvPr/>
              </p:nvSpPr>
              <p:spPr>
                <a:xfrm>
                  <a:off x="564588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31"/>
                <p:cNvSpPr/>
                <p:nvPr/>
              </p:nvSpPr>
              <p:spPr>
                <a:xfrm>
                  <a:off x="61059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"/>
              <p:cNvGrpSpPr/>
              <p:nvPr/>
            </p:nvGrpSpPr>
            <p:grpSpPr>
              <a:xfrm>
                <a:off x="7027200" y="4105800"/>
                <a:ext cx="1687320" cy="1108800"/>
                <a:chOff x="7027200" y="4105800"/>
                <a:chExt cx="1687320" cy="1108800"/>
              </a:xfrm>
            </p:grpSpPr>
            <p:sp>
              <p:nvSpPr>
                <p:cNvPr id="283" name="Oval 33"/>
                <p:cNvSpPr/>
                <p:nvPr/>
              </p:nvSpPr>
              <p:spPr>
                <a:xfrm>
                  <a:off x="702720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34"/>
                <p:cNvSpPr/>
                <p:nvPr/>
              </p:nvSpPr>
              <p:spPr>
                <a:xfrm>
                  <a:off x="76406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5"/>
                <p:cNvSpPr/>
                <p:nvPr/>
              </p:nvSpPr>
              <p:spPr>
                <a:xfrm>
                  <a:off x="82544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36"/>
                <p:cNvSpPr/>
                <p:nvPr/>
              </p:nvSpPr>
              <p:spPr>
                <a:xfrm flipH="1">
                  <a:off x="718056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37"/>
                <p:cNvSpPr/>
                <p:nvPr/>
              </p:nvSpPr>
              <p:spPr>
                <a:xfrm>
                  <a:off x="779436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38"/>
                <p:cNvSpPr/>
                <p:nvPr/>
              </p:nvSpPr>
              <p:spPr>
                <a:xfrm>
                  <a:off x="825444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Oval 39"/>
              <p:cNvSpPr/>
              <p:nvPr/>
            </p:nvSpPr>
            <p:spPr>
              <a:xfrm>
                <a:off x="67201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Финанс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40"/>
              <p:cNvSpPr/>
              <p:nvPr/>
            </p:nvSpPr>
            <p:spPr>
              <a:xfrm>
                <a:off x="457200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ерсон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41"/>
            <p:cNvSpPr/>
            <p:nvPr/>
          </p:nvSpPr>
          <p:spPr>
            <a:xfrm>
              <a:off x="714240" y="4290480"/>
              <a:ext cx="76435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дцели по подсистемам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Правила декомпози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ая цель должна содержать описание конечного результа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развертывании общей цели в иерархическую структуру исходят из того, что реализация подцелей каждого последующего уровня является необходимым и достаточным условием достижения целей предыдуще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формулировке целей разных уровней необходимо описывать желаемые результаты, а не способы их полу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цели каждого уровня должны быть независимы друг от друга и невыводимы друг из друг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 дерева целей должны составлять задачи, представляющие собой формулировку работ, которые могут быть выполнены определенным способом в установленные сро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354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Видение организации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— это образное представление смысла деятельности и перспектив (будущего) организации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иде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ъясняет и демонстрирует всем сотрудникам и общественнос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представляет собой организац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ой она должна ста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 чему она стремит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Мисс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одним из главных элементов идеологической базы формирова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должна зависеть от текущего состоя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жает устремленность в будущ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комплексной цель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ает значительную роль как во внутренней, так и во внешней сред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одходы к формированию мисс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ирок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зк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Формулировка миссии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содержа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сферы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чие принципы фирмы по отношению к окружающей сред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ценности внутри фирмы, рассматриваемые как культура организ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Заинтересованные группы в формулировке миссии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0040" y="1571760"/>
          <a:ext cx="8286840" cy="5073480"/>
        </p:xfrm>
        <a:graphic>
          <a:graphicData uri="http://schemas.openxmlformats.org/drawingml/2006/table">
            <a:tbl>
              <a:tblPr/>
              <a:tblGrid>
                <a:gridCol w="2170080"/>
                <a:gridCol w="6116760"/>
              </a:tblGrid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является клиентами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/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товары/услуги предлагают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фирма ведет конкурентную борьб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базовая технология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выж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экономическую цель преследует фир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базовые убеждения, ценности и приоритетные устрем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ый об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кому имиджу стремится фирма и какую ответственность перед обществом она приним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озиция фирмы по отношению к своему персона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заявляемые отличительные каче­ства и конкурентные преимущест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Определение цели -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более конкретный, чем миссия, уровень принятия решений, требующий выработки соответствующих стратегических задач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ледует различать цел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цифическ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роцесс постановки целей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основном происходит сверху вни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ждый руководитель должен иметь четкие цели, которые обеспечивают поддержку целей более высоко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процессе выработки целей, необходим двусторонний обмен информаци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Эффективность целей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- это базовый критерий стратегического целеполаган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Цели должны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ретными и измеримы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ированными во времен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стич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поставимыми и взаимно поддерживающи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960" y="1571760"/>
          <a:ext cx="8072280" cy="5227560"/>
        </p:xfrm>
        <a:graphic>
          <a:graphicData uri="http://schemas.openxmlformats.org/drawingml/2006/table">
            <a:tbl>
              <a:tblPr/>
              <a:tblGrid>
                <a:gridCol w="2695680"/>
                <a:gridCol w="5376600"/>
              </a:tblGrid>
              <a:tr h="40320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12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выражаться в различных показателях, таких как объем прибыли, доход на инвестиро­ванный капитал, отношение прибыли к объему продаж (коэффициент чистой прибыли)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описываться следующими понятиями: доля рынка, объем продаж в денежном или натуральном выражении, рыночная (отраслевая) ни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отношением выхода к входу, а также в виде издержек на единицу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но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новые способы ведения бизнеса (новые технологии и методы организации производства, внедрение на новые рынки и т. д.) и могут выражаться как в денежных, так и в дру­гих показа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показателей объема продаж или прибыль­ности по отношению к конкретному изделию (ассортименту изделий) цели могут быть связа­ны с выведением нового товара на рынок или снятия с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1:10:41Z</dcterms:created>
  <dc:creator>И.В.</dc:creator>
  <dc:description/>
  <dc:language>en-US</dc:language>
  <cp:lastModifiedBy>Толя</cp:lastModifiedBy>
  <dcterms:modified xsi:type="dcterms:W3CDTF">2014-12-01T07:03:41Z</dcterms:modified>
  <cp:revision>14</cp:revision>
  <dc:subject/>
  <dc:title>Тема6 - Роль миссии и целей организации в стратегическом управлении</dc:title>
</cp:coreProperties>
</file>