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366A-C81A-49D4-B653-55668309F6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8C03-D024-4782-ABA7-B9B1119764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CA2F-DDCE-41B3-B228-AD6B132DC8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EBD6-0B91-450B-AB6D-7F3916AE72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5803-55C7-4A16-B07B-1AC44B3632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52CE-26DA-4608-8669-BA38E1743C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020C-4EF8-4FFB-B159-34ECF84536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EF83-8D07-4FB2-B9C9-32CBEEB4CD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EC31-5EE2-4FE9-BAD9-C9D3801534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2BD5-155B-4D1E-BBA2-5FA5442B21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BFB6-8E97-4A9C-A4B0-2C2391AE6C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34A1-4612-4B28-B769-FD72461A65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F5AE-081F-4750-9D01-76692A098E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841-270A-4B1D-932F-AB6694F1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D454-68DC-43C1-8D98-1400E9E5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0011-AA64-40BD-BD77-E49FBF63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CB1B-BCE2-4630-94CC-2BF7E8DB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9E4B-299E-4003-A9A8-087AC840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D599-E3A1-4271-BFC4-58C8EEAB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9C05-0AA8-40F8-88F8-4278168A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5963-C908-4AF8-A2BC-3FF2E088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1FD7-BFA3-452B-981A-D6AEE950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B2F0-85FB-4195-A6EA-9D0D5B75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32F8-2779-4FC7-8E87-11259193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65E-84C5-4760-A9E2-33723499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06D9-A993-48F7-8B67-D5A709DD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DB85-B86B-4E07-8188-71499AB8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C551-517B-4148-91AC-E3015B77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4678-8258-4E2A-8540-564521A0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E690-6C88-459F-8DCB-AE4D1FF6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C849D-BEE8-4318-A188-39E0DB42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AC14D-AED9-4E73-B34C-9A1E598D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F0E1B-CFFA-48D4-ADEE-144B7360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86C57-6032-48B3-9A66-3EA09AB4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875C3-6CAA-4C76-9983-7417466E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D2B-6E04-4341-9619-AD299C5E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87C7F-830E-4A93-B180-17A99909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6FAA7-0D08-4B55-8AB4-51A7398C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14C7D-3E62-4EE0-8D20-B87D557C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7E15A-605E-4DCF-9730-CE969EAB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E811D-4319-40B8-B7DA-8FEB0E31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836CD-5316-4B0E-B95A-17A93E75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2795E-D6F3-4529-B4B2-D7D21514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3283B-8E2F-4D4F-8E22-851DFEC2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B6D9B-FDA8-41AA-B452-F0987B52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61408-ECD3-42EC-B3B2-DAE23816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FF1-DB11-48AD-856F-C7864385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51803-A21F-416A-9E46-CD41D6ED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B51F7-E93E-4D5E-897B-90994568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4FB1C-47DA-4551-AB47-4456F9F4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94697-2213-4F55-8920-F8882BD1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0DCFC-2FE5-4F34-8AAF-E416711D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02C82-96E7-4CA1-80E6-F4E462FE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85B3B-3E7D-4BB5-9786-94785591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AA123-3113-48FE-88A4-BE896797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F6B04-A6F3-4381-8C14-14F5B380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E243-86AC-4718-8048-6DAFDB2A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FBF-CF5A-4CEC-AD13-88E5D393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56CB-E638-428B-9948-609EA250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9E0-F39C-4303-A843-E9500CC1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E97-9439-4FAF-B84A-10ACB9A3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6D13-3550-42E9-B3B8-F5B73284061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EA43-B5F3-4552-8CFB-D88BF5F659F2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4762-3B58-469C-A7FF-9854A6B587A8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C094-BFB1-4AE5-B74E-8CAE541F98A7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4446-288A-4E58-9B69-69B1450B53C4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CFD5-2F3A-49EA-81AC-743F6137EAFA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5CDB-E210-4598-ABFD-FB946E9EEF24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B82B-C475-4BA5-98FA-74BC256844C6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a5b59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Стратегический анализ внутренней среды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Организационн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ммуникационные процесс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рганизационное построение предприятия или фирм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ормы, правила и процедуры производственного процесс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пределение прав и ответствен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ерархию подчин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6840" y="105264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ильные стороны организ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1988640"/>
            <a:ext cx="404028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ступают в качестве базы, на которую организация опирается в конкурентной борьбе и которую пытается расширить и укрепить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44720" y="1052280"/>
            <a:ext cx="404172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лабые стороны организ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44720" y="1988640"/>
            <a:ext cx="404172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ы стать предметом внимания руководства, которое должно принять решение относительно устранения слабых сторон своей деятель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SNW-</a:t>
            </a: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анали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ббревиатура трех английских слов (S - сильная позиция (сторона); N – нейтральная позиция; W – слабая позиция (сторона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качестве нейтральной позиции лучшего всего фиксировать среднерыночное состояние для данной конкретной ситуаци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етко фиксируется ситуационное среднерыночное состояние, то есть своеобразная нулевая точка конкурен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ифирменная диагности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резы анализа внутренней сред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ильные и слабые стороны организа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NW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a5b592"/>
                </a:solidFill>
                <a:latin typeface="Trebuchet MS"/>
              </a:rPr>
              <a:t>Внутренняя среда организации</a:t>
            </a:r>
            <a:endParaRPr b="0" lang="en-US" sz="40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–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а часть общей среды, которая находится в ее пределах. Она оказывает постоянное и самое непосредственное воздействие на функционирование организации. Под внутренней средой понимается хозяйственный организм фирмы, включающий управленческий механизм, направленный на оптимизацию научно-технической и производственно-сбытовой деятельности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Внутрифирменная диагностика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о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нансы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ерсонал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ультура и имидж организаци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екорпоративное управлен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a5b592"/>
                </a:solidFill>
                <a:latin typeface="Trebuchet MS"/>
              </a:rPr>
              <a:t>Маркетинговый потенциал</a:t>
            </a:r>
            <a:endParaRPr b="0" lang="en-US" sz="3200" spc="-1" strike="noStrike">
              <a:solidFill>
                <a:srgbClr val="a5b592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42960" y="1500120"/>
          <a:ext cx="7858080" cy="5159520"/>
        </p:xfrm>
        <a:graphic>
          <a:graphicData uri="http://schemas.openxmlformats.org/drawingml/2006/table">
            <a:tbl>
              <a:tblPr/>
              <a:tblGrid>
                <a:gridCol w="3922560"/>
                <a:gridCol w="3935520"/>
              </a:tblGrid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360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ие и качество ассорти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е характеристики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продук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кция тов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аковка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ая мар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72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о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йскурантная ц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ид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нс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е це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опла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выдачи кред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ви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ый персонал Рекл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и с обществен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ское продвиж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ое продвиж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й марке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е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лы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 рын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образие кан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лерская поддерж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7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в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09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одажное обслужи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в торговых точка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продажное обслуж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ка персона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я персона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еделение функций и обязан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a5b592"/>
                </a:solidFill>
                <a:latin typeface="Trebuchet MS"/>
              </a:rPr>
              <a:t>Производственный срез</a:t>
            </a:r>
            <a:endParaRPr b="0" lang="en-US" sz="44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готовление продукции, снабжения и ведения складского хозяйств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служивание технологического оборудова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уществление исследований и разработо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Финансов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держка ликвид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еспечение прибы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держание финансовой устойчив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здание инвестиционных возможностей и тому подобно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Срез по персоналу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заимодействие менеджеров и рабочи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е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еба и продвижение кадр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у результатов труд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отивацию и стимулирование труд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здания атмосферы и поддержки отношений в коллектив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387360" y="1220760"/>
          <a:ext cx="7958160" cy="5637240"/>
        </p:xfrm>
        <a:graphic>
          <a:graphicData uri="http://schemas.openxmlformats.org/drawingml/2006/table">
            <a:tbl>
              <a:tblPr/>
              <a:tblGrid>
                <a:gridCol w="3979800"/>
                <a:gridCol w="3978360"/>
              </a:tblGrid>
              <a:tr h="303120">
                <a:tc>
                  <a:txBody>
                    <a:bodyPr lIns="5400" rIns="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ая организационн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ая организационн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4120">
                <a:tc>
                  <a:txBody>
                    <a:bodyPr lIns="5400" rIns="5400" tIns="0" bIns="0" anchor="t">
                      <a:noAutofit/>
                    </a:bodyPr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сильного лидера, который устанавливает принципы и нормы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еры посвящают значительное время объяснению этих принципов персоналу и постоянно подчеркивают важность исполь­зования этих принципов при принятии ре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соответствие между культурой и долгосрочными план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превращает работу в образ жизни, воспиты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мотивируя сотруд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явшиеся ценности и нормы поведения не меняются при появлении нового лид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рудники хорошо осведомлены об истории организации, с уважением относятся к традициям, ритуалам и организационным символ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убликациях уделяется внимание прежде всего разъяснению своей фирменной философии, пропаганде своих цен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ивается важность людей как главного ресурса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рассматривается как средство существ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ует множество субкульт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общепризнанных ценностей и правил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 традиции, ритуалы, организационные симво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деляется должного внимания формированию истории органи­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зированная обстановка на фирме, когда отдельные руководители проводят собственную политику и оказывают сопротивление необходимым измене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ждебное отношение ко всякого рода иннов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руководства, ориентирован­ный в большей степени на органи­зационную структуру, бюджет, систему контроля над персоналом в ущерб созданию корпоративной куль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убликациях выделя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tabLst>
                          <a:tab algn="l" pos="0"/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сновном формальные колич­ственные аспекты деятельности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ивается важность экономических и технических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92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Культурн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2:14:18Z</dcterms:created>
  <dc:creator>И.В.</dc:creator>
  <dc:description/>
  <dc:language>en-US</dc:language>
  <cp:lastModifiedBy>Толя</cp:lastModifiedBy>
  <dcterms:modified xsi:type="dcterms:W3CDTF">2014-12-01T07:07:43Z</dcterms:modified>
  <cp:revision>12</cp:revision>
  <dc:subject/>
  <dc:title>Theme 7</dc:title>
</cp:coreProperties>
</file>