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B902-680A-4F36-9770-B3AF85BE28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C8EC-00CA-4ACF-922A-E3ABECA0E5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C421-E607-40C7-BA99-8FB18431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A51D-BE65-48FE-B4A0-4A86F060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4DBC-BEEA-4F41-896F-0FBD46AF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1041-0C4B-43CB-B383-CE3F6C18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5E87-4CC7-4D10-B046-64A42371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DA11-DCA8-4897-A514-58D07BFE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55F9-D3DE-4E6F-99FF-01698190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65D4-AE9E-4093-ACC4-E6449393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0646-0F97-49C0-8AF5-28F9E8BE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2CD8-7ED7-464B-B6C2-BC262E79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00FA-C26D-4450-8765-841FE20B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3C1D-6589-4A9B-8C5A-8F4DD143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AC18-6310-4764-8AF1-10093240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5F01-124C-4B87-9AFD-06F00B49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5E0B-4A68-4DEA-85ED-2E470E6B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20E9-2CB1-4F64-AF0E-71132299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7CCA-671A-4035-904C-941283A6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AB1C7-7D8C-4C92-B036-E18BB68A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82E40-FB5A-4938-ABEE-4BB84928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8DA17-2D98-45AC-A75C-14E5A3C5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47E4E-32F2-4356-81E7-1EE455A9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6CC05-CAD8-4A1A-AF7D-1480837C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B14-1B60-4EC1-9FF9-4E02D351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6AAAB-C465-4F40-B85B-AD9E8E5E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BF052-564E-4FF5-B02C-05CE96E3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77D29-7796-4674-8706-21B7BB4C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CE572-242F-4CCF-AD97-B19CF059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76F8B-C2C3-46EE-8DA0-E58CACB7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1AFEE-A703-4009-9260-01A31FF3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45BF8-ADB2-41BB-B07D-FE25F6CE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811DD-B31D-4F5A-A635-05F19157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0ACA0-7025-4205-A5CF-0E1C7634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1AE1B-7090-4758-82F5-F1C4FBDC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97C-F05E-4F40-AAB8-04DE8AF8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8B50C-E3B0-4D79-8096-CD2D9C90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58BFB-A9F7-477D-90BC-9FC87C7E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3BF3C-6F07-40D6-9A90-DA65DD0E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D2D8B-9EF7-4C52-9F70-ED360026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AF5F7-9A6B-4E7F-ADA7-B27527C1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336B7-57B8-4489-ACF1-F6506E03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A7D76-FE29-46A2-82EC-EF38AA31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60D28-B0FA-433F-845B-D8177E05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2CAC6-5EFA-42F0-BDAB-C330D6EF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1D6-8742-4DF3-8729-2D1EE5F9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FAB-C97D-4C51-8BA4-37E5ACB0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BEB6-5732-45F0-82B5-7A780828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9E7-A9BD-4BC8-8184-1F0DACF3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9A42-2734-40E3-957B-A80E6EA9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D700-0233-46AA-ACCF-B876E00107B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A9B2-B115-43C3-9258-E76ABE6950EB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01B8-A20A-468E-976F-00464844BC7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EC3C-1C82-4002-8986-3A784667A471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5BF6-3F8D-4468-A8D4-12D58A9957DF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AD90-89C7-44E1-9B9F-65D3A486F54B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BDD3-E251-438A-A7DD-8645D6FC0B03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7E36-CA52-48AA-82EA-BA2638C1BC28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a66ac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Разработка стратегии бизнес-уров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Интеграция стратегий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ополагающая конкурентная стратег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а основываться на использовании основных идей базовых стратегий. В последнее время успеха добиваются компании нового типа, делающие ставки на соче­тание высокой производительности и высокого уровня дифференци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и цель бизнес-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урентные преимущества и ключевые факторы успех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ые стратегии по М. Портер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нтеграция деловых стратег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Бизнес-стратегия – это 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бор стратегической ориентации фирмы, являет­ся выбором базовой стратегии конкуренции относительно определенной сферы бизнес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тратегическая цель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выделяет целевой рынок и, соответ­ственно, масштаб конкурен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Конкурентные преимущества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это способность организации производить и продавать свою продукцию (услуги) успешнее конкурент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ю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еннее конкурентное преимущество (способность произвести товар аналогичный товарам конкурентов с более низкими затратами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ешнее конкурентное преимущество (способность придать товару большую ценность в глазах потребителей, за которую они готовы платить более высокую цен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ие конкурентные преимущества легче защитить на рынке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Ключевые факторы успеха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факторы внутренней среды, которые позволяют организации достичь успеха на рынк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ю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ехнологически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енн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ов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чие (логистика, управление персоналом, инновации и т.п.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ФУ различны для различных отрасл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Базовые стратегии по М. Портеру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pic>
        <p:nvPicPr>
          <p:cNvPr id="236" name="Picture 2" descr="image3"/>
          <p:cNvPicPr/>
          <p:nvPr/>
        </p:nvPicPr>
        <p:blipFill>
          <a:blip r:embed="rId1"/>
          <a:stretch/>
        </p:blipFill>
        <p:spPr>
          <a:xfrm>
            <a:off x="571680" y="1928880"/>
            <a:ext cx="7916760" cy="4429080"/>
          </a:xfrm>
          <a:prstGeom prst="rect">
            <a:avLst/>
          </a:prstGeom>
          <a:ln w="0">
            <a:noFill/>
          </a:ln>
        </p:spPr>
      </p:pic>
      <p:sp>
        <p:nvSpPr>
          <p:cNvPr id="237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Стратегия лидерства по издержкам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рма пренебрегает различиями в сегментах и обращается ко всему рынку сразу с одним и тем же товаро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готовлении стандартной продукции массового спроса, когда возможности дифференциации ограничены и спрос эластичен по цене, а вероятность переключения потребителей товара на другие велик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Дифференциация -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пция, описывающая разнообразие предлож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Ценность для покупателей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это полезность или полное удовлетворе­ние, которое они получают при использовании товара, а также мини­мальные операционные издержки в течение всего срока его служб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По характеру направленности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можно выделить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инновационную и маркетинговую стратегии дифференци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Фокусирование - 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иповая бизнес- стратегия, которая предполагает концентрацию на узком рыночном сегменте или конкретной группе покупателей, а также специализацию на определенной части продукции и/или географическом регион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ная цель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ключается в удовлетворении потребностей выбранного сегмента с большей эффективностью, чем конкуренты, обслуживающие более широкий рыночный сегмен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1:29:35Z</dcterms:created>
  <dc:creator>И.В.</dc:creator>
  <dc:description/>
  <dc:language>en-US</dc:language>
  <cp:lastModifiedBy>Стародумова Инна</cp:lastModifiedBy>
  <dcterms:modified xsi:type="dcterms:W3CDTF">2015-09-29T02:30:43Z</dcterms:modified>
  <cp:revision>14</cp:revision>
  <dc:subject/>
  <dc:title>Разработка стратегии бизнес-уровня</dc:title>
</cp:coreProperties>
</file>