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810F-6F0D-4D04-9EDC-F02A401900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774E-C252-42BE-A980-5D95837755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9590-E038-4297-A8A9-64D532869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40D3-64F4-4A53-9B6A-A67585759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370F-BEED-4B7E-BF12-DED929796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DE7D-01D5-4484-86B1-01F2302A9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5A8D-C1A9-4FF9-9BC4-E2C5295491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62FB-0B86-46F2-9E81-72B1CE0BFE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3D3A-2391-4192-8DA1-552013687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AC9F-5B39-4E4E-8DDF-2A1ECC528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888F-4DFD-4F25-95CE-686ACE1AE7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3E34-6914-40F5-9D7B-CB40CDC9D0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B25B-E984-488D-9EF6-29F0DB391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A7F-F2B1-4221-82CE-877FF790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15F-0679-4672-893B-F60BB089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1DF-2427-49B3-9F19-DC97DD99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318-A2B9-4822-8E57-67DD1DB3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C075-7596-4423-92E9-BDB5F3B7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995D-F6A3-4235-9266-0AB29142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7CB8-046E-4C2C-B196-061B315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B4B1-97AE-4C5F-AB49-ABF85AB2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9985-C0CB-4B35-ADE5-18C07EF5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E5D1-D987-43B7-B8A0-E35F87D9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7695-7875-49C9-97E2-EDF1B71F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5C6-3DC4-4EAA-BC40-1A8B97B2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4579-48FF-49A7-A498-1F1D6380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6B4E-3BAC-46D4-9E78-03A2E600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AF25-36D6-459F-BA08-0EB98C06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AE09-275E-4BE9-A404-118A5FF4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BAA5-6EF9-4109-BBBB-0A5F1DA1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ABF00-E752-4B3E-AF40-05BBEE9D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3077-0AB7-4BE3-86A4-01C8C637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618B-6A51-4333-864B-46F3C1B2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1F2C-1452-44D4-8960-B07082C1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A634-9510-43FB-B49C-FBF7AD8C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0B0-30F5-40D7-96E7-BC5A5CDE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635D-15AA-4904-8223-2EE5E635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3D2D-C232-409B-948B-321AA9CD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ABD8-8D0E-4D2F-9D8B-A04465BC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5778-02F1-4064-8AA8-8E5F1B57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5AADB-4C49-44B8-9381-8909F493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5AC8-9FCA-41E7-A6F2-334A0B0A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598A7-A7F5-4BCB-ADF4-4AFE5B76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3132E-B306-4FA4-82DB-78806C78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A717-338E-43B3-A960-801B4B83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F31A9-CA50-4DB2-9061-B7B52578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639-A723-4C3A-A867-5E1439F3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6313B-BB08-43E6-98CB-62DD1D7D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F88FE-3779-44F9-8A51-B73AC92F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37D62-8307-40F4-B700-DB4F1C3A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DDC09-1356-47B6-8A20-4C155B2E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69E04-DEB6-462D-AA4B-57E82D05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E282-BD5E-4DDB-B0F0-9BFF276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25AF-79D5-4D50-A72F-01ECD600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8D1AD-1616-47DE-842D-157AE00F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629CF-5B15-486A-93CA-8BDE1D7A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0CA-6222-411D-82BB-C55405FF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0C9-7AFF-4385-B8BB-36888DBE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A08-D5E9-4382-ACE7-2B4DAC97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534-F70B-4D70-821C-C7F22799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097-08F9-4016-8E76-09612607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64B2-52DB-4D4C-AA0B-8415FF9B3EC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FBB1-9F36-4043-931D-DCB6162192D9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0017-ED3B-419B-BE20-19E33C683FD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D158-A2BE-49C1-810C-B9F91649FC4E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F3AC-C1B6-4B59-83D9-E505F029963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CA18-27C5-46D8-AFF8-517736FE7684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CD41-8927-4DA3-BF04-E8B09ACB3B3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1C8A-1212-4CBB-9844-C71F5A209C31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b3d9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оль миссии и целей в стратегическом управ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125360"/>
          <a:ext cx="8072640" cy="5187960"/>
        </p:xfrm>
        <a:graphic>
          <a:graphicData uri="http://schemas.openxmlformats.org/drawingml/2006/table">
            <a:tbl>
              <a:tblPr/>
              <a:tblGrid>
                <a:gridCol w="2695680"/>
                <a:gridCol w="5376960"/>
              </a:tblGrid>
              <a:tr h="40356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выражены движением денежной наличности, структурой капитала, выпуском ценных бумаг, оборотным капиталом, выплатой дивиде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описать с помощью таких показателей, как: производственные мощности, постоянные затраты, единицы продукции в натуральном и денежном выраж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(проце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изменения в структуре или деятель­ности, может выражаться любым количеством ц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могут определять выполнение трудовых функций и отношение к работе, профессиональ­ное обучение, способы мотивации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целями в форме видов деятельности, ориентированных на участие в ре­шении острых социальных проблем (экология, безработ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Дерево целей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pSp>
        <p:nvGrpSpPr>
          <p:cNvPr id="251" name="Group 1"/>
          <p:cNvGrpSpPr/>
          <p:nvPr/>
        </p:nvGrpSpPr>
        <p:grpSpPr>
          <a:xfrm>
            <a:off x="428760" y="2071800"/>
            <a:ext cx="8286120" cy="3142800"/>
            <a:chOff x="428760" y="2071800"/>
            <a:chExt cx="8286120" cy="3142800"/>
          </a:xfrm>
        </p:grpSpPr>
        <p:grpSp>
          <p:nvGrpSpPr>
            <p:cNvPr id="252" name="Group 2"/>
            <p:cNvGrpSpPr/>
            <p:nvPr/>
          </p:nvGrpSpPr>
          <p:grpSpPr>
            <a:xfrm>
              <a:off x="428760" y="2071800"/>
              <a:ext cx="8286120" cy="3142800"/>
              <a:chOff x="428760" y="2071800"/>
              <a:chExt cx="8286120" cy="3142800"/>
            </a:xfrm>
          </p:grpSpPr>
          <p:sp>
            <p:nvSpPr>
              <p:cNvPr id="253" name="Oval 3"/>
              <p:cNvSpPr/>
              <p:nvPr/>
            </p:nvSpPr>
            <p:spPr>
              <a:xfrm>
                <a:off x="2883960" y="2071800"/>
                <a:ext cx="337608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Общая цель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"/>
              <p:cNvSpPr/>
              <p:nvPr/>
            </p:nvSpPr>
            <p:spPr>
              <a:xfrm flipH="1">
                <a:off x="18097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"/>
              <p:cNvSpPr/>
              <p:nvPr/>
            </p:nvSpPr>
            <p:spPr>
              <a:xfrm flipH="1">
                <a:off x="3651120" y="2811240"/>
                <a:ext cx="15336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"/>
              <p:cNvSpPr/>
              <p:nvPr/>
            </p:nvSpPr>
            <p:spPr>
              <a:xfrm>
                <a:off x="5339160" y="2811240"/>
                <a:ext cx="30672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61063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8"/>
              <p:cNvSpPr/>
              <p:nvPr/>
            </p:nvSpPr>
            <p:spPr>
              <a:xfrm>
                <a:off x="2286360" y="3000240"/>
                <a:ext cx="4910400" cy="36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Ключевые цели по подсистемам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9"/>
              <p:cNvGrpSpPr/>
              <p:nvPr/>
            </p:nvGrpSpPr>
            <p:grpSpPr>
              <a:xfrm>
                <a:off x="428760" y="4105800"/>
                <a:ext cx="1688040" cy="1108800"/>
                <a:chOff x="428760" y="4105800"/>
                <a:chExt cx="1688040" cy="1108800"/>
              </a:xfrm>
            </p:grpSpPr>
            <p:sp>
              <p:nvSpPr>
                <p:cNvPr id="260" name="Oval 10"/>
                <p:cNvSpPr/>
                <p:nvPr/>
              </p:nvSpPr>
              <p:spPr>
                <a:xfrm>
                  <a:off x="4287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1"/>
                <p:cNvSpPr/>
                <p:nvPr/>
              </p:nvSpPr>
              <p:spPr>
                <a:xfrm>
                  <a:off x="10425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2"/>
                <p:cNvSpPr/>
                <p:nvPr/>
              </p:nvSpPr>
              <p:spPr>
                <a:xfrm>
                  <a:off x="16563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13"/>
                <p:cNvSpPr/>
                <p:nvPr/>
              </p:nvSpPr>
              <p:spPr>
                <a:xfrm flipH="1">
                  <a:off x="58212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4"/>
                <p:cNvSpPr/>
                <p:nvPr/>
              </p:nvSpPr>
              <p:spPr>
                <a:xfrm>
                  <a:off x="119592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5"/>
                <p:cNvSpPr/>
                <p:nvPr/>
              </p:nvSpPr>
              <p:spPr>
                <a:xfrm>
                  <a:off x="16563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Oval 16"/>
              <p:cNvSpPr/>
              <p:nvPr/>
            </p:nvSpPr>
            <p:spPr>
              <a:xfrm>
                <a:off x="42876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роизводств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17"/>
              <p:cNvGrpSpPr/>
              <p:nvPr/>
            </p:nvGrpSpPr>
            <p:grpSpPr>
              <a:xfrm>
                <a:off x="2576880" y="4105800"/>
                <a:ext cx="1687320" cy="1108800"/>
                <a:chOff x="2576880" y="4105800"/>
                <a:chExt cx="1687320" cy="1108800"/>
              </a:xfrm>
            </p:grpSpPr>
            <p:sp>
              <p:nvSpPr>
                <p:cNvPr id="268" name="Oval 18"/>
                <p:cNvSpPr/>
                <p:nvPr/>
              </p:nvSpPr>
              <p:spPr>
                <a:xfrm>
                  <a:off x="257688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9"/>
                <p:cNvSpPr/>
                <p:nvPr/>
              </p:nvSpPr>
              <p:spPr>
                <a:xfrm>
                  <a:off x="31903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0"/>
                <p:cNvSpPr/>
                <p:nvPr/>
              </p:nvSpPr>
              <p:spPr>
                <a:xfrm>
                  <a:off x="38041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21"/>
                <p:cNvSpPr/>
                <p:nvPr/>
              </p:nvSpPr>
              <p:spPr>
                <a:xfrm flipH="1">
                  <a:off x="273024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22"/>
                <p:cNvSpPr/>
                <p:nvPr/>
              </p:nvSpPr>
              <p:spPr>
                <a:xfrm>
                  <a:off x="334404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3"/>
                <p:cNvSpPr/>
                <p:nvPr/>
              </p:nvSpPr>
              <p:spPr>
                <a:xfrm>
                  <a:off x="380412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Oval 24"/>
              <p:cNvSpPr/>
              <p:nvPr/>
            </p:nvSpPr>
            <p:spPr>
              <a:xfrm>
                <a:off x="24235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Маркетин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25"/>
              <p:cNvGrpSpPr/>
              <p:nvPr/>
            </p:nvGrpSpPr>
            <p:grpSpPr>
              <a:xfrm>
                <a:off x="4878720" y="4105800"/>
                <a:ext cx="1687320" cy="1108800"/>
                <a:chOff x="4878720" y="4105800"/>
                <a:chExt cx="1687320" cy="1108800"/>
              </a:xfrm>
            </p:grpSpPr>
            <p:sp>
              <p:nvSpPr>
                <p:cNvPr id="276" name="Oval 26"/>
                <p:cNvSpPr/>
                <p:nvPr/>
              </p:nvSpPr>
              <p:spPr>
                <a:xfrm>
                  <a:off x="48787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"/>
                <p:cNvSpPr/>
                <p:nvPr/>
              </p:nvSpPr>
              <p:spPr>
                <a:xfrm>
                  <a:off x="54921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"/>
                <p:cNvSpPr/>
                <p:nvPr/>
              </p:nvSpPr>
              <p:spPr>
                <a:xfrm>
                  <a:off x="61059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29"/>
                <p:cNvSpPr/>
                <p:nvPr/>
              </p:nvSpPr>
              <p:spPr>
                <a:xfrm flipH="1">
                  <a:off x="503208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30"/>
                <p:cNvSpPr/>
                <p:nvPr/>
              </p:nvSpPr>
              <p:spPr>
                <a:xfrm>
                  <a:off x="564588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31"/>
                <p:cNvSpPr/>
                <p:nvPr/>
              </p:nvSpPr>
              <p:spPr>
                <a:xfrm>
                  <a:off x="61059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32"/>
              <p:cNvGrpSpPr/>
              <p:nvPr/>
            </p:nvGrpSpPr>
            <p:grpSpPr>
              <a:xfrm>
                <a:off x="7027200" y="4105800"/>
                <a:ext cx="1687320" cy="1108800"/>
                <a:chOff x="7027200" y="4105800"/>
                <a:chExt cx="1687320" cy="1108800"/>
              </a:xfrm>
            </p:grpSpPr>
            <p:sp>
              <p:nvSpPr>
                <p:cNvPr id="283" name="Oval 33"/>
                <p:cNvSpPr/>
                <p:nvPr/>
              </p:nvSpPr>
              <p:spPr>
                <a:xfrm>
                  <a:off x="702720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34"/>
                <p:cNvSpPr/>
                <p:nvPr/>
              </p:nvSpPr>
              <p:spPr>
                <a:xfrm>
                  <a:off x="76406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5"/>
                <p:cNvSpPr/>
                <p:nvPr/>
              </p:nvSpPr>
              <p:spPr>
                <a:xfrm>
                  <a:off x="82544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36"/>
                <p:cNvSpPr/>
                <p:nvPr/>
              </p:nvSpPr>
              <p:spPr>
                <a:xfrm flipH="1">
                  <a:off x="718056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37"/>
                <p:cNvSpPr/>
                <p:nvPr/>
              </p:nvSpPr>
              <p:spPr>
                <a:xfrm>
                  <a:off x="779436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38"/>
                <p:cNvSpPr/>
                <p:nvPr/>
              </p:nvSpPr>
              <p:spPr>
                <a:xfrm>
                  <a:off x="825444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Oval 39"/>
              <p:cNvSpPr/>
              <p:nvPr/>
            </p:nvSpPr>
            <p:spPr>
              <a:xfrm>
                <a:off x="67201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Финанс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40"/>
              <p:cNvSpPr/>
              <p:nvPr/>
            </p:nvSpPr>
            <p:spPr>
              <a:xfrm>
                <a:off x="457200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ерсона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41"/>
            <p:cNvSpPr/>
            <p:nvPr/>
          </p:nvSpPr>
          <p:spPr>
            <a:xfrm>
              <a:off x="714240" y="4290480"/>
              <a:ext cx="76435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дцели по подсистемам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Правила декомпози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ая цель должна содержать описание конечного результа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развертывании общей цели в иерархическую структуру исходят из того, что реализация подцелей каждого последующего уровня является необходимым и достаточным условием достижения целей предыдуще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формулировке целей разных уровней необходимо описывать желаемые результаты, а не способы их полу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цели каждого уровня должны быть независимы друг от друга и невыводимы друг из друг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 дерева целей должны составлять задачи, представляющие собой формулировку работ, которые могут быть выполнены определенным способом в установленные сро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3548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Видение организации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— это образное представление смысла деятельности и перспектив (будущего) организации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Видени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ъясняет и демонстрирует всем сотрудникам и общественнос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представляет собой организац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ой она должна ста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 чему она стремит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Мисс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одним из главных элементов идеологической базы формирова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 должна зависеть от текущего состоя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жает устремленность в будущ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комплексной цель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грает значительную роль как во внутренней, так и во внешней сред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одходы к формированию мисс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широки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зк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Формулировка миссии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содержа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сферы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бочие принципы фирмы по отношению к окружающей сред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ценности внутри фирмы, рассматриваемые как культура организ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Заинтересованные группы в формулировке миссии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00040" y="1571760"/>
          <a:ext cx="8286840" cy="5073480"/>
        </p:xfrm>
        <a:graphic>
          <a:graphicData uri="http://schemas.openxmlformats.org/drawingml/2006/table">
            <a:tbl>
              <a:tblPr/>
              <a:tblGrid>
                <a:gridCol w="2170080"/>
                <a:gridCol w="6116760"/>
              </a:tblGrid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является клиентами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/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товары/услуги предлагают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фирма ведет конкурентную борьб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базовая технология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выж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 экономическую цель преследует фирм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базовые убеждения, ценности и приоритетные устрем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ый об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акому имиджу стремится фирма и какую ответственность перед обществом она приним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позиция фирмы по отношению к своему персонал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 с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заявляемые отличительные каче­ства и конкурентные преимуществ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Определение цели -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999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более конкретный, чем миссия, уровень принятия решений, требующий выработки соответствующих стратегических задач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ледует различать цел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ецифическ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роцесс постановки целей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основном происходит сверху вни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ждый руководитель должен иметь четкие цели, которые обеспечивают поддержку целей более высоко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процессе выработки целей, необходим двусторонний обмен информаци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Эффективность целей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- это базовый критерий стратегического целеполаган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Цели должны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ретными и измеримы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иентированными во времен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алистичны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поставимыми и взаимно поддерживающи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960" y="1571760"/>
          <a:ext cx="8072280" cy="5227560"/>
        </p:xfrm>
        <a:graphic>
          <a:graphicData uri="http://schemas.openxmlformats.org/drawingml/2006/table">
            <a:tbl>
              <a:tblPr/>
              <a:tblGrid>
                <a:gridCol w="2695680"/>
                <a:gridCol w="5376600"/>
              </a:tblGrid>
              <a:tr h="40320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12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выражаться в различных показателях, таких как объем прибыли, доход на инвестиро­ванный капитал, отношение прибыли к объему продаж (коэффициент чистой прибыли)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описываться следующими понятиями: доля рынка, объем продаж в денежном или натуральном выражении, рыночная (отраслевая) ни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отношением выхода к входу, а также в виде издержек на единицу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но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 новые способы ведения бизнеса (новые технологии и методы организации производства, внедрение на новые рынки и т. д.) и могут выражаться как в денежных, так и в дру­гих показа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показателей объема продаж или прибыль­ности по отношению к конкретному изделию (ассортименту изделий) цели могут быть связа­ны с выведением нового товара на рынок или снятия с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1:10:41Z</dcterms:created>
  <dc:creator>И.В.</dc:creator>
  <dc:description/>
  <dc:language>en-US</dc:language>
  <cp:lastModifiedBy>Толя</cp:lastModifiedBy>
  <dcterms:modified xsi:type="dcterms:W3CDTF">2014-12-01T07:03:41Z</dcterms:modified>
  <cp:revision>14</cp:revision>
  <dc:subject/>
  <dc:title>Тема6 - Роль миссии и целей организации в стратегическом управлении</dc:title>
</cp:coreProperties>
</file>