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1B318-FC5E-403D-A91E-BA9E67604FC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1ADD8-578B-4FB9-907F-8813AD1542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EEC85-88F6-4F81-8C0D-E6E5824F44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101BB-9E8E-49FD-859A-D5FAFA9571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5AA49-6583-4A52-9EAC-C0BD4232C6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30F1C-7F9B-4DCB-8318-292F74BD57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5CB16-F506-4307-A74B-ACCCBBA591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BFC6E-4903-45A7-AF47-78580D8549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1E33E-36A9-4B3A-92DD-08C80816D2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B90A6-725D-4D93-B6AD-C5ACF93BC0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8DA28-68FF-46BF-A887-172D10BCA7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EAF63-5486-40DA-92E8-6D8F3F76B5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63899-9AC5-4129-8F3C-49612876F5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D5734-D337-433D-8C32-BF830493D6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444B-C0C9-4CFC-B32D-3956F0FA3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D3A3-39BA-4A9D-8392-9F3FF3629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DBB6-457D-4580-A2FF-31A126A46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7A3D-6ED6-4F26-B849-70D28E7B6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D4BFD-0553-47FB-A28B-49F074381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D9706-96F4-4A2A-B82B-668519F95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A8DB5-6814-4842-82DA-5DE227B9E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CEB4B-219C-4F63-8616-8018470F4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7E5CE-114E-4876-A068-91C7400EB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B724A-756F-464C-AC1A-8515AED3B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A463C-E495-4497-B9A4-AC61919C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8778-5F72-495C-9076-562407ED3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874DC-C83D-4294-8F50-C6126E2E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27E05-6155-4FCB-826B-B7254BFB4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F745B-4ACB-48F7-AFEA-06B3B1912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3CC56-92C9-4684-9928-9D58E3FA1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A036D-C87F-44AE-8246-D36EB9BA3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D0117-2EEC-4B74-8127-3D68E8A18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683A8-C33F-44D4-B074-282DA011F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C3A75-121E-43F3-8AA2-F469605C9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080E0-F203-4B1B-8E80-7621A80CC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81EA6-B524-4BA9-9D9B-F1CD00CD2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9258-5ACA-418D-B38D-0AF21BFC9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F47EC-2FE9-4EE3-A827-E0E9FADA5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8FE75-136A-47B1-AB9E-EF9AF80CE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F9F16-A0C0-4A3B-BAE7-1B4C05D5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1729A-F5F8-4DD4-9556-5FD84646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416E7-F723-436E-84A0-4122C43E3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7D013-9475-4E37-977E-BE5F31CCD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3DC7B-E3D7-40B8-964F-77B2B89D4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87709-B4FD-4A5E-A178-2B5E94E5B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E2399-91E3-4B20-A188-9C8F869E3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CD628-AFE6-400B-9127-E34ADBBBE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D70F-DD28-4FA6-ADA7-5EC32911D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41CC6-D753-4EBC-B016-9AF7A3BB6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8DD06-308E-46BF-9D64-052773718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6AA28-367F-4E4E-B9BC-8673EEBD5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756DB-B238-435A-AEE2-F8A2440A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FF117-9965-4341-A63B-5CF0F9F6A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2E77D-2FFA-4CE9-8782-A1815F6F8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D90F3-9197-4071-A46F-CB1C1CC72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143DC-EDBC-4732-9D3A-B28ED98F0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9433E-4D05-41B9-A0BB-D2A0CCB79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ECD445-971A-4D95-8CCF-D8C99B37A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0952-A37B-400F-85AF-51B309758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2BE8E2-45A3-4A73-97AE-3296422EE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3AA387-AAA8-4755-B50F-DD8F11151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282EEF-D9D1-448E-8EC2-46802070E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AE8272-492B-4BC7-A073-A84E0CB10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F7385-F392-43F3-9D09-4CCD026BC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ACC843-36FB-44C9-A952-26AC96D58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539D13-EE54-49D1-872C-82E6091A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1B5F3-2AE3-4A21-B590-FF2281817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50A8C-33DF-47E8-B2FE-A26917634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A65388-0BB8-4C22-8C7E-501E5D37F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91EA-5662-4DC6-AB3E-CB011CD3B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B6D02-BB83-40A2-9053-F78AF0985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A81B-B55E-4544-AEE9-AF4F2944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98EF-CBCB-48EF-AB94-4F46F83A7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1A2F-86A9-4F8B-8FDF-689F31B88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825E7-FA4F-4B85-8BC4-337B56CC3BBC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8E9D2-43BE-42B3-A5F5-CCD1C6375110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06B27-2B3B-4D16-A948-AD4C7577251F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30FEE-04D6-46DA-BB02-5E27D47E3A00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1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72C87-A377-4B6E-B785-A2AF7409D155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573228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90c226"/>
                </a:solidFill>
                <a:latin typeface="Trebuchet MS"/>
              </a:rPr>
              <a:t>1270, Стратегический менеджмент базовый курс</a:t>
            </a:r>
            <a:endParaRPr b="0" lang="en-US" sz="2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1187280" y="4233960"/>
            <a:ext cx="740736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Канд. экон. наук, доцент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Попова Инна Викторовн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1116000" y="1989000"/>
            <a:ext cx="740736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rebuchet MS"/>
              </a:rPr>
              <a:t>Стратегическое управление в системе менеджмента организации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1093680" y="3357720"/>
            <a:ext cx="7407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22027"/>
                </a:solidFill>
                <a:latin typeface="Trebuchet MS"/>
              </a:rPr>
              <a:t>Тема 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748640" cy="20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Стратегическое управление на предприятии выражается в следующих пяти 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Trebuchet MS"/>
              </a:rPr>
              <a:t>функциях</a:t>
            </a: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: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928800" y="2428560"/>
            <a:ext cx="7686720" cy="38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Планирование стратегии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Организация выполнения стратегических планов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Координация действий по реализации стратегических задач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Мотивация на достижение стратегических результатов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Контроль за процессом выполнения стратегии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8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71360" y="274680"/>
            <a:ext cx="7615080" cy="639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Trebuchet MS"/>
              </a:rPr>
              <a:t>Сущность стратегического управления</a:t>
            </a:r>
            <a:r>
              <a:rPr b="1" i="1" lang="ru-RU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состоит в формировании и реализации стратегии развития организации на основе непрерывного контроля и оценки происходящих изменений в ее деятельности с целью поддержания способности к выживанию и эффективному функционированию в условиях нестабильной внешней среды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0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71360" y="274680"/>
            <a:ext cx="7677000" cy="24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Стратегическое управление предприятием включает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rebuchet MS"/>
              </a:rPr>
              <a:t>пять основных компонентов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, образующих следующую цепь перспективно-целевых решений: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3141720"/>
            <a:ext cx="8229600" cy="29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404040"/>
                </a:solidFill>
                <a:latin typeface="Trebuchet MS"/>
              </a:rPr>
              <a:t>Видение </a:t>
            </a:r>
            <a:r>
              <a:rPr b="0" lang="ru-RU" sz="4400" spc="-1" strike="noStrike">
                <a:solidFill>
                  <a:srgbClr val="404040"/>
                </a:solidFill>
                <a:latin typeface="Symbol"/>
                <a:ea typeface="Symbol"/>
              </a:rPr>
              <a:t></a:t>
            </a:r>
            <a:r>
              <a:rPr b="0" lang="ru-RU" sz="4400" spc="-1" strike="noStrike">
                <a:solidFill>
                  <a:srgbClr val="404040"/>
                </a:solidFill>
                <a:latin typeface="Trebuchet MS"/>
              </a:rPr>
              <a:t> Сфера бизнеса </a:t>
            </a:r>
            <a:r>
              <a:rPr b="0" lang="ru-RU" sz="4400" spc="-1" strike="noStrike">
                <a:solidFill>
                  <a:srgbClr val="404040"/>
                </a:solidFill>
                <a:latin typeface="Symbol"/>
                <a:ea typeface="Symbol"/>
              </a:rPr>
              <a:t></a:t>
            </a:r>
            <a:r>
              <a:rPr b="0" lang="ru-RU" sz="4400" spc="-1" strike="noStrike">
                <a:solidFill>
                  <a:srgbClr val="404040"/>
                </a:solidFill>
                <a:latin typeface="Trebuchet MS"/>
              </a:rPr>
              <a:t> Миссия </a:t>
            </a:r>
            <a:r>
              <a:rPr b="0" lang="ru-RU" sz="4400" spc="-1" strike="noStrike">
                <a:solidFill>
                  <a:srgbClr val="404040"/>
                </a:solidFill>
                <a:latin typeface="Symbol"/>
                <a:ea typeface="Symbol"/>
              </a:rPr>
              <a:t></a:t>
            </a:r>
            <a:r>
              <a:rPr b="0" lang="ru-RU" sz="4400" spc="-1" strike="noStrike">
                <a:solidFill>
                  <a:srgbClr val="404040"/>
                </a:solidFill>
                <a:latin typeface="Trebuchet MS"/>
              </a:rPr>
              <a:t> Стратегии </a:t>
            </a:r>
            <a:r>
              <a:rPr b="0" lang="ru-RU" sz="4400" spc="-1" strike="noStrike">
                <a:solidFill>
                  <a:srgbClr val="404040"/>
                </a:solidFill>
                <a:latin typeface="Symbol"/>
                <a:ea typeface="Symbol"/>
              </a:rPr>
              <a:t></a:t>
            </a:r>
            <a:r>
              <a:rPr b="0" lang="ru-RU" sz="4400" spc="-1" strike="noStrike">
                <a:solidFill>
                  <a:srgbClr val="404040"/>
                </a:solidFill>
                <a:latin typeface="Trebuchet MS"/>
              </a:rPr>
              <a:t> Программы и планы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Trebuchet MS"/>
              </a:rPr>
              <a:t>Процесс стратегического управления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5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Рисунок 2" descr="процесс стр упр 2.png"/>
          <p:cNvPicPr/>
          <p:nvPr/>
        </p:nvPicPr>
        <p:blipFill>
          <a:blip r:embed="rId1"/>
          <a:stretch/>
        </p:blipFill>
        <p:spPr>
          <a:xfrm>
            <a:off x="1039680" y="2000160"/>
            <a:ext cx="7961400" cy="39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900" spc="-1" strike="noStrike" u="sng">
                <a:solidFill>
                  <a:srgbClr val="000000"/>
                </a:solidFill>
                <a:uFillTx/>
                <a:latin typeface="Trebuchet MS"/>
              </a:rPr>
              <a:t>Уровни стратегий</a:t>
            </a:r>
            <a:r>
              <a:rPr b="0" lang="ru-RU" sz="2900" spc="-1" strike="noStrike">
                <a:solidFill>
                  <a:srgbClr val="000000"/>
                </a:solidFill>
                <a:latin typeface="Trebuchet MS"/>
              </a:rPr>
              <a:t>          и          </a:t>
            </a:r>
            <a:r>
              <a:rPr b="1" i="1" lang="ru-RU" sz="2900" spc="-1" strike="noStrike" u="sng">
                <a:solidFill>
                  <a:srgbClr val="000000"/>
                </a:solidFill>
                <a:uFillTx/>
                <a:latin typeface="Trebuchet MS"/>
              </a:rPr>
              <a:t>объекты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Trebuchet MS"/>
              </a:rPr>
              <a:t> стратегического управления</a:t>
            </a:r>
            <a:endParaRPr b="0" lang="en-US" sz="2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609120" y="2160360"/>
            <a:ext cx="30877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орпоративный уровень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Бизнес-уровень (конкурентный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Функциональный  уровень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868560" y="2160360"/>
            <a:ext cx="30895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едприятие в целом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атегическое поле бизнес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Функциональные сферы деятельност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0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90c226"/>
                </a:solidFill>
                <a:uFillTx/>
                <a:latin typeface="Trebuchet MS"/>
              </a:rPr>
              <a:t>План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285920" y="1268280"/>
            <a:ext cx="74008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едпосылки возникновения стратегического менеджмент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нятие стратегического управлен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равнение стратегического и оперативного управлен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ущность стратегического управлен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оцесс стратегического управления и его компоненты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Уровни стратегий и объекты стратегического управлен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500" spc="-1" strike="noStrike" u="sng">
                <a:solidFill>
                  <a:srgbClr val="000000"/>
                </a:solidFill>
                <a:uFillTx/>
                <a:latin typeface="Trebuchet MS"/>
              </a:rPr>
              <a:t>Факторы-условия, определяющие актуальность стратегического управления</a:t>
            </a:r>
            <a:endParaRPr b="0" lang="en-US" sz="2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ост числа управленческих задач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асширением географических рамок</a:t>
            </a: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деятельности национальных экономик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514440" indent="-51444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 startAt="3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озрастание роли высшего звена управлени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514440" indent="-51444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 startAt="3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Усиление нестабильности внешней среды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0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71360" y="228600"/>
            <a:ext cx="7615080" cy="577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rebuchet MS"/>
              </a:rPr>
              <a:t>Стратегическое управление</a:t>
            </a: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 — 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процесс разработки, принятия и реализации стратегических решений, центральным звеном которого является стратегический выбор, основанный на сопоставлении собственного ресурсного потенциала предприятия с возможностями и угрозами внешнего окружения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2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42640" y="404280"/>
            <a:ext cx="7543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rebuchet MS"/>
              </a:rPr>
              <a:t>Стратегия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— это заранее спланированная реакция организации на изменение внешней среды, линия ее поведения, выбранная для достижения желаемого результата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4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00080" y="285480"/>
            <a:ext cx="7801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rebuchet MS"/>
              </a:rPr>
              <a:t>Сравнение стратегического и оперативного управления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1000080" y="1600200"/>
          <a:ext cx="7686720" cy="4495680"/>
        </p:xfrm>
        <a:graphic>
          <a:graphicData uri="http://schemas.openxmlformats.org/drawingml/2006/table">
            <a:tbl>
              <a:tblPr/>
              <a:tblGrid>
                <a:gridCol w="2000160"/>
                <a:gridCol w="2643480"/>
                <a:gridCol w="3043080"/>
              </a:tblGrid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с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еративное управ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тегическое управ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ссия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назнач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одство товаров и услуг с целью получения дохода от их реализаци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живание организации в долгосрочной перспективе посредством установления динамичного баланса с окружением, позволяющего решать проблемы заинтересованных в деятельности организации лиц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5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к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центр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има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еджмен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гляд внутрь организации, поиск путей более эффективного использования ресурсо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гляд вовне организации, поиск новых возможностей в конкурентной борьбе, отслеживание и адаптация к изменениям в окружени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7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00080" y="285480"/>
            <a:ext cx="7801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rebuchet MS"/>
              </a:rPr>
              <a:t>Сравнение стратегического и оперативного управления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1000080" y="1268280"/>
          <a:ext cx="7697880" cy="5145120"/>
        </p:xfrm>
        <a:graphic>
          <a:graphicData uri="http://schemas.openxmlformats.org/drawingml/2006/table">
            <a:tbl>
              <a:tblPr/>
              <a:tblGrid>
                <a:gridCol w="2000160"/>
                <a:gridCol w="2646360"/>
                <a:gridCol w="3051360"/>
              </a:tblGrid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с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еративное управ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тегическое управ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21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т фактора време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иентация на краткосрочную и среднесрочную перспектив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иентация на долгосрочную перспектив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40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а построения системы упра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и и организационные структуры, процедуры, техника и технолог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юди, системы информационного обеспечения, рынок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7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ход к управлению персонал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гляд на работников как на ресурс организации, как на исполнителей отдельных работ и функци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гляд на работников как на основу организации, ее главную ценность и источник ее благополуч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0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00080" y="22824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rebuchet MS"/>
              </a:rPr>
              <a:t>Сравнение стратегического и оперативного управления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1000080" y="2274840"/>
          <a:ext cx="7547040" cy="3079800"/>
        </p:xfrm>
        <a:graphic>
          <a:graphicData uri="http://schemas.openxmlformats.org/drawingml/2006/table">
            <a:tbl>
              <a:tblPr/>
              <a:tblGrid>
                <a:gridCol w="2357640"/>
                <a:gridCol w="2222280"/>
                <a:gridCol w="2967120"/>
              </a:tblGrid>
              <a:tr h="64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с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еративное управ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тегическое управ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итерии эффективности упра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ыльность и рациональность использование производственного потенциал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оевременность и точность реакция организации на новые запросы рынка и изменения в зависимости от изменения окруж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3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71360" y="274320"/>
            <a:ext cx="7615080" cy="617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Trebuchet MS"/>
              </a:rPr>
              <a:t>Главная цель стратегического управления</a:t>
            </a: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— развитие потенциала и поддержание стратегической способности предприятия к выживанию и эффективному функционированию в ус­ловиях нестабильной внешней среды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5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08:53:50Z</dcterms:created>
  <dc:creator>User</dc:creator>
  <dc:description/>
  <dc:language>en-US</dc:language>
  <cp:lastModifiedBy>Толя</cp:lastModifiedBy>
  <dcterms:modified xsi:type="dcterms:W3CDTF">2014-12-01T06:54:10Z</dcterms:modified>
  <cp:revision>14</cp:revision>
  <dc:subject/>
  <dc:title>Theme 1</dc:title>
</cp:coreProperties>
</file>