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442D-9671-4376-B3C0-2433246A71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1A49-CA00-403C-AB19-52E77FC22A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CC64-EF2F-41D2-BAC8-C934A1D06D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F299-A0D3-4322-AE7A-2D9C45F57E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5FC1-F20D-4879-99C5-960A9E3CA9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D046-1B83-4F04-9843-DD1294BA72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AA37-EA9F-465F-BEB8-E48E6A0022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4C89-942B-408F-A865-AA07E933E3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94E1-6509-4CA2-A4D3-47D7B1F1DE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EF36-9046-4B8A-8893-9C6EF011C8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E3DB-3C24-40E6-A881-A8449601FF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50AE-8736-42CD-8474-D4F7729487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7DA5-34B9-4844-A597-916F5CBAF4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925E-5387-4D1F-9F54-8C9F9EEF67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806E-8CB1-4BE3-9A1D-E577AE5780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0C24-5693-4D98-B5B6-2F9A2F9E69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9191-26C3-42BC-AFFC-735983EB08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26CF-F9C1-4B4B-9EEB-D253D2D1A4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200-F95F-4B97-AE6C-F03B93D4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233-9E61-4C01-96B2-4118B324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0A7-97C4-46D8-8F5E-D6572985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0F5-CD74-4705-B669-9F531614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F5C5-A9E7-4AFC-B48C-B9001957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2379-58E3-4C09-A33E-F64688F2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29AA-1D8E-4552-A096-518A1813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8120-1AB5-443D-8EA1-2DB4678C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6460-4125-409A-AE40-3CF54297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EDCD-2B8E-4EF5-803A-3E60E091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0C1C-C878-4483-96C2-6031DFC7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2A95-967A-4DC7-AC23-A01B56C6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AC08-D31C-4AEA-A703-76F96B5E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90D4-879F-423B-B4D4-70101C72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9075-8162-43E5-AE6B-505E9F98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795E-0C50-4771-A5C6-6EBDC3CE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B774-51AC-4526-BDCD-6495A0A4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0EE60-6C46-4446-817C-C844D9FB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80FBC-2959-4B86-8CDA-DAD6CD5A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591D4-0849-4453-B698-8E062BB2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BC5C-D4EE-4FA5-92AC-B8119AB0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7DB63-DA2F-4F9B-85DD-89482CC0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99B-C3D1-4EE6-86F9-BA27122D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D613E-04F8-4FFC-90DA-2735C5BA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FBFEE-0256-4956-B5BF-EFC195F4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BFACD-709E-4704-9505-445E9CF5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D08C8-DAC7-494C-A400-39EA015B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1988C-9D53-4B5D-B101-DCA7E02B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FA939-BD2C-425B-8170-1E20DCEF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1CF7D-310F-4302-A07E-91A0D29E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57C04-2243-40A7-AB51-D1DA9A68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361D3-A250-4DCC-8D7B-97821839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F8D43-E530-4BFD-8F26-E5E940A9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056-1A3D-4F1E-ADFF-755B4B28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ECC72-9EB6-4D43-AA26-483A1034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EE47F-4404-4999-8265-34C594BE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35B0B-A28C-4266-9EAC-CD2A5E16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2C6EC-C39C-442C-BD2C-0CDB2118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147A5-0B89-4D31-8BFE-2C6E6B72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F2843-0300-4796-8948-A4D8D37B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EFCDB-0831-46A2-919C-F93563B6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799B0-A91D-475D-AF79-8BE6CF87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673CA-448C-463A-9446-55AC066A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49B09-95A0-415A-80EF-909DE530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02C-D97B-4F5B-AF4F-2EB7D7C8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C834C-D4EC-4D88-8F94-96F203EC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ED803-2D73-43AF-9AD9-C391F4E8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A7DAF-7EB0-4322-95F7-DB65C045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215D3-AD7F-453D-A0F8-2C35DAF2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6244C-5088-4CEC-884E-A412EFA1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0A531-687A-414C-B0FE-030904D5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3F350-0AD6-43F1-8848-261A27C4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CA839-F0C4-4994-A850-F6BAC67E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EDBDF-1B11-4D40-8F80-588C0364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E0255-CAE0-4AC9-9480-30C70B8A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474-4670-47B8-8372-78080FB7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A6D1B-122A-407F-A3E8-0B228B20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193-9F0D-4371-A938-A3A079DA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0808-F012-46FF-8C81-AE47A76B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9B1-4621-43B2-A39C-618E7D37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9BCE-8F9E-4EAF-8DAF-0832F355911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6FAA-993E-45DD-A7F1-68A1993364D5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2FC5-A982-480C-92B0-5CD0CEA3CF0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2F4C-AA89-4530-BE0D-752A591B281C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3CB3-F851-4F01-BE4B-9AABE1B1092E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B592-C027-4F7E-A7D1-DF3503C2B5FC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F455-BDEC-4036-8275-A3BD213C344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860F-E650-4703-AE48-DF974230DB17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BC70-7B2D-4830-B07A-D82A1EB255D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6600-1AE0-4E7B-A206-6CEC418DB70E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4831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Формирование стратегических альтернатив. Выбор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лидер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Наступательная страте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бычно применяется фирмами, стремящимися сохранить доминирующее положение на рын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тратегия сокращения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– обычно вынужденное средств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Оборонительная страте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фирм-лидеров преследует прежде всего цель защитить завоеванные пози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73548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фирм, следующих за лидером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разумевают выбор последователем адаптивного поведения по отношению к фирме-лидеру, которое не вызывает отпора с ее сторон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здерживаются от инициативных стратегических шагов и попыток переманить клиентов у лидер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следователи, не нарушая сферы влияния лидера, могут придерживаться стратегии фокусирования, базирующейся на дифференциации с ориентацией на высокое качество товара, а также стратегии характерного имидж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фирм со слабой конкурентной позицией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нтрируют усилия на одном или нескольких рыночных сегмента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бежать прямого столкновения с доминирующими фирма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лучшают технологии с целью снижения издерже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нтрируют внимание на прибыли, а не на увеличении объема продаж или доле рынк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емятся к специализации, а не к диверсифик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e48312"/>
                </a:solidFill>
                <a:uFillTx/>
                <a:latin typeface="Trebuchet MS"/>
              </a:rPr>
              <a:t>Портфельный анализ</a:t>
            </a:r>
            <a:r>
              <a:rPr b="1" lang="ru-RU" sz="4000" spc="-1" strike="noStrike">
                <a:solidFill>
                  <a:srgbClr val="e48312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инструмент, с помощью которого руководство предприятия выявляет и оценивает свою хозяйственную деятельность с целью вложения средств в наиболее прибыльные или перспективные ее направления и сокращения/прекращения инвестиций в неэффективные проект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Цель портфельного анализа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гласование бизнес-стратегий и распределение финансовых ресурсов между хозяйственными подразделениями компани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Матрица БКГ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311" name="Object 2"/>
          <p:cNvGraphicFramePr/>
          <p:nvPr/>
        </p:nvGraphicFramePr>
        <p:xfrm>
          <a:off x="179280" y="1773360"/>
          <a:ext cx="8048880" cy="43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04888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777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Выделяют 4 группы рынков товара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57000"/>
            <a:ext cx="8507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Проблемы»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—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товары этой группы могут оказаться очень перспективными, поскольку рынок рас­ширяется, но требуют значительных средств для поддержа ния роста. Применительно к этой группе продуктов необходимо решить: увеличить долю рынка данных товаров или прекратить их финансировани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Звезды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это рыночные лидеры. Они приносят значительную прибыль благодаря своей конкурентоспособности, но также нуждаются в финансировании для поддержания высокой доли динамичного рын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Дойные коровы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товары, способные принести больше прибыли, чем необходимо для поддержания их роста. Они являются основным источником финансовых средств для диверсификации и научных исследований. Приоритетная стратегическая цель — «сбор урожая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Собаки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это продукты, которые находятся в невыгодном положении по издержкам и не имеют возможностей роста. Сохранение таких товаров связано со значительными финансовыми расходами при небольших шансах на улучшение положения. Приоритетная стратегия — деинвестирование и скромное существование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Рекомендации Бостонской матрицы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рын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стратег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тратегии единицы бизнес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ес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везды», «Проблем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ржи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нятие сливок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ойные коров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туп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инвес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баки», «Проблем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e48312"/>
                </a:solidFill>
                <a:uFillTx/>
                <a:latin typeface="Trebuchet MS"/>
              </a:rPr>
              <a:t>Недостатки методов портфельного анализа</a:t>
            </a:r>
            <a:r>
              <a:rPr b="0" lang="ru-RU" sz="4000" spc="-1" strike="noStrike">
                <a:solidFill>
                  <a:srgbClr val="e48312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удности учета границ и масштаба рынка, большое количество критерие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убъективность оцено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атичный характер моде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лишком общий характер рекомендац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акторы выбора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льтернативы роста крупных, средних и малых фир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альтернативы в зависимости от этапа жизненного цикла отрасл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альтернативы в зависимости от занимаемой рыночной пози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ртфельные методы выбора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Факторы стратегического выбор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ояние отрасл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ыночная позиция фирмы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сштаб деятельности организаци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актор времен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емлемый уровень рис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Матрица направлений рост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82" name="Рисунок 3" descr="Q:\Инна\В Г У Э С\Лекции\Стратегический менеджмент - бакалавры\media\image1.png"/>
          <p:cNvPicPr/>
          <p:nvPr/>
        </p:nvPicPr>
        <p:blipFill>
          <a:blip r:embed="rId1"/>
          <a:stretch/>
        </p:blipFill>
        <p:spPr>
          <a:xfrm>
            <a:off x="0" y="1501920"/>
            <a:ext cx="7929720" cy="5000400"/>
          </a:xfrm>
          <a:prstGeom prst="rect">
            <a:avLst/>
          </a:prstGeom>
          <a:ln w="0">
            <a:noFill/>
          </a:ln>
        </p:spPr>
      </p:pic>
      <p:sp>
        <p:nvSpPr>
          <p:cNvPr id="28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723888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48312"/>
                </a:solidFill>
                <a:latin typeface="Trebuchet MS"/>
              </a:rPr>
              <a:t>Сравнение преимуществ малого и крупного бизнеса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71680" y="1928880"/>
          <a:ext cx="8072280" cy="4637160"/>
        </p:xfrm>
        <a:graphic>
          <a:graphicData uri="http://schemas.openxmlformats.org/drawingml/2006/table">
            <a:tbl>
              <a:tblPr/>
              <a:tblGrid>
                <a:gridCol w="4036680"/>
                <a:gridCol w="4035600"/>
              </a:tblGrid>
              <a:tr h="3679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ые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ые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2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ая структура, не отягощенная прошлыми решениями и кадр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удовлетворять индивидуальные запросы кли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ная интенсивность труда и высокая корпоративность трудового коллекти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мобильность в вопросах стратегии развития, в том числе в области использования некапиталоемких достижений НТ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скорость оборота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крупного капитала дает возможность расширять сферы своей деятельности путем различных форм экспансии (диверсификация, интег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объемы производства позволяют добиться эффекта масштаба и тем самым снизить издерж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проведения НИОКР и маркетинговых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высокопроизводительной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85716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Стратегии развития малого предприятия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88" name="Рисунок 3" descr="Q:\Инна\В Г У Э С\Лекции\Стратегический менеджмент - бакалавры\media\image3.png"/>
          <p:cNvPicPr/>
          <p:nvPr/>
        </p:nvPicPr>
        <p:blipFill>
          <a:blip r:embed="rId1"/>
          <a:stretch/>
        </p:blipFill>
        <p:spPr>
          <a:xfrm>
            <a:off x="0" y="2276640"/>
            <a:ext cx="8429760" cy="392904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копирован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-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оперативного, быстрого реагирования на рыночную конъюнктуру, при которой малая фирма выбирает независимую форму существования (суверенитет) и предлагает рынку продукт, подобный продукту крупной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оптимального размер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стратегия находит свое применение в тех отраслях, где крупное производство неэффективно, прибыль невелика по масштабам крупных фирм, высоки расходы, связанные с добавленной стоимость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участия в продукте крупной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малые фирмы используют возможности, связанные с политикой дезинтеграции, проводимой крупными компаниями, отказывающимися от собственного мелкого промежуточного производства внутри фирмы, которое редко бывает эффективны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использования преимуществ крупной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примером такой стратегии служит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франчайзинг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как форма интеграции малого и крупного бизнес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48312"/>
                </a:solidFill>
                <a:latin typeface="Trebuchet MS"/>
              </a:rPr>
              <a:t>Особенности стратегии средних фирм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93" name="Рисунок 3" descr="Q:\Инна\В Г У Э С\Лекции\Стратегический менеджмент - бакалавры\media\image4.png"/>
          <p:cNvPicPr/>
          <p:nvPr/>
        </p:nvPicPr>
        <p:blipFill>
          <a:blip r:embed="rId1"/>
          <a:stretch/>
        </p:blipFill>
        <p:spPr>
          <a:xfrm>
            <a:off x="108000" y="2060640"/>
            <a:ext cx="8143920" cy="4429080"/>
          </a:xfrm>
          <a:prstGeom prst="rect">
            <a:avLst/>
          </a:prstGeom>
          <a:ln w="0">
            <a:noFill/>
          </a:ln>
        </p:spPr>
      </p:pic>
      <p:sp>
        <p:nvSpPr>
          <p:cNvPr id="29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7743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e48312"/>
                </a:solidFill>
                <a:uFillTx/>
                <a:latin typeface="Trebuchet MS"/>
              </a:rPr>
              <a:t>Выбор стратегии в зависимости от стадии ЖЦО</a:t>
            </a:r>
            <a:endParaRPr b="0" lang="en-US" sz="29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96" name="Рисунок 3" descr="Q:\Инна\В Г У Э С\Лекции\Стратегический менеджмент - бакалавры\media\image5.png"/>
          <p:cNvPicPr/>
          <p:nvPr/>
        </p:nvPicPr>
        <p:blipFill>
          <a:blip r:embed="rId1"/>
          <a:stretch/>
        </p:blipFill>
        <p:spPr>
          <a:xfrm>
            <a:off x="212760" y="1554120"/>
            <a:ext cx="8785080" cy="5102280"/>
          </a:xfrm>
          <a:prstGeom prst="rect">
            <a:avLst/>
          </a:prstGeom>
          <a:ln w="0">
            <a:noFill/>
          </a:ln>
        </p:spPr>
      </p:pic>
      <p:sp>
        <p:nvSpPr>
          <p:cNvPr id="29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0:31:12Z</dcterms:created>
  <dc:creator>И.В.</dc:creator>
  <dc:description/>
  <dc:language>en-US</dc:language>
  <cp:lastModifiedBy>Толя</cp:lastModifiedBy>
  <dcterms:modified xsi:type="dcterms:W3CDTF">2014-12-01T07:11:05Z</dcterms:modified>
  <cp:revision>15</cp:revision>
  <dc:subject/>
  <dc:title>Theme 8</dc:title>
</cp:coreProperties>
</file>