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7CC9-E13D-4984-B204-EB02A905E3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1AC2-89E2-4777-84F8-04E0FA4EF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538B-5508-439D-B341-D039700C55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209A-DAF6-4836-B217-EBDF593123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4BAA-3EC3-41C8-B468-09A2254230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899A-7127-4429-B811-4880D604C5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30C0-2DFA-46D9-9129-A04A6C90EA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4EDD-E604-42C7-9F21-8B3DB0CEEA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7916-04F7-4CCA-B838-174BD524DE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5BBF-F538-4E46-93AB-F53BA25CC6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10E1-B7B5-4802-A451-A8B71C56FC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466B-3543-465C-A906-792AB9E13A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67D6-43E3-485A-B9BE-FD856491B3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25D-B595-41C4-AD3C-87A61F25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6DE-D633-49FB-9BD5-746F2209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9E6-8DE8-4ED0-A5A7-8775AC5D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F57-893C-4A52-86DF-904FFE1F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DD59-B841-4214-862A-FC910ECD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E2F0-BFB8-4966-943E-AAD19235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635B-9D99-4114-84DD-D6625B31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86EC-5FEC-4D6C-B163-38B63A19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13E5-CF8B-4394-9A84-251B8825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3AA5-92CB-4037-9553-95087A33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28CA-6A5E-40CA-9053-B3054A53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67C-EF93-4952-8598-F345C7C2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1D40-A908-4A44-9391-58E9BE7B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9CFF-561D-4579-B298-A194BCB3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A9EE-4FE8-45E1-90B2-EDFFCEA2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2372-80B0-46BB-808B-AB8E39DA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C2C5-3B59-4E14-9397-01083E3C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BBF33-2D1F-4E83-88D1-DDD0CD66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101C-092A-4EFF-BE1B-0198DE8C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B0E60-C20D-4611-A212-09A2C1A0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9545E-0F64-4E6F-ADB1-E1CC0E36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188C-6BC6-41BC-9F33-65C0EF96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8C1-61F6-4DC4-8C1E-2A2BAD81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039FF-D053-4CB4-B803-C0AA739D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1AB9-B84A-456C-A9E2-DE6036F0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A8D35-DD46-47DA-A103-DB569DC3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6A7F-54C5-4C1C-B15E-5C22205F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1C00-BA42-4694-B364-6EC91861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AB5C-911F-489C-A3FC-A93CB466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C0FE-C7BA-47A7-B9CF-100FDFC2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8F977-0BF9-4A04-90AC-3D7C0AE0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D84AC-BF72-4A64-8C15-4B59C6CE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8B5A9-9F4C-4225-8B01-726D298D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68C-6B91-4065-A039-60E7CD15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1F9C4-DF3C-4DCE-9BA8-709B6253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E1C9C-AC3E-4C03-85F5-A2798F03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7C333-3FAC-4B6F-BACD-FC29642D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45BAC-88EA-4EA0-86D8-14397FF4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BD524-BCB2-4E5E-A5F4-54C43B1B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99C4E-B121-48A0-BFD0-E4D280F4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6DEB4-4DEA-44BD-9901-DF5C4878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6D8C9-B372-49DA-B197-4C1B5309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294D-17BE-4E25-88E0-EFCD9EBC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149-6200-4302-8A7F-574194F2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57A-6571-4219-831F-2FFBC8FA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199-AFD6-4E53-975F-BBF39461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BA6-631F-4AA0-AB4A-2F90C68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766-8403-44C1-85E9-6BA8D129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EDBA-CF96-4213-8008-DF2C0A26EB2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0821-551D-48E2-9023-1F103BA2BBB9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03EB-057C-471B-8409-841367255CA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C6D4-1CA7-499B-BF49-AFFA9EB0847A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19E0-6DC6-4242-848B-EA4AC8B5406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B61D-C0AF-49FA-9815-0AA2DB6CF4DE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5D72-3D8B-49EB-90FC-BD849DEB24D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F684-A8E8-4F9D-AFD4-CDF77EF22CAA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5b59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утрен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Организацион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ммуникационные процес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ганизационное построение предприятия или фирм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ормы, правила и процедуры производственного процесс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пределение прав и ответствен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ерархию подчи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988640"/>
            <a:ext cx="404028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ступают в качестве базы, на которую организация опирается в конкурентной борьбе и которую пытается расширить и укрепить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4720" y="1052280"/>
            <a:ext cx="4041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44720" y="1988640"/>
            <a:ext cx="40417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ы стать предметом внимания руководства, которое должно принять решение относительно устранения слабых сторон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SNW-</a:t>
            </a: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анали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ббревиатура трех английских слов (S - сильная позиция (сторона); N – нейтральная позиция; W – слабая позиция (сторон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качестве нейтральной позиции лучшего всего фиксировать среднерыночное состояние для данной конкретной ситуац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етко фиксируется ситуационное среднерыночное состояние, то есть своеобразная нулевая точка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езы анализа внутрен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ильные и слабые стороны организ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NW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a5b592"/>
                </a:solidFill>
                <a:latin typeface="Trebuchet MS"/>
              </a:rPr>
              <a:t>Внутренняя среда организации</a:t>
            </a:r>
            <a:endParaRPr b="0" lang="en-US" sz="40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 часть общей среды, которая находится в ее пределах. Она оказывает постоянное и самое непосредственное воздействие на функционирование организации. Под внутренней средой понимается хозяйственный организм фирмы, включающий управленческий механизм, направленный на оптимизацию научно-технической и производственно-сбытов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Внутрифирменная диагностика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сонал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ультура и имидж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екорпоративное у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a5b592"/>
                </a:solidFill>
                <a:latin typeface="Trebuchet MS"/>
              </a:rPr>
              <a:t>Маркетинговый потенциал</a:t>
            </a: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42960" y="1500120"/>
          <a:ext cx="7858080" cy="5159520"/>
        </p:xfrm>
        <a:graphic>
          <a:graphicData uri="http://schemas.openxmlformats.org/drawingml/2006/table">
            <a:tbl>
              <a:tblPr/>
              <a:tblGrid>
                <a:gridCol w="3922560"/>
                <a:gridCol w="3935520"/>
              </a:tblGrid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60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 и качество ассорт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характеристики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роду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аковка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ая ма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о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йскурантная 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д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нс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е ц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о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выдачи кред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 персонал Рекл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и с обществен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ы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ры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 кан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 поддер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одажное обслужи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в торговых точк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продажное обслуж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 функций и обяза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a5b592"/>
                </a:solidFill>
                <a:latin typeface="Trebuchet MS"/>
              </a:rPr>
              <a:t>Производственный срез</a:t>
            </a:r>
            <a:endParaRPr b="0" lang="en-US" sz="44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е продукции, снабжения и ведения складского хозяй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служивание технологического оборудов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уществление исследований и разработ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Финансов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ка ликвид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еспечение прибы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ание финансовой устойчив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е инвестиционных возможностей и тому подобно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Срез по персоналу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действие менеджеров и рабочи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е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еба и продвижение кадр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у результатов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тивацию и стимулирование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я атмосферы и поддержки отношений в коллектив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87360" y="1220760"/>
          <a:ext cx="7958160" cy="5637240"/>
        </p:xfrm>
        <a:graphic>
          <a:graphicData uri="http://schemas.openxmlformats.org/drawingml/2006/table">
            <a:tbl>
              <a:tblPr/>
              <a:tblGrid>
                <a:gridCol w="3979800"/>
                <a:gridCol w="3978360"/>
              </a:tblGrid>
              <a:tr h="303120"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4120"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ильного лидера, который устанавливает принципы и нормы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ы посвящают значительное время объяснению этих принципов персоналу и постоянно подчеркивают важность исполь­зования этих принципов при принятии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соответствие между культурой и долгосрочными пла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превращает работу в образ жизни, воспиты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мотивируя сотруд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явшиеся ценности и нормы поведения не меняются при появлении нового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ки хорошо осведомлены об истории организации, с уважением относятся к традициям, ритуалам и организационным симво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уделяется внимание прежде всего разъяснению своей фирменной философии, пропаганде своих цен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людей как главного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рассматривается как средство суще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множество суб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общепризнанных ценностей и правил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традиции, ритуалы, организационные симв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деляется должного внимания формированию истории органи­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зированная обстановка на фирме, когда отдельные руководители проводят собственную политику и оказывают сопротивление необходимым измен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ждебное отношение ко всякого рода иннов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руководства, ориентирован­ный в большей степени на органи­зационную структуру, бюджет, систему контроля над персоналом в ущерб созданию корпоратив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выдел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tabLst>
                          <a:tab algn="l" pos="0"/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формальные колич­ственные аспекты деятельности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экономических и технических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Культур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7:43Z</dcterms:modified>
  <cp:revision>12</cp:revision>
  <dc:subject/>
  <dc:title>Theme 7</dc:title>
</cp:coreProperties>
</file>