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CC98-80DD-4FAA-9AD1-91F2D1308E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D6F5-3349-4F9D-8C70-C9A674C63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E9A-4FEE-4E03-A815-2E85497F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C99-E2AE-49AC-856E-25200F67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B91-3F71-4B3A-9632-20A6FBA1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902-FC88-40BE-9899-E772FA31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82E5-CC6A-46A7-B18D-3733E8F5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72F9-8944-4DBF-9E1F-AC8F650B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4178-8B95-41AE-AF01-7F394C6B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4A71-110C-47BA-9153-80CA2301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931E-F8C4-4751-9711-ECD8C59F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28B2-9D08-4167-8034-105A4EE4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C667-0137-4297-AF13-6BB9A53C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EF6-F12A-4B98-9EDD-260F450D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5ADF-9272-4EC4-92C7-A6C22B5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6891-3BF2-4E5C-A058-A0F9885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A74-0231-4F52-B74F-95ADC44D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8538-DF96-4CE9-9438-CEF7DD41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BC57-137D-4175-A356-D5656EE8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3CF2-5242-4B81-80E3-11B711FE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34B9-4ACA-4C08-B106-41E60688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BC604-CA2A-435B-A173-96176B09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9C34-0F11-4ACE-A645-539F4132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CB85-1E7C-4856-A9CA-6700DE51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51C-6681-4F9B-B16D-3839A0B1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CBAB7-BCD8-4464-85ED-1B841BA4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F8C1-7A56-49DE-8C45-AB9515A4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C2DE-8DD5-46BD-8572-B59B232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7BFA-C77B-47E0-9912-DDADD5AC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AEFA-C68E-42D8-9622-A730CAB3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9CC1-BF28-432E-AE56-A990967E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78DC-0EA6-4B81-9FF2-313D586B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B11E-E4D2-4EFF-AE97-7187DCFD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B042-6923-4B81-BCD7-4DB02411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5A864-17DA-4D8F-81C2-5369FAEC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EB5-428A-4FD1-AE69-AFD0C8F2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44B69-8671-4E68-A2C7-115672F7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01F4F-6688-45B1-94D7-62E363CF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A5D8-C9B1-499B-BAFD-0668000D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3322-2DA3-49B0-AB9B-D0178C54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41564-9C7F-4FD9-805A-18ADD929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0B5E-6D21-43D7-9EB3-899C83EA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B442-1C2C-4361-BAE9-1DC1C737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CCB2-BA56-41DF-BF47-02CB4EE3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819A6-B3C7-45DF-8F5B-BEB6DE0C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ADA-1678-49AF-A418-EFB8D44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48E-D775-41F5-99DD-D16F1949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C4D-2AAE-4DD4-9AE1-7A443724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518-FF1F-4EFE-A5C6-CB87E6B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651-92A1-494D-B996-BD88A657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D552-3801-4EE3-B23F-85B5EB769F6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C4D3-A29C-4A22-8CBC-AC2F5C1772A0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9488-A4BC-4E24-9D1A-8D5FF343A3A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2172-26FC-4D73-B346-D36E3123CACC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F5C2-E48D-4117-A2A1-E2CDC7BD23D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F6F2-3FA3-4BFD-9D22-656449B3B092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A452-47BD-4358-AA51-73139F8F659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DF6D-93A2-4AF6-9B52-5B1EE50C5B31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a66ac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азработка стратегии бизнес-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Интеграция стратегий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ополагающая конкурентная стратег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основываться на использовании основных идей базовых стратегий. В последнее время успеха добиваются компании нового типа, делающие ставки на соче­тание высокой производительности и высокого уровня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цель бизнес-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е преимущества и ключевые факторы успех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стратегии по М. Портер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нтеграция делов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изнес-стратегия – это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тратегической ориентации фирмы, являет­ся выбором базовой стратегии конкуренции относительно определенной сферы бизне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ческая цель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выделяет целевой рынок и, соответ­ственно, масштаб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онкурентные преимуществ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способность организации производить и продавать свою продукцию (услуги) успешнее конкурент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еннее конкурентное преимущество (способность произвести товар аналогичный товарам конкурентов с более низкими затратами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ешнее конкурентное преимущество (способность придать товару большую ценность в глазах потребителей, за которую они готовы платить более высокую цен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ие конкурентные преимущества легче защитить на ры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факторы внутренней среды, которые позволяют организации достичь успеха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о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чие (логистика, управление персоналом, инновации и т.п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ФУ различны для различных отрас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азовые стратегии по М. Портеру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pic>
        <p:nvPicPr>
          <p:cNvPr id="236" name="Picture 2" descr="image3"/>
          <p:cNvPicPr/>
          <p:nvPr/>
        </p:nvPicPr>
        <p:blipFill>
          <a:blip r:embed="rId1"/>
          <a:stretch/>
        </p:blipFill>
        <p:spPr>
          <a:xfrm>
            <a:off x="571680" y="1928880"/>
            <a:ext cx="7916760" cy="442908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Стратегия лидерства по издержкам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рма пренебрегает различиями в сегментах и обращается ко всему рынку сразу с одним и тем же товар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и стандартной продукции массового спроса, когда возможности дифференциации ограничены и спрос эластичен по цене, а вероятность переключения потребителей товара на другие вели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Дифференциация -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пция, описывающая разнообразие 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нность для покупателей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это полезность или полное удовлетворе­ние, которое они получают при использовании товара, а также мини­мальные операционные издержки в течение всего срока его служб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направленности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ожно выделит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нновационную и маркетинговую стратегии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Фокусирование -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иповая бизнес- стратегия, которая предполагает концентрацию на узком рыночном сегменте или конкретной группе покупателей, а также специализацию на определенной части продукции и/или географическом регион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ая цель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ается в удовлетворении потребностей выбранного сегмента с большей эффективностью, чем конкуренты, обслуживающие более широкий рыночный сегме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9:35Z</dcterms:created>
  <dc:creator>И.В.</dc:creator>
  <dc:description/>
  <dc:language>en-US</dc:language>
  <cp:lastModifiedBy>Стародумова Инна</cp:lastModifiedBy>
  <dcterms:modified xsi:type="dcterms:W3CDTF">2015-09-29T02:30:43Z</dcterms:modified>
  <cp:revision>14</cp:revision>
  <dc:subject/>
  <dc:title>Разработка стратегии бизнес-уровня</dc:title>
</cp:coreProperties>
</file>