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B68C-30C4-416D-B7F1-1B20015DAA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F12D-2BB3-4BB6-B3BE-3E113EE830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007C-7361-4EF3-8EF9-9D58680A1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1497-A3DD-4548-AD30-01CEC0410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FBE9-1BD5-41EC-B437-B6BF7D54E2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67FA-A314-44F3-A38A-19EB36F51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DD0C-2F95-4716-9122-EC0A5C2EA8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C136-361A-4A18-A37C-59A931919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E9BF-144D-4E68-BD6D-AC2A20CBF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284D-4E78-4690-9A4D-A0916BE7F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38E-2C61-4B12-BDF7-AF9BE604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9C3-590F-4525-B222-B93EEE60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1FA-DB5C-4C2E-8DD4-37432147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736-43D3-4111-BDE4-F9D0FD7B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7710-91F0-486E-B4DD-43EFF7EF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54DB-D3CC-4BC1-BEC6-D396638F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6E8A-A158-49E2-9BC9-5B1D1CDF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7D82-42BB-40D9-AD8E-AE69C0EC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E7F9-C4F4-4237-9FB9-D9D2F6BD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1113-96EC-4F0B-AAA4-F7C1FA64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866B-B093-49BF-A9EF-5671F0B1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DED-61BD-44E5-A984-EE5E90AE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EBB9-5361-40EC-BAC9-E7F23C75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8B62-A6B3-44E7-B452-C2F4D99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E05D-AF43-4F87-A51A-637841CC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B3BD-ABBA-4807-8B10-38185DBA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7CD2-92CE-4D98-B3D6-904B0051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E648A-9319-4A89-970D-581AC88B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B9808-7F95-44A7-8FA8-EF903B12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FEB1-372E-45F2-B804-07EC4DB1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3A738-F8FD-4E2C-A461-C9720D80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AA9E-C36E-44E2-AADB-FB9ED480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631-F07A-4E8C-B0A0-D0184221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1BCEE-1788-48FB-A7C6-0B63B1D6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3CD5-F375-4C52-8A27-0B7B3106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279F-3BF6-48CB-92C2-F8FF6AF7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BA11-EE13-4629-8407-27EA8E75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43DE8-16EF-4267-B897-51925CC3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764F3-6D12-4252-82DE-4AB024A1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A7C3-3E67-4FCF-BAFA-FDEE2273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B93C4-44EB-4C6B-A229-5649DB76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27D05-0E79-4A27-A05F-D12F36BC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E3C85-4882-4123-8111-673649FF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FD4-E08C-41C5-9661-28428BFA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9A93D-1FB8-4442-85FF-BDE9C302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B4569-76C5-4973-A5FC-DD71050C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B4519-1E0E-465D-8253-7969FE57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12B70-4582-44D4-8086-2E6BAFFF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2E480-3CDC-4E1E-9EB2-0E5B838C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9A302-FA8D-4B44-BAE1-92EB3ABC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7DC8-BA0A-4398-BBB0-DA776540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1E1A-F88B-4A92-9A0A-97B77A85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55C3-5858-4796-8C88-54F17558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40A-F7C4-4AD3-9720-60F4CFBB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998-0BA3-443C-AEC9-F119EB39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B7C-9A14-42CF-B0FD-89B54061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82F-6A1F-4036-B4C7-BD80EA5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0E6-AB4D-4207-8790-B00DF7E2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3C22-723B-4221-A09D-405146DDC89A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352E-5E98-4935-9410-E242BD1DB93E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E085-C620-446C-A03D-833155DA8CA6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07D8-510C-4B2D-AE61-EA1B40C66D19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18ab3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еализация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</a:rPr>
              <a:t>Тема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новные стадии выполнения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измен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й контрол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Деятельность по реализации стратегии: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билизация (3-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 и проработка (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еализация преобразований (12-24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овая стратегия предполагает новые критерии работы с клиентами, новые продукты, новые рабочие процессы, новые навыки, новые технологии и новую корпоративную культуру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79280" y="785520"/>
            <a:ext cx="878544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e5e5e"/>
                </a:solidFill>
                <a:latin typeface="Trebuchet MS"/>
              </a:rPr>
              <a:t>Проведение необходимых изменений способствует тому, что на предприятии создаются условия, необходимые для осуществления выбранной стратеги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04040"/>
                </a:solidFill>
                <a:uFillTx/>
                <a:latin typeface="Trebuchet MS"/>
              </a:rPr>
              <a:t>Типы стратегических изменений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альные измен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дикаль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мерен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ычные изме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Последовательность внутренних изменений </a:t>
            </a:r>
            <a:r>
              <a:rPr b="0" lang="ru-RU" sz="3200" spc="-1" strike="noStrike">
                <a:solidFill>
                  <a:srgbClr val="418ab3"/>
                </a:solidFill>
                <a:latin typeface="Trebuchet MS"/>
              </a:rPr>
              <a:t>в </a:t>
            </a: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организации</a:t>
            </a:r>
            <a:endParaRPr b="0" lang="en-US" sz="3200" spc="-1" strike="noStrike">
              <a:solidFill>
                <a:srgbClr val="418ab3"/>
              </a:solidFill>
              <a:latin typeface="Trebuchet MS"/>
            </a:endParaRPr>
          </a:p>
        </p:txBody>
      </p:sp>
      <p:pic>
        <p:nvPicPr>
          <p:cNvPr id="232" name="Picture 2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395280" y="2276640"/>
            <a:ext cx="82011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8920" y="62028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струк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бор той или иной организационной структуры зависит от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мер и степень разнообразия деятельности, присущ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еографическое размещен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намизм внешней сред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, реализуемая предприятием.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120" y="620280"/>
            <a:ext cx="6348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Структурные изменения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это часть организационного процесса, относящегося к изменениям в системе распределения полномочий и ответственности, координации и интеграции деятельности подразделений фирмы, управленческой иерархии и степени централизаци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47628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куль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деляют пять факторов, определяющих формирование и применение организационной культуры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енности и убеждения высшего руководств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акция руководства на критические ситу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тношение к работе и стиль поведения руководител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альная база поощрения сотрудник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и отбора, назначения, продвижения и увольнения из организац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3640" y="369360"/>
            <a:ext cx="677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418ab3"/>
                </a:solidFill>
                <a:latin typeface="Trebuchet MS"/>
              </a:rPr>
              <a:t>Процесс приведения организационной культуры в соответствие со стратегией фирмы</a:t>
            </a:r>
            <a:endParaRPr b="0" lang="en-US" sz="29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личительная особенность «великих компаний» — симбиоз деловой стратегии и корпоративной культу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2" descr="Q:\Инна\В Г У Э С\Лекции\Стратегический менеджмент - бакалавры\media\image7.png"/>
          <p:cNvPicPr/>
          <p:nvPr/>
        </p:nvPicPr>
        <p:blipFill>
          <a:blip r:embed="rId1"/>
          <a:stretch/>
        </p:blipFill>
        <p:spPr>
          <a:xfrm>
            <a:off x="304920" y="2146320"/>
            <a:ext cx="8321400" cy="2357280"/>
          </a:xfrm>
          <a:prstGeom prst="rect">
            <a:avLst/>
          </a:prstGeom>
          <a:ln w="0">
            <a:noFill/>
          </a:ln>
        </p:spPr>
      </p:pic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3:11:31Z</dcterms:created>
  <dc:creator>Инна</dc:creator>
  <dc:description/>
  <dc:language>en-US</dc:language>
  <cp:lastModifiedBy>Толя</cp:lastModifiedBy>
  <dcterms:modified xsi:type="dcterms:W3CDTF">2014-12-01T07:21:20Z</dcterms:modified>
  <cp:revision>12</cp:revision>
  <dc:subject/>
  <dc:title>Theme 9</dc:title>
</cp:coreProperties>
</file>