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6EF3-222C-4E8E-A726-0D4877C507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292D-DBCE-4756-A6DB-A2124A184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3313-88F7-4A5B-93DD-F0FEEDF773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AD12-6454-458D-8CCE-842F958B45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E6DA-31AC-4C69-83B5-04750AEA72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C8F1-3777-4ED7-B748-E0B781F0F9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5F3F-DDA6-4718-A07E-C1029287CA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35E5-08DF-49D5-BBE3-948F159DA6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9B7F-E0E3-4CA6-88AD-51D5C78ED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F643-83E7-480D-AFC0-6D9DF0BA7B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7CA5-9A30-498E-A2B7-A714713144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8CA5-0C55-4B76-92C6-1AF73A0621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995F-DBD9-4932-A34A-AF576646DF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6CB5-FAB9-417E-B54E-9C219FF45C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E8A8-03FC-4109-98E5-95226ED4E4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171-BA80-4A66-A0C1-F70DE412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D78-7363-48EC-B82C-CC9F5D7C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E85-A759-4F7C-ACF8-65906601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66B-474E-42A6-8D52-93D06144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76EB-B526-4458-B9FE-A445B6BA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0C09-AE1B-46F4-8362-2C1F212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F47B-EE40-4D11-A8EF-DDDBDFED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65B6-E597-466A-A7AF-B34B466D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C3DD-5554-4D9B-B67D-73B3A7C4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EBBD-8880-400A-9C60-B91C7ABC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2E88-A3F3-4949-A887-CE282B48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EF8-CB62-4CF9-8C6A-10A641DE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F3AF-0D47-4655-9DAE-CA79A932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4B97-5F1A-4CD2-AA1D-33C37D6A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25F3-CE2C-4D14-BFA3-AB92B00F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6C1B-63B4-4EBA-B859-50FA4890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61E-5174-49DC-A8BA-7AB9196E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DCAC-8976-4988-BC1A-E060CAE3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79CD-C6AB-4421-9F1F-B8708288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CE7E-D83D-4D05-B9E8-5E003E24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2088-2DBE-49DC-B022-046E597E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6961-9E24-483D-9758-EC5CBEA2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F66-CF06-4849-BE6C-614915F1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CFEE-4AA5-4DCA-B737-B1AAA7C3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A354-A960-4617-BBC5-392096C2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5EB8-9569-42E1-AFF2-C654EC1B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A5C1-DD90-49DE-963B-225B59C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1A9CF-689C-439C-9DDD-8D2DA983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A575-7693-4F3C-B397-F6DCFAED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8E3A-B966-4F5D-82F4-6097B535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FDA3-EB3B-447B-B40B-53521B83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BC8CA-6725-4104-B2D9-7578CCBC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54FC-9989-4C7F-89BE-55278EC5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A39-9755-4B46-91C5-39B037A9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6D0C5-D053-492E-AABF-E94073F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48A3-528C-4D94-9F03-7CF42E9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6D003-B9C9-433D-BF04-49B104A8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4DC0-D9B4-4F0C-8FD5-F931EF2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0AB0-F74A-4E6E-9952-644960F9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C831-2DC8-4163-A7B5-BB77C1D7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7050-B8FD-4E5D-8D77-882A681C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B13C4-A2BB-455C-BBA1-69B57662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29C7-AB2A-4429-830A-86CBCFD7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8E7-F418-4B8F-A5A6-E779DCA9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F6C-4F62-43F9-8EBC-09EAF6E0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E26-3B17-49D0-BCFE-B902897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A26-DA03-48C0-9F85-920BA734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C3A-F271-49F1-8D33-C51F676D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CF46-7172-4C3E-97A9-38FFD801728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A861-9624-453D-BF8E-5DD2AC1269FE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F6E0-225C-4189-B6A4-FC125E5FA09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0F4E-AE77-4856-A911-76FEDB325A04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0A4D-E4CD-4514-A546-6D7D01C8586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AD3F-4828-4F15-9CEF-41228F567D96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4095-9EE1-46C5-8A26-9B401C9FB06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05E1-7614-486E-9CF1-BE7437F87BEA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d84c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еш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Конкурентны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исследование структуры отрасли, оценка конкурентной позиции отдельных СБЕ дает возможность фирме выбрать оптимальную деловую стратегию, ориентированную на создание долгосрочных конкурентных преиму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d84c6"/>
                </a:solidFill>
                <a:latin typeface="Trebuchet MS"/>
              </a:rPr>
              <a:t>Модель пяти конкурентных сил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247" name="Рисунок 3" descr="Q:\Инна\В Г У Э С\Лекции\Стратегический менеджмент - бакалавры\media\image3.jpeg"/>
          <p:cNvPicPr/>
          <p:nvPr/>
        </p:nvPicPr>
        <p:blipFill>
          <a:blip r:embed="rId1"/>
          <a:stretch/>
        </p:blipFill>
        <p:spPr>
          <a:xfrm>
            <a:off x="324000" y="1700280"/>
            <a:ext cx="7929360" cy="492912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ая конкуренция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оперничество среди основных конкуренто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Q:\Инна\В Г У Э С\Лекции\Стратегический менеджмент - бакалавры\media\image4.jpeg"/>
          <p:cNvPicPr/>
          <p:nvPr/>
        </p:nvPicPr>
        <p:blipFill>
          <a:blip r:embed="rId1"/>
          <a:stretch/>
        </p:blipFill>
        <p:spPr>
          <a:xfrm>
            <a:off x="179280" y="2133720"/>
            <a:ext cx="7858080" cy="3714480"/>
          </a:xfrm>
          <a:prstGeom prst="rect">
            <a:avLst/>
          </a:prstGeom>
          <a:ln w="0">
            <a:noFill/>
          </a:ln>
        </p:spPr>
      </p:pic>
      <p:sp>
        <p:nvSpPr>
          <p:cNvPr id="252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о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кономических характеристик отраслевого окруж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степени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явление движущих сил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ключевых факторов успех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ение о степени привлекательности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ad84c6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общие для всех предприя­тий отрасли управляемые переменные, реализация которых дает возможность улучшить конкурентные позиции предприятия 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ОКР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 и т.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арактеристика и цели анализа внеш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WOT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раслево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ое назначение анализа внешней сред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выявить и уяснить возможности и угрозы, которые могут возникнуть для предприятия в будущем, с тем чтобы правильно определить стратегию и общую политику предприят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степени воздейств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процессы, протекающие в рамках предприятия, выделяют две группы внешних факторо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даленного воздействия, представляющих макросфер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посредственного влияния ближнего окружения, или отраслевые факто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РЕ</a:t>
            </a:r>
            <a:r>
              <a:rPr b="1" lang="en-US" sz="3200" spc="-1" strike="noStrike" u="sng">
                <a:solidFill>
                  <a:srgbClr val="ad84c6"/>
                </a:solidFill>
                <a:uFillTx/>
                <a:latin typeface="Trebuchet MS"/>
              </a:rPr>
              <a:t>S</a:t>
            </a: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Т-анализ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ит в выявлении и оценке влияния факторов макросреды на результаты текущей и будущей деятельности предприят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Цель РЕ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Т-анализ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отслеживание (мониторинг) изменений макросреды по четырем узловым направлениям и выявление тенденций, событий, не подконтрольных предприятию, но оказывающих влияние на результаты принятых стратегических реш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71680" y="1165320"/>
          <a:ext cx="8072280" cy="5335560"/>
        </p:xfrm>
        <a:graphic>
          <a:graphicData uri="http://schemas.openxmlformats.org/drawingml/2006/table">
            <a:tbl>
              <a:tblPr/>
              <a:tblGrid>
                <a:gridCol w="4035240"/>
                <a:gridCol w="4037040"/>
              </a:tblGrid>
              <a:tr h="28080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104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вительственная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стабиль­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законод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Государственное влияние на отрасли, включая долю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госсоб­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осударственное регулирова­ние конкуренции в отра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логовая поли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щая характеристика эконо­мической ситуации (подъем, стабилизация, спад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урс национальной валюты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рефинанс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ля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езработи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ны на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нерго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256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мографические из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структуры доход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труду и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тдых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циальная мобильност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се­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ктивность потребите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.Государственная техническая,  поли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2. Значимые тенден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родукты (скорость об­новления и освоения новых тех­нолог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тен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ad84c6"/>
                </a:solidFill>
                <a:uFillTx/>
                <a:latin typeface="Trebuchet MS"/>
              </a:rPr>
              <a:t>SWOT</a:t>
            </a:r>
            <a:r>
              <a:rPr b="0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-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действенный инструмент оценки стратегического состояния организации на основе понимания ее внутренних сильных и слабых сторон и внешней среды, которая представляется в виде возможностей и угро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ает обобщенную оценку организационной среды, имеющую преимущественно качественный характе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то, в чем она преуспела, ее от­личительные особенности, которые усиливают конкурентоспособность и дают фирме преимущества на рынк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связаны в основном с отсутствием чего-то важного для функционирования фирмы или с тем, что у нее получается хуже в сравнении с прямыми конкурент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Возмож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ужно рассматривать прежде всего с точки зрения рыночной привлекательности, которая может обеспечить максимальный рост прибыли фирмы и конкурентное преимуществ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Угроз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(опас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— это определенные факторы внешней среды, которые могут отрицательно повлиять на благосостояние фирмы и препятствовать ее успешному развит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Q:\Инна\В Г У Э С\Лекции\Стратегический менеджмент - бакалавры\media\image1.jpeg"/>
          <p:cNvPicPr/>
          <p:nvPr/>
        </p:nvPicPr>
        <p:blipFill>
          <a:blip r:embed="rId1"/>
          <a:stretch/>
        </p:blipFill>
        <p:spPr>
          <a:xfrm>
            <a:off x="646200" y="281160"/>
            <a:ext cx="6218280" cy="63147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ad84c6"/>
                </a:solidFill>
                <a:latin typeface="Trebuchet MS"/>
              </a:rPr>
              <a:t>Матрица «вероятность усиления — интенсивность воздействия»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0040" y="2071800"/>
          <a:ext cx="8072640" cy="4066920"/>
        </p:xfrm>
        <a:graphic>
          <a:graphicData uri="http://schemas.openxmlformats.org/drawingml/2006/table">
            <a:tbl>
              <a:tblPr/>
              <a:tblGrid>
                <a:gridCol w="2017800"/>
                <a:gridCol w="2019240"/>
                <a:gridCol w="2017800"/>
                <a:gridCol w="2017800"/>
              </a:tblGrid>
              <a:tr h="305280"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96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5:45Z</dcterms:modified>
  <cp:revision>9</cp:revision>
  <dc:subject/>
  <dc:title>Theme 6</dc:title>
</cp:coreProperties>
</file>