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44AB4-41BB-46CE-9170-C18155A55E4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431CE-8D4E-422D-8F6E-F6CAB9753EF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этой схеме собраны почти все варианты  названий трех уровней распределенного приложения. Чтобы избежать путаницы, будем именовать уровни так: 1st tier, 2nd tier и 3rd tier, по причине краткости написания. Выбирать названия по другим критериям слишком сложно. Называть 3-х уровневую архитектуру N-уровневой вероятно не стоит, т.к. эти N уровней, обычно, появляются как более детальное изображение той же 3-х уровневой схемы, не внося принципиально новых идей. N-уровневые схемы удобны чтобы показать систему с точки зрения развертывания и администрирования. Но с точки зрения разработки эти дополнительные уровни  малоинтересны.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CBB5D9-55EA-437F-A665-E917D3981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8E9F5A-5241-49B6-B749-5527F5347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55A02-25F2-45C0-943F-2D7D4D6D1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6262ED-0B06-4764-992C-E26583585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8F915-FC95-45F5-84D9-4EC7C0816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0B5DC-5365-4521-BAAB-2A87B4597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4047B-9EC4-4949-90AA-6EDD8A2C4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C89A1-95A5-47F5-9074-F3E288233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9E54B-D7E5-488C-A834-80419E423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6051E-A1FD-4BA9-A9AB-1364AB87B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0197A-00A1-45A6-A79C-152FE6EFE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2452FB-EC22-4C09-BB09-538CB084E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1C1E8-FB51-4E3A-8F88-2451A40F5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7717C-215F-4673-86D6-BE728D2A9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7A33C-A9C3-43F4-B02C-124531962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40EA1-BB59-4D81-AF02-C533C0A5C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16BC0-5B86-48AB-A310-C7C9AB45E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85D8A8-49ED-40BA-A708-8C065B178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40363A-6281-42C2-946D-4C1D4A665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4D6F9C-2E11-4BDD-B3C6-75B932BAF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147237-B926-47E5-AB61-9C279E886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FC2C4C-F69D-47CC-925B-89FB63E66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678D82-BD4A-4CD4-9B0D-D68BCD643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20CB64-0254-4A85-9AF1-890446962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78DBF-7EC5-4710-B186-7F2B78ED14A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C0D0C-BE17-4736-8B03-22AFDB8FC52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ffff"/>
                </a:solidFill>
                <a:latin typeface="Arial"/>
              </a:rPr>
              <a:t>Модели клиент-сервер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Двух уровневая модель.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-уровневая модель (идеальная и фактическая)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ринципы построения клиент серверных приложений при использовании двух- и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-уровневой модели построения приложений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99cc"/>
                </a:solidFill>
                <a:latin typeface="Arial"/>
              </a:rPr>
              <a:t>3-x уровневая архитектура </a:t>
            </a:r>
            <a:br>
              <a:rPr sz="3200"/>
            </a:br>
            <a:r>
              <a:rPr b="1" lang="ru-RU" sz="3200" spc="-1" strike="noStrike">
                <a:solidFill>
                  <a:srgbClr val="9999cc"/>
                </a:solidFill>
                <a:latin typeface="Arial"/>
              </a:rPr>
              <a:t>(идеальный вариант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684360" y="4941720"/>
            <a:ext cx="806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-х уровненая архитектура подразумевает четкое выделение бизнес-логики. Интересно отметить, что сервисы для вызова бизнес-логики (2nd tier), относятся к 1st tier. А вот интерфейс с базой данных (или любым источником данных) - сразу к 3rd tier. Такой подход позволяет четко очертить границы уровня бизнес-логики и отличие 3-х уровневого подхода от 2-х уровневого (клиент-сервер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99cc"/>
                </a:solidFill>
                <a:latin typeface="Arial"/>
              </a:rPr>
              <a:t>3-x уровневая архитектура (фактический вариант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3" descr="inet184_5"/>
          <p:cNvPicPr/>
          <p:nvPr/>
        </p:nvPicPr>
        <p:blipFill>
          <a:blip r:embed="rId1"/>
          <a:stretch/>
        </p:blipFill>
        <p:spPr>
          <a:xfrm>
            <a:off x="900000" y="1844640"/>
            <a:ext cx="691200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99cc"/>
                </a:solidFill>
                <a:latin typeface="Arial"/>
              </a:rPr>
              <a:t>3-x уровневая архитектура (фактический вариант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468360" y="3789360"/>
            <a:ext cx="8351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практике, мы имеем нечто подобное. По различным причинам бизнес-логика остается на 1st и 3rd tier. Это может быть оправдано, если не приведет к перегрузке уровня, на котором находится ненормированный код. И если этот код легко можно перенести в 2nd tier объекты. Например,  поместив бизнес-логику в хранимые процедуры в 3rd tier, мы можем получить большой выигрыш в производительности. Если же эти хранимые процедуры написаны в виде внешних модулей на высокоуровневом языке, то перенести их в 2nd tier будет несложно. А вот бизнес-логика на 1st tier распространена повсеместно (как уже упоминалось), и, обычно, связана с неудачной архитектуро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" descr="inet184_5"/>
          <p:cNvPicPr/>
          <p:nvPr/>
        </p:nvPicPr>
        <p:blipFill>
          <a:blip r:embed="rId1"/>
          <a:stretch/>
        </p:blipFill>
        <p:spPr>
          <a:xfrm>
            <a:off x="2484360" y="1557360"/>
            <a:ext cx="3745080" cy="20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99cc"/>
                </a:solidFill>
                <a:latin typeface="Arial"/>
              </a:rPr>
              <a:t>Основные критерии идеальной </a:t>
            </a:r>
            <a:br>
              <a:rPr sz="3200"/>
            </a:br>
            <a:r>
              <a:rPr b="1" lang="en-US" sz="3200" spc="-1" strike="noStrike">
                <a:solidFill>
                  <a:srgbClr val="9999cc"/>
                </a:solidFill>
                <a:latin typeface="Arial"/>
              </a:rPr>
              <a:t>3</a:t>
            </a:r>
            <a:r>
              <a:rPr b="1" lang="ru-RU" sz="3200" spc="-1" strike="noStrike">
                <a:solidFill>
                  <a:srgbClr val="9999cc"/>
                </a:solidFill>
                <a:latin typeface="Arial"/>
              </a:rPr>
              <a:t>-х уровневой архитектур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Каждый уровень распределенного приложения может взаимодействовать только со смежным уровнем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означает, что: 1st tier не должен иметь прямого доступа к 3rd tier и наоборот; 2nd и 3rd tiers не должны иметь прямого интерфейса с пользователем; обращение к источнику данных из 1st tier происходит только через объекты 2-nd tier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Вся сложная бизнес-логика находится в объектах 2nd tier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уже упоминалось, это условие часто нарушается, снижая возможность масштабирования. Хотя подобные решения иногда оправдан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99cc"/>
                </a:solidFill>
                <a:latin typeface="Arial"/>
              </a:rPr>
              <a:t>Основные критерии идеальной </a:t>
            </a:r>
            <a:br>
              <a:rPr sz="3200"/>
            </a:br>
            <a:r>
              <a:rPr b="1" lang="en-US" sz="3200" spc="-1" strike="noStrike">
                <a:solidFill>
                  <a:srgbClr val="9999cc"/>
                </a:solidFill>
                <a:latin typeface="Arial"/>
              </a:rPr>
              <a:t>n</a:t>
            </a:r>
            <a:r>
              <a:rPr b="1" lang="ru-RU" sz="3200" spc="-1" strike="noStrike">
                <a:solidFill>
                  <a:srgbClr val="9999cc"/>
                </a:solidFill>
                <a:latin typeface="Arial"/>
              </a:rPr>
              <a:t>-уровневой архитектур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Взаимодействие уровней организовано так, чтобы они могли взаимодействовать по сети, находясь физически на различных  компьютерах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означает, что распределенная архитектура не зависит от способа развертывания (deployment) приложения - все уровни могут быть размещены физически как одном компьютере, так и на разных, в условиях заданной сетевой структуры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99cc"/>
                </a:solidFill>
                <a:latin typeface="Arial"/>
              </a:rPr>
              <a:t>Основные критерии идеальной </a:t>
            </a:r>
            <a:br>
              <a:rPr sz="3200"/>
            </a:br>
            <a:r>
              <a:rPr b="1" lang="en-US" sz="3200" spc="-1" strike="noStrike">
                <a:solidFill>
                  <a:srgbClr val="9999cc"/>
                </a:solidFill>
                <a:latin typeface="Arial"/>
              </a:rPr>
              <a:t>n</a:t>
            </a:r>
            <a:r>
              <a:rPr b="1" lang="ru-RU" sz="3200" spc="-1" strike="noStrike">
                <a:solidFill>
                  <a:srgbClr val="9999cc"/>
                </a:solidFill>
                <a:latin typeface="Arial"/>
              </a:rPr>
              <a:t>-уровневой архитектур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Сущности данных  независимы от способа их хранения,  уникально идентифицируемы по какому-либо ключу, и независимы от способа и места хранения других сущностей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, в частности, иногда означает отсутствие в некоторых таблицах связей по внешним ключам, что позволяет хранить группы таблиц, имеющих отношение к одной сущности, в разных базах данных. Однако тогда необходимо отслеживать целостность данных дополнительным кодом. 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99cc"/>
                </a:solidFill>
                <a:latin typeface="Arial"/>
              </a:rPr>
              <a:t>Уровни клиент-серверной архитекту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2" descr="http://upload.wikimedia.org/wikipedia/commons/thumb/5/51/Overview_of_a_three-tier_application_vectorVersion.svg/400px-Overview_of_a_three-tier_application_vectorVersion.svg.png"/>
          <p:cNvPicPr/>
          <p:nvPr/>
        </p:nvPicPr>
        <p:blipFill>
          <a:blip r:embed="rId1"/>
          <a:stretch/>
        </p:blipFill>
        <p:spPr>
          <a:xfrm>
            <a:off x="1905120" y="1828800"/>
            <a:ext cx="5333760" cy="47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99cc"/>
                </a:solidFill>
                <a:latin typeface="Arial"/>
              </a:rPr>
              <a:t>2-x уровневая архитектура приложе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Архитектура клиент-сервер, совсем недавно считавшаяся сложной средой, постепенно превратилась в исключительно сложную среду. Почему? Благодаря ускоренному, переходу к использованию в конструкции систем клиент-сервер нескольких звеньев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адиционно при разработке систем клиент-сервер используются только два звена - клиент и сервер. В двухзвенной системе большую часть логики программы разработчики помещают на системе клиента, используя сервер только для обслуживания данных. Этот тип конфигурации известен также, как модель "толстый клиент - тонкий сервер"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99cc"/>
                </a:solidFill>
                <a:latin typeface="Arial"/>
              </a:rPr>
              <a:t>2-x уровневая архитектура прилож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3" descr="inet184_3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1981080" y="1600200"/>
            <a:ext cx="5329440" cy="348444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4"/>
          <p:cNvSpPr/>
          <p:nvPr/>
        </p:nvSpPr>
        <p:spPr>
          <a:xfrm>
            <a:off x="684360" y="5157720"/>
            <a:ext cx="80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классической архитектуре клиент-сервер, бизнес-логика может располагаться как на стороне  клиента, так и на сервере. В результате существует тенденция смешивания бизнес-логики с интерфейсом пользователя и/или со структурой БД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99cc"/>
                </a:solidFill>
                <a:latin typeface="Arial"/>
              </a:rPr>
              <a:t>Классическая 3-х уровневая архитектура распределенных прилож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Хотя двухзвенные программы клиент-сервер просты в понимании, построении и обслуживании, эту модель невозможно масштабировать до уровня предприятия. Иными словами, двухзвенная архитектура не может обеспечивать работу тысяч пользователей с программами, установленными на предприятии, и в результате для этих целей применяются большие ЭВМ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Для того чтобы обеспечить работу при столь больших вычислительных нагрузках, разработчики освоили применение трех- или многозвенной архитектуры. Это означает, что программа клиент- сервер распределяется по дополнительным процессорам или звеньям, обеспечивающих дополнительную вычислительную мощность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99cc"/>
                </a:solidFill>
                <a:latin typeface="Arial"/>
              </a:rPr>
              <a:t>Классическая 3-х уровневая архитектура распределенных прилож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3" descr="inet184_2"/>
          <p:cNvPicPr/>
          <p:nvPr/>
        </p:nvPicPr>
        <p:blipFill>
          <a:blip r:embed="rId1"/>
          <a:stretch/>
        </p:blipFill>
        <p:spPr>
          <a:xfrm>
            <a:off x="1295280" y="1752480"/>
            <a:ext cx="6480360" cy="47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99cc"/>
                </a:solidFill>
                <a:latin typeface="Arial"/>
              </a:rPr>
              <a:t>Классическая 3-х уровневая архитектура распределенных прилож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88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В схеме на предыдущем слайде собраны почти все варианты  названий трех уровней распределенного приложения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88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Чтобы избежать путаницы, будем именовать уровни так: 1st tier, 2nd tier и 3rd tier, по причине краткости написания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88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Выбирать названия по другим критериям слишком сложно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88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Называть 3-х уровневую архитектуру N-уровневой вероятно не стоит, т.к. эти N уровней, обычно, появляются как более детальное изображение той же 3-х уровневой схемы, не внося принципиально новых идей. N-уровневые схемы удобны чтобы показать систему с точки зрения развертывания и администрирования. Но с точки зрения разработки эти дополнительные уровни  малоинтересны. 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99cc"/>
                </a:solidFill>
                <a:latin typeface="Arial"/>
              </a:rPr>
              <a:t>Классическая 3-х уровневая архитектура распределенных прилож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Три уровня (с позиции программирования) - это </a:t>
            </a:r>
            <a:r>
              <a:rPr b="1" lang="ru-RU" sz="1900" spc="-1" strike="noStrike">
                <a:solidFill>
                  <a:srgbClr val="3333ff"/>
                </a:solidFill>
                <a:latin typeface="Arial"/>
              </a:rPr>
              <a:t>хранение</a:t>
            </a:r>
            <a:r>
              <a:rPr b="0" lang="ru-RU" sz="1900" spc="-1" strike="noStrike">
                <a:solidFill>
                  <a:srgbClr val="3333ff"/>
                </a:solidFill>
                <a:latin typeface="Arial"/>
              </a:rPr>
              <a:t>, </a:t>
            </a:r>
            <a:r>
              <a:rPr b="1" lang="ru-RU" sz="1900" spc="-1" strike="noStrike">
                <a:solidFill>
                  <a:srgbClr val="3333ff"/>
                </a:solidFill>
                <a:latin typeface="Arial"/>
              </a:rPr>
              <a:t>обработка</a:t>
            </a:r>
            <a:r>
              <a:rPr b="0" lang="ru-RU" sz="19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ru-RU" sz="19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ru-RU" sz="1900" spc="-1" strike="noStrike">
                <a:solidFill>
                  <a:srgbClr val="3333ff"/>
                </a:solidFill>
                <a:latin typeface="Arial"/>
              </a:rPr>
              <a:t>представление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информации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Идея заключается в том, чтобы не смешивать эти три составляющие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3-х уровневый подход - это просто хороший стиль программирования. Его можно применять при разработки практически любых приложений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Новизна же и идея распределенных приложений в том, чтобы иметь возможность распределить эти три уровня физически на различных компьютерах, а также возможность иметь несколько взаимозаменяемых вариантов каждого уровня.   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99cc"/>
                </a:solidFill>
                <a:latin typeface="Arial"/>
              </a:rPr>
              <a:t>3-x уровневая архитектура </a:t>
            </a:r>
            <a:br>
              <a:rPr sz="3200"/>
            </a:br>
            <a:r>
              <a:rPr b="0" lang="ru-RU" sz="3200" spc="-1" strike="noStrike">
                <a:solidFill>
                  <a:srgbClr val="9999cc"/>
                </a:solidFill>
                <a:latin typeface="Arial"/>
              </a:rPr>
              <a:t>(идеальный вариант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inet184_4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1066680" y="1828800"/>
            <a:ext cx="6782040" cy="37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99cc"/>
                </a:solidFill>
                <a:latin typeface="Arial"/>
              </a:rPr>
              <a:t>Классическая 3-х уровневая архитектура распределенных прилож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3-х уровненая архитектура подразумевает четкое выделение бизнес-логики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Интересно отметить, что сервисы для вызова бизнес-логики (2nd tier), относятся к 1st tier. А вот интерфейс с базой данных (или любым источником данных) - сразу к 3rd tier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Такой подход позволяет четко очертить границы уровня бизнес-логики и отличие 3-х уровневого подхода от 2-х уровневого (клиент-сервер)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ustov Dmitrii</cp:lastModifiedBy>
  <dcterms:modified xsi:type="dcterms:W3CDTF">2013-02-27T03:33:34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