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6245-85F0-4B8B-9AC5-46B3AAFAE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1F2E-A257-4D44-94C0-7457C4C3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B18A-4BA6-45CC-96EE-C5C717180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FF5E-0168-4D5A-8C96-184F0D22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B826-CDDF-4DAA-9331-F238B452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0260-25E1-4F3E-919F-D046638B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90DF-0C41-48D0-A130-4936EE58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EC7E-5BAD-431E-8480-07831A62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C437-51A5-49F3-B015-4A205C44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9D14-EB20-4E8E-A912-ED15034F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EE71-1FDB-4C84-A29E-8A1540FF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3935-8952-4D20-A7A2-8D3FC4D2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F362-6382-47C2-96DB-2DF6C0E0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BBAE-FDE6-4F5B-B014-5620151C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D66D-CD91-4B76-AFC2-6A187710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2FB2-075C-4C24-B145-0027945B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7336-7748-4489-AEBE-A4D19AAC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6B19-3DBC-4FE9-819B-EC79DE88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5156-B876-4E36-BE93-65E0F42E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C37A-0CF0-4819-8CFA-D2074B7C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AE75-E928-4709-A5D6-F1156638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BDD6-1E33-4EE5-B5A2-7D7258B8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FD4C-98B9-4296-8F61-16952679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987E-90CD-43D7-AB08-21A51063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603A-F3B5-4679-88D2-173C907C09E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D1D3-0703-4B0E-8AD4-5FD8DC6F3E8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Архитектура </a:t>
            </a:r>
            <a:br>
              <a:rPr sz="4800"/>
            </a:b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клиент-сервер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очему клиент-сервер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Использование решения клиент/сервер может заинтересовать вас в следующем случае: представьте, что вы ответственны за создание приложения, которое обращается к данным, постоянно находящимся в локальной сети или на файловом сервере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нутри вашего подразделения к этому приложению могут обратиться одновременно несколько пользователей, а со временем появляются и другие приложения для работы с этими данным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Предположим, что эти данные представляют интерес и для других подразделений внутри вашей организац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пример в  некоторых подразделениях нашей компании  должны быть созданы дополнительные приложения. При этом, скорее всего, необходимо переместить данные на сервер для того, чтобы сделать их доступнее для всех пользователе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скольку это происходит на уровне организации, важно, чтобы используемое решение позволяло осуществить доступ к данным не только быстро, но и в необходимом для приложения вид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ледует отметить, что глобальная доступность данных приводит к появлению некоторых проблем. Самые важные из них  -  чрезмерная сетевая нагрузка и зaщита данны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 приведенном примере показано что технологи клиент –сервер  обладает целым рядом преимущест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Допускает ведомственный доступ к данным, что позволяет подразделениям обрабатывать только ту часть данных, за которую они ответственны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беспечивает доступ к данным способом, предложенным производителем базы данных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Устанавливает правила целостности данных для всей базы данных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беспечивает "разделение труда" между клиентом и сервером (каждый выполняет задачи, для решения которых более приспособлен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Может использовать улучшенные возможности целостности данных, обеспечиваемые большинством серверов базы данных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Уменьшает сетевую нагрузку, поскольку клиенту возвращаются подмножества данных, а не все таблицы, в случае локальных баз данных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Следует отметить, что использование технологии клиент-сервер не всегда оправдано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Разработчик должен провести полный анализ требований к системе для определения того, является ли технология клиент-сервер именно тем средством, которое необходимо для решения поставленных задач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роме того, следует учесть, что системы клиент/сервер весьма дорогостоящие. В эту стоимость входит программное обеспечение, операционная система, сервер базы данных и аппаратные средства, соответствующие программному обеспечению этого уровня. Не стоит забывать и о затратах пользователей работе с операционной системой и программным обеспечением базы данных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лиент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сновная функция компьютера-клиента ( или программы-клиента) состоит в выполнении приложения (интерфейса с пользователем и логики представления) и осуществлении связи с сервером, когда этого требует прилож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Сервер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ак следует уже из самого термина, главная функция компьютера-сервера заключается в обслуживании потребностей клиента. Термин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"Сервер"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используется для обозначения двух различных групп функций: файл-сервер и сервер баз данных (далее эти термины означают в зависимости от контекста либо программное обеспечение, реализующее указанные группы функций, либо компьютеры с этим программным обеспечением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Файл-серверы не предназначены для выполнения операций с базами данных, их основная функция -разделение файлов между несколькими пользователями, т.е. обеспечение одновременного доступа многих пользователей к файлам на компьютере - файл-сервере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Но чаще компьютер с сервером баз данных выделяется только для выполнения операций с базами данных. Связь с клиентом, анализ и выполнение запроса к базе данных, включая возврат клиенту результата запроса (набора строк из базы данных), управление одновременным доступом к базе данных многих пользователей, перенаправление запросов к другим серверам сети, выполнение реляционных операций, управление словарем-справочником данных и обеспечение защиты - таковы некоторые основные функции сервера баз данных. Одно из важных требований к серверу - это то, что операционная система, в среде которой размещен сервер баз данных, должна быть многозадачной (и, желательно, но не обязательно, многопользовательской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66"/>
                </a:solidFill>
                <a:latin typeface="Arial"/>
              </a:rPr>
              <a:t>Back Office Systems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 недавних пор разрабатываемые прикладные системы (или приложения) были 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нацелены</a:t>
            </a: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 решение основных потребностей бизнес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работка платежных документов и расчет заработной платы (Payroll)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работка счетов дебиторов (A/R) и кредиторов.(A/P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работка учетных документов (Inventory Contro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работка заказов (Order Processing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акие системы называются </a:t>
            </a: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базовыми ("Back Office Systems")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Основной функцией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этих систем является хранение и ведение соответствующих записе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добные системы 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используются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во всех сферах деятельности, они могут быть приобретены на стороне и адаптированы к специфике конкретной организац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66"/>
                </a:solidFill>
                <a:latin typeface="Arial"/>
              </a:rPr>
              <a:t>Front Office Application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настоящее время возникла острая необходимость в прикладных системах, которые непосредственно способствуют успеху организации на рынке, ее доходности, росту продаж, анализу информацию и поддержке принятия решений, усовершенствованию продукции, автоматизации процессов производства и распределения и т.д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Эти системы можно назвать </a:t>
            </a: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системами взаимодействия с внешним миром ("Front Office Application")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ни должны быстро разрабатываться, функционировать в разнородных сетевых средах, сочетать использование таких видов информации как аудио, видео, графику и текст, иметь доступ к изолированным источниками информации ("информационным островам"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Распределенные вычисления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мин </a:t>
            </a: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"распределенные вычисления"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(Distributing computing)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часто используется для обозначения двух различных, хотя и взаимодополняющих концепций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аспределенная база данных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аспределенная обработка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менение этих концепций дает возможность организовать доступ к информации, хранящейся на нескольких машинах, для конечных пользователей, использующих различные средств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Распределенная база данных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Распределенная база данных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это набор баз данных, связанных между собой логически, но физически расположенных на нескольких машинах, входящих в одну компьютерную се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8000"/>
                </a:solidFill>
                <a:latin typeface="Arial"/>
              </a:rPr>
              <a:t>Важнейшие характеристик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распределенной базы данных таковы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зрачность расположения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автономность узлов распределенной базы данных 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(Site Autonomy)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бработка распределенных запросов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ыполнение распределенных транзакци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Характеристики распределенной базы данных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88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Прозрачность расположения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позволяет пользователям работать с базами данных, не зная ничего об их расположен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Автономность узлов распределенной базы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данных означает, что ведение каждой базы может происходить независимо от други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Распределенный запрос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это такой запрос (SQL-предложение), в ходе выполнения которого происходит доступ к объектам (таблицам или представлениям) разных баз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 выполнении распределенных транзакций осуществляется </a:t>
            </a: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согласованное управление (concurrency control)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всеми вовлеченными базами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Распределенная обработка данных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Распределенная обработка данных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означает разные понятия для разных люде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ccc00"/>
                </a:solidFill>
                <a:latin typeface="Arial"/>
              </a:rPr>
              <a:t>Например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Oracle это отделение прикладных программ от выполнения операций с базами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перации с базами данных носят общий характер и могут соответствовать требованиям различных приложений по обработке информац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ыполнение операций с базами данных на одной машине и приложений на другой - это и есть распределенная обработка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вязь между приложением и процессами выполнения операций с базами данных реализуется как аппаратурой, так и путем программного обеспечения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Клиент-сервер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Технология клиент-сервер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является реализацией распределенной обработки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Типичная архитектура клиент/сервер состоит из </a:t>
            </a:r>
            <a:r>
              <a:rPr b="1" i="1" lang="en-US" sz="1900" spc="-1" strike="noStrike">
                <a:solidFill>
                  <a:srgbClr val="008000"/>
                </a:solidFill>
                <a:latin typeface="Arial"/>
              </a:rPr>
              <a:t>программы</a:t>
            </a:r>
            <a:r>
              <a:rPr b="1" lang="en-US" sz="1900" spc="-1" strike="noStrike">
                <a:solidFill>
                  <a:srgbClr val="008000"/>
                </a:solidFill>
                <a:latin typeface="Arial"/>
              </a:rPr>
              <a:t>-</a:t>
            </a:r>
            <a:r>
              <a:rPr b="1" i="1" lang="en-US" sz="1900" spc="-1" strike="noStrike">
                <a:solidFill>
                  <a:srgbClr val="008000"/>
                </a:solidFill>
                <a:latin typeface="Arial"/>
              </a:rPr>
              <a:t>клиента</a:t>
            </a:r>
            <a:r>
              <a:rPr b="1" lang="en-US" sz="19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онечного пользователя, которая имеет доступ  на удаленном компьютере-</a:t>
            </a:r>
            <a:r>
              <a:rPr b="1" i="1" lang="en-US" sz="1900" spc="-1" strike="noStrike">
                <a:solidFill>
                  <a:srgbClr val="008000"/>
                </a:solidFill>
                <a:latin typeface="Arial"/>
              </a:rPr>
              <a:t>сервере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Это разделение процессов обработки данных основано на группировании функци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Не существует никакого стандартного определения, что такое клиент и чем занимается сервер. Однако можно полагать, что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сервер обеспечивает сервис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лиент запрашивает сервис у сервер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 одному и тому же серверу может обращаться множество клиентов с требованием предоставить им какой-либо сервис, и именно сервер решает, как обработать такие запрос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 среде клиент-сервер последний играет намного большую роль, чем просто распределитель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Фактически сервер выполняет основную часть работы системы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Сервер  в некоторой мере руководит клиентом, каким образом тот должен получать доступ и управлять данным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Реально клиентские приложения предназначены только для предоставления данных пользователю или для их доставки от конечного пользователя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07-06T02:26:5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