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в делопроизвод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внешних особенностей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юридическая достоверность документа (наличие подписей, даты, печатей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ичие резолюций, помет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передачи тек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материальной основы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обенности физического состоя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Документацию современных организаций (учреждений) можно разделить на группы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отражающие основную деятельность организации (учреждения), а также ее структурных подраздел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, имеющие вспомогательное значение (сроки их хранения от нескольких месяцев до десяти лет и даже более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кументы по личному составу (хранятся от нескольких лет до нескольких десятилетий, а некоторые и постоянно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лавными функциями ЦЭЦ (ЭК) являются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ежегодного отбора документов для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годовых разделов описей дел постоянного хранения, описей дел временного хранения (свыше 10 лет), в том числе и по личному составу, актов о выделении к уничтожению документов и дел, не подлежащих дальнейшему хранен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актов о неисправимом повреждении документов постоянного хранения и актов, о не обнаружении дел, подлежащих передаче на государственное хра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вопросов о приеме на ведомственное хранение документов личного происхожд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дготовка и внесение на рассмотрение ЭПК соответствующего архивного учреждения предложений об установлении и изменении сроков хранения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частие в подготовке и рассмотрении проектов нормативных документов и методических пособий по вопросам организации документов в делопроизводстве, экспертизе ценности документов и отбору их на государственное хранение (перечней документов с указанием сроков их хранения, номенклатуры дел, инструкций по делопроизводству и т.п.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ссмотрение перечней особо ценных дел, описей особо ценных дел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етодическое руководство и контроль за деятельностью ЭК структурных подразделений и ЭК подведомственных организац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и проведение совместно со службой делопроизводства и ведомственным архивом мероприятий по повышению квалификации членов ЭК структурных подразделен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452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653760"/>
            <a:ext cx="8229600" cy="620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ЭК (ЭК) проводят заседание в соответствии с планами работы, которые утверждаются руководителями организации. Заседание комиссии проводятся не реже двух раз в год. Решение ЦЭК (ЭК) принимаются большинством голосов, заседание протоколируется, протоколы подписывают председатель и секретарь коми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утверждаются руководителем организации только после их рассмотрения и утверждения ЭПК архивного учреждения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токолы ЦЭК (ЭК), содержащие реш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описей на дела постоянного хранения и по личному состав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одобрении проектов типовых и примерных номенклатур дел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зменении сроков хранения документов, установленных типовыми и ведомственными перечнями документов с указанием сроков их хранения, типовыми и примерными номенклатурами дел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установлении сроков хранения документов, не предусмотренных действующими типовыми и ведомственными перечнями документов с указанием сроков их хранения, а также типовыми и примерными номенклатурам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результате работы экспертной комиссии образуются четыре группы документов с различными сроками хранени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оянного хранения в государственных архива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в ведомственном архиве (свыше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ременного хранения (до 10 лет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лежащие уничтожению в связи с истечением срока хран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Arial"/>
              </a:rPr>
              <a:t>Сроки хранения устанавливаются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333160"/>
            <a:ext cx="8229600" cy="37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первых, по перечням документов с указанием сроков их хранен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о-вторых, экспертным путем ведущими специалис­тами организ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Что означает экспертиза ценности документов? Для чего она проводи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Председателем экспертной комиссии, как правило, назна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секретарь руководи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один из заместителей руководителя орган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работник службы ДО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Где проводится экспертиза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. Дайте определение – «ЦЭК (ЭК) организации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. Основные функции ЦЭК (ЭК) организ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6. Что включает в себя обработка дел для хранен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7. Назовите этапы экспертизы ценности документов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8. Кого включают в состав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9. Что является объектами рассмотрения экспертной комисс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51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4F7F-9EDF-4E9B-8FC6-BCE5D2561A9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447D-DD28-4513-A903-753CED07153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3063960"/>
            <a:ext cx="8229600" cy="30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тбор документов на государственное хранение или установление сроков их хранения на основе принятых критерие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Стрелка вниз 3"/>
          <p:cNvSpPr/>
          <p:nvPr/>
        </p:nvSpPr>
        <p:spPr>
          <a:xfrm>
            <a:off x="3805200" y="1749600"/>
            <a:ext cx="1789200" cy="1095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Экспертиза ценности документов осуществляется</a:t>
            </a:r>
            <a:r>
              <a:rPr b="0" lang="ru-RU" sz="44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делопроизводстве организации (учреждения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ведомственном архив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государственном архив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Оценка документов в делопроизводстве организации (учреждения) проводится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составлении номенклатуры дел, когда определяется ценность будущего дела на основании перечн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регистрации поступающих в организацию (учреждение) документов (при проставлении на документе индекса определяется его принадлежность к конкретному делу, где и указан срок хранения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направлении документа в дело (исполнитель, подробно изучив вопрос, рассмотренный в документе, квалифицированно может определить принадлежность документ к какому- либо делу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роверке правильности отнесения документов к делам (дела должны быть просмотрены полистно, чтобы исключить возможные ошибк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 подготовке дел к последующему хранению после завершения их делопроизводством (осуществляется в структурном подразделении организации (учреждении) лицом ответственным за делопроизводство и контролируется экспертной комиссией организации (учреждения) при сдаче на хранение в архив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 основе оценки ценности документов лежат следующие принципы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историзма (требуется рассматривать любое явление в процессе развития и делать анализ закономерностей развития тех или иных общественных явлений, отношений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всесторонности (при экспертизе необходимо изучить внутренние и внешние особенности документа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цип комплексной оценки документа (документ должны оцениваться в комплексе с другими документами, так как одни документы дополняются другими, третьи повторяют первые, а четвертые могут быть полностью поглощены вторым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истема критериев (система научно-обоснованных признаков) на основании которых определяется ценности документов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73492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роисхожд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одержание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нешние особенности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происхождения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0484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оль и место организации (учреждения, лица) в системе государственного управления или конкретной отрасли, значимость выполняемых ею функций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ремя и место образования докумен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ритерии содержания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мость события (явления, предмета), отраженного в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вторяемость информации в других документ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левое назначение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д и разновидность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30:11Z</dcterms:modified>
  <cp:revision>136</cp:revision>
  <dc:subject/>
  <dc:title>Lecture Template </dc:title>
</cp:coreProperties>
</file>