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741"/>
            </a:gs>
            <a:gs pos="100000">
              <a:srgbClr val="230fa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Untitled-1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"/>
          <p:cNvSpPr/>
          <p:nvPr/>
        </p:nvSpPr>
        <p:spPr>
          <a:xfrm>
            <a:off x="324000" y="3159000"/>
            <a:ext cx="849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Тема 1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Вводная лекц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Text Box 8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Д Институт права и упр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ссистент С.С.Никифор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Понятие «информация»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едеральный закон «Об информации, информационных технологиях и  защите информации» дает следующее определение информа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формация — сведения (сообщения, данные) независимо от формы их представления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Способы документирования (способы фиксации информации)</a:t>
            </a: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особы документирования — запись информации на различных носителях по установленным правил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волюция материалов на которых закрепляли информацию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древности высекались на камне, стенах пирамид (Египет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ля переписки применяли глиняные и деревянные дощечки, папирус, пергамент, бумаг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 ХIХ века фото-документы, фоно-документы, кинодокумен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Х века магнитные ленты, цифровые носители информ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"/>
              </a:rPr>
              <a:t>Документ — элемент внутренней организации любого учреждения, предприятия, фирмы.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316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формация являетс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нованием для принятия управленческих реше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казательств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точником для обобще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териалом справочно-поисковой рабо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Документирование информации позволяет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фиксировать ее на определенном носител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дать ей необходимую организационную форму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достоверить подлинность и юридическую силу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набдить необходимыми реквизитами для ее идентификации в целях поиска и использова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уществить полноценную информационную поддержку управленческих процессов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копить информационный ресурс в целях развития организации и сохранения индивидуальной памяти о ней во времени и пространств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Вопросы для самопроверки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Цели  и задачи курса «Организация и технология документационного обеспечения управления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Понятие и развитие термина «делопроизводство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Что в себя включает современное делопроизводство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. Термин «делопроизводство» и «документационное обеспечение управления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. Какие основные понятия используются в курсе «Организация и технология документационного обеспечения управления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Arial"/>
              </a:rPr>
              <a:t>Рекомендуемая литература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65320"/>
            <a:ext cx="8229600" cy="49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   Делопроизводство (Организация и технологии документационного обеспечения управления): Учебник для студ. вузов / Т.В. Кузнецова, Л.В. Санкина, Т.А. Быкова и др.; Под ред. Т.В. Кузнецовой.—М.: ЮНИТИ-ДАНА: 2007.—359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2.    Делопроизводство: Учебник для студ. вузов, обуч. по спец. 350800 «Документоведение и докум. обеспечение управления» / Г.Ю. Максимович, Т.А. Быкова, Л.М. Вялова, Л.В. Санкина; Под ред. Т.В. Кузнецовой. – М.: Изд-во МЦФЭР: 2008. – 544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3.    Белов А.А., Белов А.Н. Делопроизводство и документооборот. – М.: Кн. мир: 2008.– 340 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4.    Организация работы с документами. Учебник для вузов. Под ред. В.А. Кудряева. – М., 2001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5.    Санкина Л.В. Делопроизводство в коммерческой организации: на примере акционерного общества.- М.: Изд-во МЦФЭР: 2009.-432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6.     ГОСТ Р51141-98 Делопроизводство и архивное дело: Термины и определения.– М.: Издательство стандартов, 1998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7.     Федеральный закон от 29 июля 2006 г. «Об информации, информационных технологиях и о защите информации» // Российская газета от 30 июля 2006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3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F72F3-611F-44F9-AB25-C555590D489A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3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Arial"/>
              </a:rPr>
              <a:t>Содержа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Text Box 4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0830B-F9A7-46FB-A860-24972D3573CA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Rectangle 6"/>
          <p:cNvSpPr/>
          <p:nvPr/>
        </p:nvSpPr>
        <p:spPr>
          <a:xfrm>
            <a:off x="324000" y="10540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324000" y="1413000"/>
            <a:ext cx="8496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ый материа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просы для самопровер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комендуемая литерату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Цель курса «Организация и технология документационного обеспечения управления»: </a:t>
            </a:r>
            <a:br>
              <a:rPr sz="3600"/>
            </a:br>
            <a:br>
              <a:rPr sz="3600"/>
            </a:b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24000" y="2260440"/>
            <a:ext cx="82296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вляется углубленное изучение особенностей формирования и развития систем национального делопроизводства в различные исторические периоды и ознакомление с теорией и практикой организации современного документационного обеспечения на основе научно обоснованных принципов и методов его совершенствов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Задачи курса </a:t>
            </a:r>
            <a:br>
              <a:rPr sz="2400"/>
            </a:b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«Организация и технология документационного обеспечения управления»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следить становление и развитие понятий «делопроизводство» и «документационное обеспечение управления»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ветить место делопроизводства в процессах управле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знакомить с историей развития системы государственного делопроизводств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формировать у студентов рациональные подходы к решению задач организации работы с документами в учреждени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знакомить студентов с современными типовыми структурами служб ДОУ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учить современные технологии документационного обеспечения управл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В результате изучения курса «Организация и технология документационного обеспечения управления» студент должен знать: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нденции развития делопроизводства в государственном аппарате управления в различные исторические периоды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обенности формирования структуры, функций, штатного состава делопроизводственных подразделений и обязанности служащих в различные исторические периоды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висимость организации работы с документами от развития аппарата управления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оды и технологию обработки документов на основе использования средств организационной и вычислительной техники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временные направления развития и пути совершенствования документационного обеспечения управлении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научные и практические проблемы организации документационного обеспечения управления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ормативно-методические документы, регламентирующие документационное обеспечение управления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кономерности изменения объёма документооборота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циональную технологию приёма, прохождения, подготовки и отправления документов в традиционных и автоматизированных системах документационного обеспечения управления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ребования к ручным и автоматизированным информационно-поисковым системам (ИПС) по документам организаций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одику контроля за сроками исполнения документов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одику составления классификационных справочников (номенклатура дел, классификаторы различных видов, перечень документов со сроками хранения) и направления их использования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рганизацию оперативного хранения документов и подготовки документов к передаче в ведомственный архив (включая экспертизу ценности документов, оформление дел, составление описей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000"/>
                </a:solidFill>
                <a:latin typeface="Arial"/>
              </a:rPr>
              <a:t>Студент должен уметь: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нифицировать и проектировать формы документ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формлять документы в соответствии с требованиями государственных стандарт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недрять унифицированные формы документ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пределять историческую и практическую ценность документ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Arial"/>
              </a:rPr>
              <a:t>Приступая к изучению курса, прежде всего следует ознакомиться с основными профессиональными терминами и определениями постоянно встречающимися в работе с документами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785960"/>
            <a:ext cx="8229600" cy="46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ffc000"/>
                </a:solidFill>
                <a:latin typeface="Arial"/>
              </a:rPr>
              <a:t>Делопроизводство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- отрасль деятельности, обеспечивающая документирование и организацию работы с официальными документам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ервоначально термин появился в устной речи (предположительно в XVIII в.) и означал процесс решения (производства) дела: "дело производить - решать вопрос. В ходе решения возникла необходимость закрепления результата, например, достигнутой договоренности". Для этого издревле издавали документы, т.к. устное слово кратковременно, могло быть забыто, искажено при передаче или не так понято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Уже в XVI в. употребляется слово дело как собрание документов, относящихся к какому-либо вопросу. Впервые в этом понятии слово "дело" зафиксировано в документах в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1584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г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000"/>
                </a:solidFill>
                <a:latin typeface="Arial"/>
              </a:rPr>
              <a:t>Современное делопроизводство включает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беспечение своевременного и правильного создания документов (документирование)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рганизацию работы с документами (получение, передача, обработка, учет, регистрация, контроль, хранение, систематизация, подготовка документов для сдачи в архив, уничтожение)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rial"/>
              </a:rPr>
              <a:t>Параллельно с термином "делопроизводство" в последние десятилетия используется термин </a:t>
            </a:r>
            <a:r>
              <a:rPr b="1" i="1" lang="ru-RU" sz="2800" spc="-1" strike="noStrike">
                <a:solidFill>
                  <a:srgbClr val="ffc000"/>
                </a:solidFill>
                <a:latin typeface="Arial"/>
              </a:rPr>
              <a:t>документационное обеспечение управления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2662200"/>
            <a:ext cx="8229600" cy="34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го появление связано с внедрением в управление компьютерных систем. Термины "делопроизводство" и "ДОУ" являются синонимами и применяются для обозначения одной и той же деятель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Основные понятия курса  «Организация и технология документационного обеспечения управления» .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000"/>
                </a:solidFill>
                <a:latin typeface="Arial"/>
              </a:rPr>
              <a:t>Организация работы с документами -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это обеспечение движения документов в аппарате управления, их использования в справочных целях и хране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000"/>
                </a:solidFill>
                <a:latin typeface="Arial"/>
              </a:rPr>
              <a:t>Документооборот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- движение документов в организации с момента их создания или получения до завершения исполнения или отправле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000"/>
                </a:solidFill>
                <a:latin typeface="Arial"/>
              </a:rPr>
              <a:t>В технологию работ с документами входит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ием и первичная обработка документов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х предварительное рассмотрение и распределение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егистрация документов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нформационно-справочная работа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х справка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систематизация (формирование дел) и текущее хранение документов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000"/>
                </a:solidFill>
                <a:latin typeface="Arial"/>
              </a:rPr>
              <a:t>Регистрация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- запись учетных данных о документе по установленной форме, фиксирующая факт его создания, отправления или получения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000"/>
                </a:solidFill>
                <a:latin typeface="Arial"/>
              </a:rPr>
              <a:t>Контроль исполнения документов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- совокупность действий, обеспечивающих их современное исполнени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000"/>
                </a:solidFill>
                <a:latin typeface="Arial"/>
              </a:rPr>
              <a:t>Формирование дела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- группирование исполненных документов в дело в соответствии с номенклатурой дел (систематизированным перечнем наименований дел, завозить в организации, с указанием сроков их хранения, оформленным в установленном порядке) и систематизация документов внутри дел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Loner-XP</cp:lastModifiedBy>
  <dcterms:modified xsi:type="dcterms:W3CDTF">2010-05-05T10:30:59Z</dcterms:modified>
  <cp:revision>121</cp:revision>
  <dc:subject/>
  <dc:title>Lecture Template </dc:title>
</cp:coreProperties>
</file>