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5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Прямоугольник 4"/>
          <p:cNvSpPr/>
          <p:nvPr/>
        </p:nvSpPr>
        <p:spPr>
          <a:xfrm>
            <a:off x="738360" y="3105000"/>
            <a:ext cx="79959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осударственное делопроизводство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1960 – 2000-е гг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5806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88 г. руководство Главархива СССР утвердило вторую редакцию ЕГСД, названную Единая государственная система документационного обеспечения управления (ЕГСДОУ). С этого времени понятие "делопроизводство" обозначается и термином "документационное обеспечение управления" (ДОУ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991 г. ЕГСДОУ была преобразована в государственную систему документационного обеспечения управления (ГСДОУ). Положения ЕГСДОУ распространялись на все системы документации, включая документы, создаваемые средствами вычислительной техники и микрограф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44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398520"/>
            <a:ext cx="822960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ЕГСДОУ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- это документ, развивающий, уточняющий и дополняющий Основные положения ЕГСД в связи с изменениями, которые претерпело делопроизводство к этому периоду времени. На основе ЕГСДОУ был подготовлен новый нормативный документ 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"Государственная система документационного обеспечения управления. Основные положения. Общие требования к документам и службам документационного обеспечения"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, который одобрен коллегией Главархива СССР 27.04.88 и утвержден приказом Главархива СССР от 25.05.88 № 33. До настоящего времени он остается основным нормативным документом по организации делопроизводства в нашей стр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«</a:t>
            </a: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Основные правилах работы ведомственных архивов», утвержденные приказом Главархива СССР от 05.09.85 № 263 установили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ные требования для систематизации документов в текущем делопроизвод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нципы и критерии ценности документов, организация экспертизы ценности документов и порядок ее провед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ила подготовки и передачи дел на хранение в архи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«Типовая инструкция по делопроизводству в министерствах и ведомствах Российской Федерации» от  05.08.93 № 321. 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а регистрации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троения поисковых систем для справочной рабо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рганизация контроля исполнения документ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рядок составления и работы с номенклатурой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я дел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ставления описей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еративного хранения дел и передачи их на архивное хранени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блемы совершенствования делопроизводства в 1950-1980-х гг. Их законодательная и нормативная регла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работка ЕГСД, цели, принципы документообор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зовите первые государственные стандарты на организационно-распорядительную документацию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етское делопроизводство 1980-2000-х г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BFB1-E5CC-4E80-88DF-2D31D8677C5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4ACE-B3C9-43B9-8AF0-E5F877C7F8E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216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800280"/>
            <a:ext cx="822960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Декабрь 1959 г. - Постановление Правительства СССР «О механизации труда инженерно-технических работников административно-управленческого аппарат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юнь1960 г. в Москве было созвано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Всесоюзное совещание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по вопросам механизации труда инженерно-технических работников и работников административно-управленческого аппара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1960/1961 учебном году - подготовка специалистов по организации делопроизводства в Московском государственном историко-архивном институте (МГИАИ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На основе постановления Совета Министров РСФСР 08.05.1964 Об увеличении выпуска средств механизации делопроизводства и улучшении подготовки кадров по делопроизводству» в МГИАИ был открыт первый в СССР факультет государственного делопроизводства (ФГД), готовящий специалистов для работы по документационному обеспечению у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остановлением Совета Министров РСФСР от 30.09.1961 "О мерах по улучшению делопроизводства в учреждениях и организациях РСФСР" была утверждена Примерная инструкция о делопроизводстве для учреждений и организаций РСФСР. Она явилась основой для разработки учреждениями РФ своих инструкций по делопроизводств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же постановление обязало Министерство просвещения РСФСР ввести в ряде средних школ с 1962/ 1963 учебного года подготовку учащихся по специальности "Делопроизводство"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лавное архивное управление при Совете Министров СССР в 1963 г. утвердило "Основные правила постановки документальной части делопроизводства и работы архивов учреждений, организаций, предприятий СССР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Разработка Единой государственной системы делопроизводства (ЕГСД) началась после выхода постановления Совета Министров СССР от 25.07.1963 "О мерах по улучшению архивного дела в СССР". Постановление подчеркнуло связь делопроизводства и архива. </a:t>
            </a:r>
            <a:br>
              <a:rPr sz="18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2953800"/>
            <a:ext cx="82296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работка основных разделов ЕГСД поручалась Главному архивному управлению, в рамках которого в 1966 г. был создан ВНИИДА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ИИДАД разрабатывал Единую государственную систему делопроизвод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дготовке проекта ЕГСД приняли участие: НИИ труда, ВНИИ оргтехники, Институт государства и права Академии наук СССР, ВНИИ стандартиз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сентябрь 1973 г. </a:t>
            </a: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- Единая государственная система делопроизводства (ЕГСД) - одобрена Государственным комитетом Совмина СССР по науке и технике и рекомендованная министерствам и ведомствам для использования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229600" cy="49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ГСД -представлял собой научно-методический, упорядоченный комплекс правил, нормативов и рекомендаций по ведению делопроизводства в учреждениях, организациях, предприятиях СССР, начиная с момента поступления или создания документов до передачи их в архив. В ЕГСД также излагались требования к службам делопроизводства в учреждениях и их порядок работ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Цель ЕГСД — усовершенствовать на единой основе организацию делопроизводства путем внедрения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единых форм и метод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работы с документ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000"/>
                </a:solidFill>
                <a:latin typeface="Arial"/>
              </a:rPr>
              <a:t>ЕГСД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навливала правила документирования управленческой деятельности (которые распространялись только на организационно-распорядительные документы)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держала рекомендации по организации работы с документам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яла основы организации труда делопроизводственного персонала и механизации делопроизводственных процессов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нципы организации документооборота по ЕГСД :</a:t>
            </a:r>
            <a:br>
              <a:rPr sz="3600"/>
            </a:b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еративность движения документов, его целенаправленное регулирование и оптимальное осуществл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единообразия в порядке прохождения и технологии обработки основных категорий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ключение инстанций прохождения и действий с документами, не обусловленных деловой необходимость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ервые стандарты на организационно-распорядительную документацию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2516040"/>
            <a:ext cx="8229600" cy="36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8-72 "Система ОРД. Основные положения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ОСТ 6.39-72 "Система ОРД. Формуляр - образец".</a:t>
            </a:r>
            <a:r>
              <a:rPr b="0" i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65412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16487-70 "Делопроизводство и архивное дело. Термины и определения". (переработан в 1983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1-75 "Унифицированные системы документации. Основные положения" (переработан в 1988 г.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10.4-84 "Унифицированные системы документации. Придание юридической силы документам на машинном носителе и машинограмме, создаваемым средствами вычислительной техники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ОСТ 6.38-90 "Унифицированная система документации. Система организационно-распорядительной документации. Требования к оформлению документов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Характеризуя  период советского делопроизводства, следует отметить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60-е гг. прослеживается стремление придать делопроизводству общегосударственный характер ''путем разработки единых правил и норм в работе с документами, подготовки специалистов в области делопроизводства, оптимизации делопроизводственных процессов через внедрение средств механизац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- 1970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годы - качественный перелом. Основа для развития современного делопроизводст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10T09:08:35Z</dcterms:modified>
  <cp:revision>137</cp:revision>
  <dc:subject/>
  <dc:title>Lecture Template </dc:title>
</cp:coreProperties>
</file>