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3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и оперативное хранение дел в делопроизводств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507600"/>
            <a:ext cx="8229600" cy="61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завершения делопроизводственного года выдача сотрудникам отдельных документов из дела не допускается. При необходимости во временное пользование может быть выдано дело целиком. В этом случае составляется 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карта-заместитель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в которой указывает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мер выданного де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та выдач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у выдано дел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кой ср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пись в получении и приеме после возвращ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а выдаются во временное пользование сотрудникам организации на срок не более одного месяц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ислите общие требования при формировании дел учре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то осуществляет контроль за правильным формированием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 каких операций состоит работа по формированию дел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листов может быть помещено в дел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специфику систематизации различных групп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AF98-E081-429D-BEDC-489E819EF0D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DDDED-802C-45E5-9BF2-74CF7B1ADBC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Дело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588760"/>
            <a:ext cx="8229600" cy="35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вокупность документов или документ, относящихся к одному вопросу или участку деятельности, помещенных в отдельную обложку. (ГОСТ Р51141-98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951360" y="1274760"/>
            <a:ext cx="1241280" cy="10224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Формирование дела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62548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руппирование исполненных документов в дело в соответствии с номенклатурой дел и систематизация документов внутр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Стрелка вниз 3"/>
          <p:cNvSpPr/>
          <p:nvPr/>
        </p:nvSpPr>
        <p:spPr>
          <a:xfrm>
            <a:off x="3768840" y="1274760"/>
            <a:ext cx="1350720" cy="138744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ребования при формировании дел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019160"/>
            <a:ext cx="8229600" cy="55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помещаются документы, которые по своему содержанию соответствуют заголовку дела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ы постоянного и временного хранения группируются в отдельные дела; Например, следует хранить в различных делах оригиналы и копии документов, годовые и квартальные планы работы и так далее, поскольку эти документы имеют различные срок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ложения к документам, независимо от дат их подписания или утверждения, присоединяют к документам, к которым они относятся; могут составлять отдельный том данного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включается по одному экземпляру каждого документ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прещается включать копии и дубликаты. Исключение составляют черновые и дублетные материалы, копии, которые имеют резолюции, визы, пометки, являющиеся дополнением к основному документ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дело группируются документы одного календарного года.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Исключение составляют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удебных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ичных дел (формируются в течение всего периода работы данного лица в организации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ор­ганов представительной власти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ругих выборных органов, которые группируются за период их созыва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окументов учебных заведений, формирующихся в дела за учебный год и д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7.    в дела должны помещаться только исполненные документы, неисполненные подшивать запрещаетс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дела, по которым распределяются документы, должны точно соответствовать номенклатуре дел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Работа по формированию дел состоит из следующих операций: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297160"/>
            <a:ext cx="82296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ределение исполненных документов по делам в соответствии с номенклатурой дел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положение документов внутри дела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формление обложки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оследовательности расположения документов в деле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7128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хронологическая последовательность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начиная от более ранних по датам документов и кончая более поздними датам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вопрос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предполагает размещение документов в деле в логической последовательности решения вопросов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умерационный  признак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(группируются однородные документы, имеющие порядковую нумерацию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номинальны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в дела группируются документы одного вида (разновидности): протоколы, приказы, акты и т. д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корреспондентский признак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(для группировки перепис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ffffff"/>
                </a:solidFill>
                <a:latin typeface="Arial"/>
              </a:rPr>
              <a:t>алфавитная последовательность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На обложку каждого заведенного дела выносятся следующие сведения: 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вание структурного подразделения организации, в котором оформилось дел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декс дел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головок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личество листов в дел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ок хранения дела (внизу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головок дела следует формулировать на основе элементов, располагаемых в следующей последовательности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документа (приказы, протоколы и т.д.)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именование рода заводимого дела (переписка, документы, дело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 документа (название организации, подразделения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рреспондент (название организации, которой адресуются и от которой получают документы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опрос или краткое содержание документов дела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название местности (территории), с которой связано содержание документов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аты (период), к которым относятся документы дела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указание на копийность дел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2520" indent="-45252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1:34Z</dcterms:modified>
  <cp:revision>134</cp:revision>
  <dc:subject/>
  <dc:title>Lecture Template </dc:title>
</cp:coreProperties>
</file>