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6-7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Документационное обеспечение – основа технологии управления. Организация службы ДО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Задачи службы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286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ершенствование форм и методов работы с документ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единого порядка документирования, организации работы с документам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роения информационно-поисковых систем, контроля исполнения и подготовки документов к передаче в архив в соответствии с действующими норматив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кращение документооборо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нификацию форм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ку и внедрение нормативных и методических документов по совершенствованию документационного обеспечения управления в организации, ее структурных подразделен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едрение новейших информационных технологий в работу с докумен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40" y="32508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иды работ выполняемые службой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хнологически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рганизационны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етодическ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нтрольны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технологические функции службы ДОУ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уществление первоначальной (экспедиционной) обработки входящи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страция входящих, исходящих и внутренни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дение информационно-справочной работы по документам организ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шинописное изготовление документов (набор текста на компьютере); копирование, тиражирование и оперативное размножение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и проектирование бланков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документов к отправ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рганизационные функции службы ДОУ: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ка к докладу руководству поступающих докум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своевременного рассмотрения документов руководством организац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гулирование хода исполнения документов, прохождения и исполнения документов в установленный сро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хранения документов в структурных подразделения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работы архива в соответствии с правилами, инструкциями и методическими рекомендациями Росархи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вышение квалификации работников делопроизводственной службы и архив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рабочих мест работников делопроизводственной службы, в том числе автоматизированных рабочих мест (АРМ), условий труда сотрудников делопроизводственной служб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делопроизводства по обращениям граждан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работка (совместно с соответствующими структурными подразделениями организации) мероприятий по совершенствованию форм и методов работы с документ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контрольные функции службы ДОУ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93640"/>
            <a:ext cx="822960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за правильностью оформления документов, представляемых на подпись руководству (т. е. исходящих и внутренних документ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за сроками исполнения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уществление контроля за правильностью оформления и формирования в структурных подразделениях организации дел, подлежащих сдаче в архи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контроля за работой с документами в структурных подразделен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бщение сведений о ходе и результатах исполнения документов, систематическое информирование руководства по этим вопрос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хранения дел и оперативного использования документной информаци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методические функции службы ДОУ: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номенклатуры дел организации, инструкции по делопроизводству, табеля форм документов и других локальных нормативных документов, закрепляющих систему делопроизводства орг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ние экспертизы научной и практической ценност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ние совещаний и консультирование по вопросам, относящимся к компетенции делопроизводственной служб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Должностной состав службы ДОУ включает три категории работников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3209400"/>
            <a:ext cx="822960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уководители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ециалисты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хнические исполнител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К категории руководителей, возглавляющих делопроизводственную службу, относятся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равляющий дел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канцеляри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общим отдел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протокольным отдел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альник секретариа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экспедици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центром подготовк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копировально-множительным бюр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машинописным бюр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атегория специалистов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091880"/>
            <a:ext cx="82296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ументове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мощник руководител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пектор по контролю за исполнением поруч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дакт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хеограф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пект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кретарь коллег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рек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категория технических исполнителей: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спедито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опроизводит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енограф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ческий секретар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рье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тор оргтехн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хивариу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-машин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-стенограф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 руковод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21F9-6BB9-464E-8E33-E760F9B861A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Регламентация деятельности службы ДОУ осуществляется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ложением о службе ДО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олжностными инструкциями работников службы ДО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нструкцией по делопроизводств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абеле форм докумен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факторы, влияющие на численность работников службы делопроизводства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ая численность работников организаци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ем документооборота организации (количество входящей, исходящей и внутренней документации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траты труда на выполнение делопроизводственных работ (рассчитываются по существующим нормативам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Перечислите действующие нормативные документы, регламентирующие задачи и функции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еречислите задачи службы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азовите функции службы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еречислите состав категорий руководителей, возглавляющих службу ДОУ, специалистов, технических исполн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акие локальные нормативные документы регламентируют деятельность службы ДО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Перечислите основные факторы, влияющие на численность работников службы ДО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E1BA-B304-4B18-A779-66E76C117AD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ри создании службы делопроизводства должны быть решены следующие вопросы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а, функции и задачи делопроизводственной служб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онная форма делопроизвод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ностной и численный соста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лификационные требования, предъявляемые к работникам делопроизводственной сфер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служба ДОУ руководствуется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конодательными актам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рмативно-методическими документами по вопросам делопроизводства и архивного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казами и распоряжениями руко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струкцией по делопроизводству орг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жением о служб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жностными инструкциями ее работ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цель службы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существить в полной мере все действия по документационному обеспечению деятельности организации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уководст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ординацию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ализац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формы организации делопроизводства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нтрализован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ецентрализованная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ешан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централизация, 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позволяет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286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зить стоимость делопроизводственных операц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лучшить организацию труда делопроизводственного персонала и, в частности, внедрить его нормиров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специализацию и взаимозаменяемость работн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ть прогрессивные и производительные технические сре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единство организационного и методического руковод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Основных положениях ГСДОУ рекомендуется создавать следующие делопроизводственные службы (структуры организаций)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федеральных органах исполнительной власти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управление дела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различных предприятиях: государственных, не государственных, научно-исследовательских, проектных, конструкторских, высших учебных заведениях —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отдел документационного обеспечения или канцелярия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рганах местного самоуправления —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общий отде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Управление делами имеет следующий типовой состав структурных подразделений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05516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ретари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спекция при минист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ретариат колле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кспеди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юро правительственной перепис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юро учета и регистр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уппа контроля (бюро, отдел, инспекци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шинописное бюро (компьютерный центр обработки текстов документ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пировально-множительное бюр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дел писем (отдел по работе с обращениями гражда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нтральный архи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дел рационализации делопроизводства (центр совершенствования документации (ДОУ), бюро НОТ или НОУТ, методический сектор и д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0:05:28Z</dcterms:modified>
  <cp:revision>133</cp:revision>
  <dc:subject/>
  <dc:title>Lecture Template </dc:title>
</cp:coreProperties>
</file>