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1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Контроль за сроками исполнения документ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Проверка хода исполнения  документов осуществляется обычно в следующие срок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2296800"/>
            <a:ext cx="822960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лет - не реже одного раза в го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последующих месяцев текущего года - не реже одного раза в месяц;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дания текущего месяца - каждые 10 дней и за 5 дней до истечения срока испол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Этапы снятия документов с контроля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нятие руководителем решения о снятии документа с контроля и передача распоряжения об этом службе ДО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и отметки об исполнении в РКК (регистрационно-контрольную карточку) и на документе информирования контрольной службы организации об исполнении документа, находящегося на централизованном контрол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становка РКК из контрольной картотеки (раздела) в справочную карточку (раздел)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шивка документа, имеющего отметку об исполнении, в дел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ичины  неисполнения документов в срок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347840"/>
            <a:ext cx="822960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ишком высокая степень централизации полномоч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грузка исполнителей и руководителей разного уровн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исциплинированность сотрудников и подведомственных организ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чные сроки для качественного исполн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рациональная система документооборо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статок технических средств оформления и тиражирования документов и д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2520"/>
            <a:ext cx="822960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основные задачи, решаемые в процессе контроля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то осуществляет контроль сроков исполнения документов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овите уровни, на которых ведется контроль сроков исполнения доку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числите технологии контрольных опера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документов с контрол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ение, анализ и использование данных об исполнении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узнецов И. Н. Делопроизводство: учебно-справочное пособие / И. Н. Кузнецов. - 3-е изд., перераб. и доп. - М. : Дашков и К*,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2007. - 240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рганизация работы с документами. Учебник для вузов. Под ред. В.А. Кудряева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8.    Спивак В.А. Делопроизводство. – СПб.: Питер: 2008. – 208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9.    Стенюков М.В. Делопроизводство: Конспект лекций. – М.: ПРИОР: 2008. – 127 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0.  Стенюков М.В. Документы. Делопроизводство. Практическое по­собие. – М., 200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1.   Хрестоматия по документоведению. В 3-х частях.  Ч. 3 Сост. Н.А. Царева. Владивосток: изд-во ВГУЭС, 2005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2.   ГОСТ Р51141-98 Делопроизводство и архивное дело: Термины и определения.– М.: Издательство стандартов, 199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7676-7DAB-40CB-B45A-DD373D8067B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2DF34-C6FE-4B1B-AF87-14650062D4D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292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98244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Arial"/>
              </a:rPr>
              <a:t>Цель контроля</a:t>
            </a: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— содействие своевременному и качественному исполнению решений и заданий руководства предприятия или структурного подразделе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Этапы контроль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у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ку своевременности доведения документов до исполнител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ую проверку и регулирование хода исполн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ет и обобщение результатов контроля исполнения докумен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направления контрольной деятельности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041560"/>
            <a:ext cx="82296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онтроль за исполнением документов по существу поставленных в них вопрос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контроль за сроками исполнения документов и  за соответствием формы создаваемых документов их содержа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онтроля за исполнением документ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356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ановка документа на контро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дварительная проверка и регулирование хода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ятие их с контро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правление исполненного документа в дело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т, обобщение и анализ хода и результатов исполн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ирование руководителей о результатах обобщения данных в целях своевременного и качественного исполнения поручений, зафиксированных в документ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предложений по ускорению документопотоков и укреплению исполнительской дисциплин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Уровни контроля за исполнением документов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воевременности исполнения поручений и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формы создаваемых документов их содержан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применяемых унифицированных форм и бланков действующим нормативам и образц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уровня и формы подтверждения каждого документа, соответствия подписей их расшифровк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соответствия всех экземпляров на идентичность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, включающий анализ существа и полноты исполнения поручений, заданий, ответов на запро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00"/>
                </a:solidFill>
                <a:latin typeface="Arial"/>
              </a:rPr>
              <a:t>Сроки исполнения документов: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Типов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ндивидуаль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ловны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Задачи текущего контрол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становка документов на контроль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ирование картотеки контролируемых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е карточки контролируемого документа исполнител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ирование исполнителя о сроке исполнения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4T02:10:35Z</dcterms:modified>
  <cp:revision>138</cp:revision>
  <dc:subject/>
  <dc:title>Lecture Template </dc:title>
</cp:coreProperties>
</file>