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741"/>
            </a:gs>
            <a:gs pos="100000">
              <a:srgbClr val="230f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"/>
          <p:cNvSpPr/>
          <p:nvPr/>
        </p:nvSpPr>
        <p:spPr>
          <a:xfrm>
            <a:off x="324000" y="2333520"/>
            <a:ext cx="849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Лекция 5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Д Институт права и у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систент С.С.Никифо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Прямоугольник 4"/>
          <p:cNvSpPr/>
          <p:nvPr/>
        </p:nvSpPr>
        <p:spPr>
          <a:xfrm>
            <a:off x="738360" y="3105000"/>
            <a:ext cx="7995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Государственное делопроизводств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в 1960 – 2000-е гг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5806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1988 г. руководство Главархива СССР утвердило вторую редакцию ЕГСД, названную Единая государственная система документационного обеспечения управления (ЕГСДОУ). С этого времени понятие "делопроизводство" обозначается и термином "документационное обеспечение управления" (ДОУ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1991 г. ЕГСДОУ была преобразована в государственную систему документационного обеспечения управления (ГСДОУ). Положения ЕГСДОУ распространялись на все системы документации, включая документы, создаваемые средствами вычислительной техники и микрограф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440"/>
            <a:ext cx="822960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398520"/>
            <a:ext cx="8229600" cy="57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ЕГСДОУ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это документ, развивающий, уточняющий и дополняющий Основные положения ЕГСД в связи с изменениями, которые претерпело делопроизводство к этому периоду времени. На основе ЕГСДОУ был подготовлен новый нормативный документ 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"Государственная система документационного обеспечения управления. Основные положения. Общие требования к документам и службам документационного обеспечения"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который одобрен коллегией Главархива СССР 27.04.88 и утвержден приказом Главархива СССР от 25.05.88 № 33. До настоящего времени он остается основным нормативным документом по организации делопроизводства в нашей стран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«</a:t>
            </a: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Основные правилах работы ведомственных архивов», утвержденные приказом Главархива СССР от 05.09.85 № 263 установили: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новные требования для систематизации документов в текущем делопроизводств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нципы и критерии ценности документов, организация экспертизы ценности документов и порядок ее провед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ила подготовки и передачи дел на хранение в архи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«Типовая инструкция по делопроизводству в министерствах и ведомствах Российской Федерации» от  05.08.93 № 321. 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цедура регистрации документов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троения поисковых систем для справочной работы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рганизация контроля исполнения документов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рядок составления и работы с номенклатурой дел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ормирования дел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ставления описей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еративного хранения дел и передачи их на архивное хранени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блемы совершенствования делопроизводства в 1950-1980-х гг. Их законодательная и нормативная регламентац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работка ЕГСД, цели, принципы документообор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зовите первые государственные стандарты на организационно-распорядительную документацию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ветское делопроизводство 1980-2000-х г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9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Делопроизводство (Организация и технологии документационного обеспечения управления): Учебник для студ. вузов / Т.В. Кузнецова, Л.В. Санкина, Т.А. Быкова и др.; Под ред. Т.В. Кузнецовой.—М.: ЮНИТИ-ДАНА: 2007.—359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    Делопроизводство: Учебник для студ. вузов, обуч. по спец. 350800 «Документоведение и докум. обеспечение управления» / Г.Ю. Максимович, Т.А. Быкова, Л.М. Вялова, Л.В. Санкина; Под ред. Т.В. Кузнецовой. – М.: Изд-во МЦФЭР: 2008. – 544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    Белов А.А., Белов А.Н. Делопроизводство и документооборот. – М.: Кн. мир: 2008.– 340 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ирсанова М.В., Аксенов Ю.М. Курс делопроизводства: Документационное обеспечение управления. – М.-Новосибирск. 2007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кова А.Н. Пути воздействия государства на работу с документами в негосударственной сфере экономики // Делопроизводство. 2002. № 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9D0C0-DC6E-4A4E-89D9-851C2F8B3198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0C0D9-3244-4C4E-8576-146FE9226DBF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92160"/>
            <a:ext cx="822960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800280"/>
            <a:ext cx="8229600" cy="53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екабрь 1959 г. - Постановление Правительства СССР «О механизации труда инженерно-технических работников административно-управленческого аппарата»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юнь1960 г. в Москве было созвано 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Всесоюзное совещание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по вопросам механизации труда инженерно-технических работников и работников административно-управленческого аппарат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1960/1961 учебном году - подготовка специалистов по организации делопроизводства в Московском государственном историко-архивном институте (МГИАИ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 основе постановления Совета Министров РСФСР 08.05.1964 Об увеличении выпуска средств механизации делопроизводства и улучшении подготовки кадров по делопроизводству» в МГИАИ был открыт первый в СССР факультет государственного делопроизводства (ФГД), готовящий специалистов для работы по документационному обеспечению управл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становлением Совета Министров РСФСР от 30.09.1961 "О мерах по улучшению делопроизводства в учреждениях и организациях РСФСР" была утверждена Примерная инструкция о делопроизводстве для учреждений и организаций РСФСР. Она явилась основой для разработки учреждениями РФ своих инструкций по делопроизводству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Это же постановление обязало Министерство просвещения РСФСР ввести в ряде средних школ с 1962/ 1963 учебного года подготовку учащихся по специальности "Делопроизводство"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Главное архивное управление при Совете Министров СССР в 1963 г. утвердило "Основные правила постановки документальной части делопроизводства и работы архивов учреждений, организаций, предприятий СССР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Разработка Единой государственной системы делопроизводства (ЕГСД) началась после выхода постановления Совета Министров СССР от 25.07.1963 "О мерах по улучшению архивного дела в СССР". Постановление подчеркнуло связь делопроизводства и архива. </a:t>
            </a:r>
            <a:br>
              <a:rPr sz="1800"/>
            </a:b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953800"/>
            <a:ext cx="8229600" cy="31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работка основных разделов ЕГСД поручалась Главному архивному управлению, в рамках которого в 1966 г. был создан ВНИИДА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НИИДАД разрабатывал Единую государственную систему делопроизводств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подготовке проекта ЕГСД приняли участие: НИИ труда, ВНИИ оргтехники, Институт государства и права Академии наук СССР, ВНИИ стандартиз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сентябрь 1973 г. </a:t>
            </a: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- Единая государственная система делопроизводства (ЕГСД) - одобрена Государственным комитетом Совмина СССР по науке и технике и рекомендованная министерствам и ведомствам для использования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822960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ГСД -представлял собой научно-методический, упорядоченный комплекс правил, нормативов и рекомендаций по ведению делопроизводства в учреждениях, организациях, предприятиях СССР, начиная с момента поступления или создания документов до передачи их в архив. В ЕГСД также излагались требования к службам делопроизводства в учреждениях и их порядок работ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ель ЕГСД — усовершенствовать на единой основе организацию делопроизводства путем внедрения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единых форм и методо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работы с документа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ЕГСД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станавливала правила документирования управленческой деятельности (которые распространялись только на организационно-распорядительные документы)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держала рекомендации по организации работы с документами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ределяла основы организации труда делопроизводственного персонала и механизации делопроизводственных процесс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принципы организации документооборота по ЕГСД :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еративность движения документов, его целенаправленное регулирование и оптимальное осуществле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еспечение единообразия в порядке прохождения и технологии обработки основных категорий докумен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ключение инстанций прохождения и действий с документами, не обусловленных деловой необходимость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Первые стандарты на организационно-распорядительную документацию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516040"/>
            <a:ext cx="8229600" cy="36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ОСТ 6.38-72 "Система ОРД. Основные положения"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ОСТ 6.39-72 "Система ОРД. Формуляр - образец".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65412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ОСТ 16487-70 "Делопроизводство и архивное дело. Термины и определения". (переработан в 1983 г.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ОСТ 6.10.1-75 "Унифицированные системы документации. Основные положения" (переработан в 1988 г.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ОСТ 6.10.4-84 "Унифицированные системы документации. Придание юридической силы документам на машинном носителе и машинограмме, создаваемым средствами вычислительной техники"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ОСТ 6.38-90 "Унифицированная система документации. Система организационно-распорядительной документации. Требования к оформлению документов"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Характеризуя  период советского делопроизводства, следует отметить: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1960-е гг. прослеживается стремление придать делопроизводству общегосударственный характер ''путем разработки единых правил и норм в работе с документами, подготовки специалистов в области делопроизводства, оптимизации делопроизводственных процессов через внедрение средств механизац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1970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годы - качественный перелом. Основа для развития современного делопроизводст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oner-XP</cp:lastModifiedBy>
  <dcterms:modified xsi:type="dcterms:W3CDTF">2010-05-10T09:08:35Z</dcterms:modified>
  <cp:revision>137</cp:revision>
  <dc:subject/>
  <dc:title>Lecture Template </dc:title>
</cp:coreProperties>
</file>