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8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Организация документообор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Исходящ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стоит из документов, создаваемых в данной организации и отправляемых за ее пределы. Исходящие документы могут создаваться как инициативные документы (требующие или не требующие ответа) или как ответные на поступившие письменные или устные запрос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нутренний документопоток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128600"/>
            <a:ext cx="8229600" cy="52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тавляют документы, не выходящие за пределы организации. Происхождение документов совпадает со сферой их применения: они создаются и обеспечивают целенаправленное решение управленческих задач в пределах одного учреждения, организ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 внутренним, прежде всего, относятся организационные документы, определяющие задачи, функции организации в целом, а также ее структурных подразделений, компетенцию, права и обязанности должностных лиц, правила выполнения отдельных видов деятельности — положения, уставы, учредительные договоры, должностные инструкции, регламен­ы, правила, штатные расписания и др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Функцию оперативного регулирования деятельности учреждений выполняют распорядительные документы, издаваемые руководством, — приказы, указания, распоряжения, решения. Самостоятельные группы внутреннего документопотока составляют протоколы и акты, плановые и отчетные документы, документы по учету материальных и денежных средств, оборудования, личного состава и т. д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практике деятельности современных организаций широкое распространение получила внутренняя переписка. Она оформляется, в основном, докладными (служебными) и объяснительными записками, которые составляют отдельную группу внутренней документ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Учет документооборота позволяет: 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42056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загрузку организации в целом, ее структурных подразделений и отдельных исполнителе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ить соответствие маршрутов движения тех или иных документов задачам и функциям структурных подразделений или должностных лиц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ать мероприятия по совершенствованию процессов обработки документов в целом или их отдельных операц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ановить оптимальное количество информации, необходимой и достаточной для функционирования аппарата управления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ссчитать численность службы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Дайте определение понятия «документооборот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еречислите основные требования к организации документооборота в учрежден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Назовите правила учета документообор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4960"/>
            <a:ext cx="8229600" cy="569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санова М.В. Курс делопроизводства : Документационное обеспечение управления / М. В. Кирсанова, Ю. М. Аксенов ; Новосиб. гос. ун-т экономики и управления, Администрация Президента РФ, Сиб. акад. гос. службы. - 6-е изд.,испр. и доп. - М. ; Новосибирск : ИНФРА-М : Сиб. соглашение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8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367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знецов И. Н.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: учебно-справочное пособие / И. Н. Кузнецов. - 3-е изд., перераб. и доп. - М. : Дашков и К*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52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огожин М.Ю. Делопроизводство / М. Ю. Рогожин. - М. : ИндексМедиа,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2007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- 2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82B8-5093-47E4-850D-EE399B40632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1670-B2C6-494A-A615-6056CF310E49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Технологии ДОУ в соответствии с различием информационных процессов делятся на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обработки поступающих и отправляемы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передачи (доведения) документной информации конечному пользователю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введения документов в информационную базу данных организации исход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 ее внутренней структур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й обработки документной информации и накопления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ологии хранения и использования отдельных локальных групп докумен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бщие принципы организации документооборота в ЕГСД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ГОСТ Р 51141 " Делопроизводство и архивное дело. Термины и определения"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2406600"/>
            <a:ext cx="8229600" cy="37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ооборо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 это движение документов с момента их создания или получения до завершения исполнения: отправки и (или) направления в дело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При организации движения документов необходимо выполнение следующих правил: 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еративное прохождение документа, с наименьшими затратами времен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сокращение инстанций прохождения документов (за счет исключения технологических операций и обработке документов и управленческих звеньев, не обусловленных деловой необходимостью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лючение или максимальное ограничение возвратных движений документов (при их обработке - регистрация и доставка, при их подготовке - визирование и согласование и т.д.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ксимальное единообразие в порядке прохождения и процессах обработки основных категорий документов, исходя из того, что каждое перемещение документа должно быть оправдан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Выделяют три основных типа документов, составляющих централизованный документооборот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3027240"/>
            <a:ext cx="8229600" cy="30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ходящие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Исходя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Внутрен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окументопотоки различаются по направлению и по отношению к управленческому объекту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аправлению выделяют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оризонтальные и вертикальные (восходящие и нисходящие) пото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Горизонт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токи связывают организации одного уровня управления,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ертикальны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— организации различных уровней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осходящие потоки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— это документы подчиненных организаций, направляемые в вышестоящие инстанции (документы, получаемые вышестоящей орга­низацией от подчиненных организаций). Нисходящие потоки — это документы, направляемые вышестоящими органами власти и управления подчиненным организац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отношению к управленческой системе выделяют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ходящий документопоток (документы, поступающие в организацию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ходящий документопоток (документы, отправляемые из организации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нутренний документопоток (документы, не выходящие за пределы подготовившей их организации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Входящий документопоток любой организации составляют: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23840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вышестоящи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органов власти и управления, головных компаний и др.). Они содержат директивные указания, нормативные и методические акты, которые являются основанием для организации производственной, управленческой, технической, экономической, социальной и иной деятельности в учреждении. Основными видами документов данной группы являются законы, указы, постановления, решения, приказы, распоряжения, указания, поручения, письма, инструкции, методические указания и рекоменд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подведомств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которые содержат сведения о выполнении распоряжений, запросы о методах и средствах выполнения заданий и отчетные данные об их деятельности. Этот поток состоит из таких документов, как отчеты по различным направлениям деятельности, докладные записки, письма, акт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документы от несоподчиненных организаци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направляемые с целью согласования совместных действий или побуждения к ним, консультирования, получения или направления необходимой информации. Основные виды документов данной группы — письма (информационные, рекламные, оферты, гарантийные, запросы и др.), договоры, а также документы, сопровождающие выполнение договоров (акты, счета, заявки, сертификаты, отгрузочные документы и др.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ращения граждан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2:47:41Z</dcterms:modified>
  <cp:revision>133</cp:revision>
  <dc:subject/>
  <dc:title>Lecture Template </dc:title>
</cp:coreProperties>
</file>