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6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Arial"/>
              </a:rPr>
              <a:t>Подготовка и передача дел в архив организ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При составлении описи дел структурного подразделения соблюдаются следующие требования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головки дел вносятся в опись в соответствии с принятой схемой систематизации на основе номенклатуры де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ждое дело вносится в опись под самостоятельным порядковым номером (если дело состоит из нескольких томов или частей, то каждый том или часть вносятся в опись под самостоятельным номером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рядок нумерации дел в описи - валовый за несколько лет; порядок присвоения номеров описям структурных подразделений устанавливается по согласованию с архивом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афы описи заполняются в точном соответствии с теми сведениями, которые вынесены на обложку дел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 внесении в опись подряд дел с одинаковыми заголовками пишется полностью заголовок первого дела, а все остальные однородные дела обозначаются словами "То же", при этом другие сведения о делах вносятся в опись полностью (на каждом новом листе описи заголовок воспроизводится полностью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афа описи "Примечания" используется для отметок о приеме дел, особенностях их физического состояния, о передаче дел другим структурным подразделениям со ссылкой на необходимый акт, о наличии копий и т.п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аголовки  дел по личному составу систематизируются в следующем порядке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казы (распоряжения) по личному состав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иски личного соста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рточки по учету личного соста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чные дела уволившихся сотрудник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ицевые счета сотрудник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востребованные трудовые книж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кты о несчастных случа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ислите состав комплекса работ, проводимых службой делопроизводства при сдаче в архив документов организ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ислите требования к оформлению дел при подготовке их к сдаче в архи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ислите требования к оформлению документов в де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ковы правила составления описей дел постоянного и временного хранен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51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знецов И. Н. Делопроизводство: учебно-справочное пособие / И. Н. Кузнецов. - 3-е изд., перераб. и доп. - М. : Дашков и К*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2007. - 2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работы с документами. Учебник для вузов. Под ред. В.А. Кудряева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пивак В.А. Делопроизводство. – СПб.: Питер: 2008. – 208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елопроизводство: Конспект лекций. – М.: ПРИОР: 2008. – 12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окументы. Делопроизводство. Практическое по­собие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Хрестоматия по документоведению. В 3-х частях.  Ч. 3 Сост. Н.А. Царева. Владивосток: изд-во ВГУЭС, 200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E725-4033-4CCB-A5BA-0A41021D6B6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6F57-F1E1-4F3A-863A-EE551EEF8A7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Дела постоянного или долговременного хранения, а также конфиденциальные и по личному составу должны быть полностью оформлены с выполнением всех названных правил. Основные задачи, которые ставятся при этом: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85868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ксимально возможное обеспечение прочности и гибкости переплета, позволяют при необходимости скопировать документы, не вынимая их из подшивки, или изъятие одного или нескольких листов из подшитого дела на время, например для реставрации, а может быть и безвозвратно, в случае его переформирования, без нанесения повреждений другим листам де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еспечение учета количества листов в каждом деле и возможности проверки полноты дела после каждого обращения к нем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ние справочного аппарата к документам, включенным в одну единицу хранения для быстроты поиска и нанесения при этом документам минимального ущерба при перелистыва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Оформление дел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392280"/>
            <a:ext cx="8229600" cy="273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о подготовка дела к хранению в соответствии с установленными правилам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Стрелка вниз 3"/>
          <p:cNvSpPr/>
          <p:nvPr/>
        </p:nvSpPr>
        <p:spPr>
          <a:xfrm>
            <a:off x="3841920" y="1311120"/>
            <a:ext cx="1752480" cy="186228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полное оформление документов предусматривает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шивку или переплет де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умерацию листов в дел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тавление листа-заверител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ставление, в необходимых случаях, внутренней описи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сение необходимых уточнений в реквизиты обложки дела (уточнение названия организации, регистрационного индекса дела, заголовка дела, крайних дат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Обложка дела постоянного, временного (свыше 10 лет) хранения и по личному составу имеет форму, установ­ленную государственным стандартом ГОСТ 17914-72 "Обложки дел длительного хранения. Типы, размеры, технические требования":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85868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именование организации и ее подчиненность на период создания документов, включенных в дел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именование структурного подразделения или направления деятельности в зависимости от структуры описи де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лопроизводственный индекс дела по номенклатуре де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р дела по годовому разделу описи де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головок дел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та или крайние даты первого и последнего по датам документов дел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личество листов в дел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ок хранения дела или запись «Хранить постоянно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хивный шифр дела, сначала карандашом, а после утверждения описей - чернил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Архивная опись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734920"/>
            <a:ext cx="82296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хивный справочник, содержащий систематизированный перечень единиц хранения, а также предназначенный для их учета и закрепления систематиз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Стрелка вниз 3"/>
          <p:cNvSpPr/>
          <p:nvPr/>
        </p:nvSpPr>
        <p:spPr>
          <a:xfrm>
            <a:off x="3878280" y="1165320"/>
            <a:ext cx="1716120" cy="1679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Описи составляются на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016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ла постоянного хра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ла временного (свыше 10 лет) хра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ела по личному составу и иные однотипные де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дела, состоящие из специфических, характерных только для данной организации, документов (рационализаторские предложения, судебные и следственные дела, научные отчеты по темам и т.п.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ужебные ведомственные изд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Описательная статья описи дел структурного подразделения включает в себя следующие элементы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рядковый номер дела (тома, части) по опис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декс дела (тома, части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головок дела (тома, части), полностью соответствующий его заголовку на обложке де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ты дела (тома, части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личество листов в деле (томе, части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ок хранения дела (свыше 10 лет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меч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3:46:24Z</dcterms:modified>
  <cp:revision>132</cp:revision>
  <dc:subject/>
  <dc:title>Lecture Template </dc:title>
</cp:coreProperties>
</file>