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6-7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Документационное обеспечение – основа технологии управления. Организация службы ДО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Задачи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1286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вершенствование форм и методов работы с документ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единого порядка документирования, организации работы с документами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роения информационно-поисковых систем, контроля исполнения и подготовки документов к передаче в архив в соответствии с действующими норматива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кращение документооборот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нификацию форм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работку и внедрение нормативных и методических документов по совершенствованию документационного обеспечения управления в организации, ее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недрение новейших информационных технологий в работу с документ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40" y="325080"/>
            <a:ext cx="822960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виды работ выполняемые службой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технологическ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рганизационны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методические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онтрольны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технологически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ление первоначальной (экспедиционной) обработки входящ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гистрация входящих, исходящих и внутренних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дение информационно-справочной работы по документам организ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ашинописное изготовление документов (набор текста на компьютере); копирование, тиражирование и оперативное размножение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и проектирование бланков докумен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готовка документов к отправ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организационны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дготовка к докладу руководству поступающих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своевременного рассмотрения документов руководством организац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гулирование хода исполнения документов, прохождения и исполнения документов в установленный срок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хранения документов в структурных подразделениях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ты архива в соответствии с правилами, инструкциями и методическими рекомендациями Рос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ышение квалификации работников делопроизводственной службы и архив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рабочих мест работников делопроизводственной службы, в том числе автоматизированных рабочих мест (АРМ), условий труда сотрудников делопроизводственной служб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по обращениям граждан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а (совместно с соответствующими структурными подразделениями организации) мероприятий по совершенствованию форм и методов работы с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онтрольные функции службы ДОУ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493640"/>
            <a:ext cx="8229600" cy="46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правильностью оформления документов, представляемых на подпись руководству (т. е. исходящих и внутренних документов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троль за сроками исполнения документ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уществление контроля за правильностью оформления и формирования в структурных подразделениях организации дел, подлежащих сдаче в архи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контроля за работой с документами в структурных подразделениях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общение сведений о ходе и результатах исполнения документов, систематическое информирование руководства по этим вопроса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еспечение хранения дел и оперативного использования документной информации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методические функции службы ДОУ: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номенклатуры дел организации, инструкции по делопроизводству, табеля форм документов и других локальных нормативных документов, закрепляющих систему делопроизводства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экспертизы научной и практической ценност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дение совещаний и консультирование по вопросам, относящимся к компетенции делопроизводственной служб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Должностной состав службы ДОУ включает три категории работников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3209400"/>
            <a:ext cx="8229600" cy="29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уководители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ециалисты;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хнические исполнител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К категории руководителей, возглавляющих делопроизводственную службу, относятся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равляющий дел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анцеляр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общи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протокольным отдел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чальник секретариат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экспедицие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центром подготовки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копировально-множительным бюр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ведующий машинописным бюр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категория специалистов: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091880"/>
            <a:ext cx="8229600" cy="50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ументове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щник руководител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 по контролю за исполнением поручен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а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рхеограф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спектор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кретарь коллег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ррек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категория технических исполнителей: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кспедито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лопроизводи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хнический секретар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урьер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ор оргтехни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рхивариус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машин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-стенографистк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кретарь руководите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7BBF-D532-40F3-A48F-636105F531A6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Регламентация деятельности службы ДОУ осуществляется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114280"/>
            <a:ext cx="8229600" cy="40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оложением о службе ДО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олжностными инструкциями работников службы ДОУ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абеле форм докумен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факторы, влияющие на численность работников службы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щая численность работников организации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ем документооборота организации (количество входящей, исходящей и внутренней документации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траты труда на выполнение делопроизводственных работ (рассчитываются по существующим нормативам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744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еречислите действующие нормативные документы, регламентирующие задачи и функции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еречислите задач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Назовите функции службы ДО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Перечислите состав категорий руководителей, возглавляющих службу ДОУ, специалистов, технических исполн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локальные нормативные документы регламентируют деятельность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6.Перечислите основные факторы, влияющие на численность работников службы ДО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C4B5-FA57-43E8-9A87-BE82023418D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ри создании службы делопроизводства должны быть решены следующие вопросы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руктура, функции и задачи делопроизводственной служб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онная форма делопроизвод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лжностной и численный соста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онные требования, предъявляемые к работникам делопроизводственной сфер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служба ДОУ руководствуетс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одательными актам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ормативно-методическими документами по вопросам делопроизводства и архивного дел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казами и распоряжениями руково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струкцией по делопроизводству орг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ожением о служб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лжностными инструкциями ее работник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цель службы ДОУ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существить в полной мере все действия по документационному обеспечению деятельности организации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уководств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оординацию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еализацию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формы организации делопроизводства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централизов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децентрализованная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мешанна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централизация, </a:t>
            </a: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позволяет: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286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низить стоимость делопроизводственных опера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лучшить организацию труда делопроизводственного персонала и, в частности, внедрить его нормирова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специализацию и взаимозаменяемость работ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ть прогрессивные и производительные технические сред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единство организационного и методического руко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Основных положениях ГСДОУ рекомендуется создавать следующие делопроизводственные службы (структуры организаций)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федеральных органах исполнительной власти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ие делам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различных предприятиях: государственных, не государственных, научно-исследовательских, проектных, конструкторских, высших учебных заведениях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тдел документационного обеспечения или канцелярия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рганах местного самоуправления —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общий отдел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Управление делами имеет следующий типовой состав структурных подразделений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055160"/>
            <a:ext cx="822960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спекция при минист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екретариат коллег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кспеди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правительственной переписк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юро учета и регистрац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руппа контроля (бюро, отдел, инспекция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шинописное бюро (компьютерный центр обработки текстов документов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пировально-множительное бюр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писем (отдел по работе с обращениями граждан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центральный архи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дел рационализации делопроизводства (центр совершенствования документации (ДОУ), бюро НОТ или НОУТ, методический сектор и д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3T00:05:28Z</dcterms:modified>
  <cp:revision>133</cp:revision>
  <dc:subject/>
  <dc:title>Lecture Template </dc:title>
</cp:coreProperties>
</file>