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9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Методы и этапы обработки документац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бота с исходящими документами, как инициативными, так и ответными, заключается:</a:t>
            </a:r>
            <a:br>
              <a:rPr sz="28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68120"/>
            <a:ext cx="82296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одготовке проекта докумен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оформлении и согласовании (визировани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достоверен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е из организ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6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Документы, подлежащие отправке, должны обрабатываться в день их поступления в службу ДОУ. </a:t>
            </a:r>
            <a:br>
              <a:rPr sz="2400"/>
            </a:b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этом дополнительно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адресов рассылки на самом документе или на отдельном ли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ряется наличие необходимого числа копий, без учета экземпляра, остающегося в офис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точняется форма отправки корреспонденции: курьерская, телеграфная, электронная, электрографическая (факс), почтовая; в последнем случае важен вид почтового отправления: бандероль, простое, заказное, ценное письм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экспедиционная обработка отправляемых документов включает в себ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2151000"/>
            <a:ext cx="8229600" cy="39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ртировку почты по корреспондента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аковку и оформление почтового от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у корреспонденции в отделение связ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Причины увеличения объемов документов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56920"/>
            <a:ext cx="28368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бъективные причин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552760"/>
            <a:ext cx="272736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лияние научно-технического прогрес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азвитие экономики, расширение и усложнение номенклатуры выпускаемой продук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своение новых районо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троительство новых объектов и, как результат, усложнение процессов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5280" y="763200"/>
            <a:ext cx="404172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Субъективные причин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220560" y="1164960"/>
            <a:ext cx="546588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величение количества проверяющих инстанций, контролирующих орган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щемление и игнорирование законных прав граждан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валифицированное документирование управленческой деятельности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знание или несоблюдение работниками управленческих структур законодательства, нормативных актов, устанавливающих юридические требования к оформлению документ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своевременное, некачественное выполнение заданий, поручений, договорных обязательств или срыв сроков их исполне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у подчиненных организаций или структурных подразделений права решать задачи, входящие в их компетенцию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екомпетентность управленческого персонала в решении производственных, экономических, управленческих задач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тсутствие в аппарате управления регламентации документировани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широкое распространение копировальной техники и ее бесконтрольное использование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начительному увеличению количества документов, т.к. один и тот же документ часто создается и в бумажной, и в электронной фор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подсчете и анализе документооборота необходимо иметь в виду, что:</a:t>
            </a:r>
            <a:br>
              <a:rPr sz="24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ведения об объеме документооборота, как правило, занижены из-за несовершенной методики их сбо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и по себе цифры, обозначающие количество документов, не могут характеризовать эффективность системы документооборота и управления в целом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бору и анализу полученных сведений должна предшествовать постановка задач: с какой целью собираются сведения, какой хронологический период и какая глубина проведения учета необходимы, каково будет их дальнейшее использова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птимизация системы документооборота основывается на положениях, выработанных, как правило, практикой делопроизводства и научной организацией труда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м возвратного движ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ократность пребывания документа в одном структурном подразделении или у одного исполнител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астие той или иной инстанции должно быть строго обусловлено необходимостью обработки документа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личные операции должны выполняться параллельно для сокращения времени движения документов и повышения оперативности их исполнения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тно-информационные сведения о ходе движения и исполнения документов, результат контроля и др. следует передавать в службу делопроизводства с помощью регистрационных карточек, электронных сообщений, бездокументными способами (устно, по телефону), исключая возвратное движение самих докумен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Документооборот. Определение, характеристика основных документопото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равила организации документооборота учрежд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Правила приёма и обработки поступающей корреспонденции, их влияние на организацию движения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Направление документов на исполн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Основные направления совершенствования документооборо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29CD5-A8E2-4A42-8307-6C8433BE587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0978-833E-4661-98DF-5E2E9B092B2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Технологическая цепочка движения и обработки документов состоит из ряда этапов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ема и первичной обработк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варительного рассмотрения и распреде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гистрации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правления на исполнение и исполн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формления и удостоверения докумен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пра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документообороте, или порядке движения документов в организации, выделяется несколько этапов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спедиционная обработка документов, поступающих в организацию, и фиксация самого факта их поступле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рассмотрение документов службой ДО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рганизация движения документов внутри организации, включая доведение документов до исполнителей и придание юридической силы проектам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работка исполненных и отправляемых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вскрытии корреспонденции упаковка (конверты) уничтожаются, исключения делаются только в следующих случаях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полученных документах нет обратного адреса и фамилии отправителя, но они есть на упаковк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в документе не проставлена дата и ее приходится устанавливать по почтовому штемпел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полученный документ по смыслу носит личный характер, а на упаковке (конверте) грифа «Лично» не был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желании взыскать с корреспондента доплату почтовому ведомств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На поступающих документах проставляется отметка (штампом или от руки), включающая </a:t>
            </a: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369880"/>
            <a:ext cx="8229600" cy="37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именование организаци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а поступл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рядковый учетный номер докумен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еобходимости количество листов и подпись сотрудник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При диспетчеризации поступивших документов учитываются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ажность содерж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 документа: закон, распоряжение, письмо, отчет и т.д.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ложность и новизна поставленных вопрос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рство,   т. е.   общественное   положение   лица  -   автора документа,   место учреждения-отправителя в структуре управления, роль общественной организации в жизни обще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альная срочность исполнения докумен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Эффективную помощь при предварительном рассмотрении корреспонденции оказывают внутренние справочные материалы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223720"/>
            <a:ext cx="822960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мерный перечень документов, требующих обязательного рассмотрения руководств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чень должностных лиц и их обязанност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хнологические графические схемы последовательности экспедиционной обработки и распределения различных поступающих документов и т.д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При рассмотрение корреспонденции руководителем обычно применяется следующая технология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окументы передаются руководителем и посетителями по его просьбе секретар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кретари руководителей по мере поступления к ним документов от руководителей заполняют специальную информационную форму (лист, карточку, экранный формат), в которую вносят сведения о номере и дате документа, содержании резолюции, сроке исполнения и исполнителе (подразделении), которому передают документ на исполн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конце рабочего дня информационные листы секретарей всех руководителей поступают в службу документационного обеспечения, и на их основании дополняются сведения в информационно-поисковой системе организации. Такая технология в делопроизводственной практике получила название «переметка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3:07:47Z</dcterms:modified>
  <cp:revision>138</cp:revision>
  <dc:subject/>
  <dc:title>Lecture Template </dc:title>
</cp:coreProperties>
</file>