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определении сроков хранения документов могут использоваться несколько видов типовых перечней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типовых управленческих документов, образующихся в деятельности организаций, с указанием сроков хра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кументов, подлежащих приему в государственные архив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научно-технической документации, подлежащей приему в государственные архив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Что такое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Для чего предназначена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Что включается в номенклатуру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Кем составляется номенклатура дел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Что в делопроизводстве подразумевается под термином "дело"?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з каких элементов должен состоять заголовок дел?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ялова Л.М. Номенклатура дел. Порядок составления // Справочник секретаря и офис-менеджера. 2002. № 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.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0B69-1B48-4C05-B673-C6807AF2469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D71C-B290-4D7C-9D8A-E6A4AF35500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Номенклатура дел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то утвержденный систематизированный перечень заголовков дел, заводимых в организации, с указанием сроков их хранения в установленном порядк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147840" y="1201680"/>
            <a:ext cx="2738520" cy="1460520"/>
          </a:xfrm>
          <a:prstGeom prst="downArrow">
            <a:avLst>
              <a:gd name="adj1" fmla="val 50000"/>
              <a:gd name="adj2" fmla="val 57056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оменклатура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274760"/>
            <a:ext cx="8229600" cy="48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классификацию, группировку исполненных документов в д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репляет систематизацию и индексацию дел, сроки их хран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лужит основным учетным документом в текущей работе с документам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является единственным средством учета переходящих дел, т. е. дел, наполнение документами которых продолжается несколько ле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ановится учетно-справочной системой для последующего поиска дел со сроками хранения до 10 лет включит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ункции номенклатуры дел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01320"/>
            <a:ext cx="8229600" cy="540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как схема классификации при распределении и группировке исполненных документов в дела. Заголовки дел из номенклатуры переносятся на обложки де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предварительно определяет сроки хранения документов, что является первым этапом экспертизы ценности докумен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используется при построении информационно-поисковой системы по документам предприятия. Классификационная схема номенклатуры может быть использована для формирования справочной картотеки на исполненные документы. При регистрации документов в регистрационный индекс часто включают индекс дела по номенк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дел служит учетным документом при сдаче в архив дел со сроками хранения до 10 лет включительно. Она также является основой для составления описей на дела со сроками хранения свыше 10 лет и постоянно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а имеет справочное значение при изучении структуры учреждения, организации, предприят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Виды номенклатуры дел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013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ипов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ражает документы определенной категории учреждений с однотипным характером деятельности и составом документации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римерная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вляется рекомендательной и создается в тех управленческих структурах, где состав документов подразделений (филиалов, цехов, кафедр) сильно различается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ндивидуальная  (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то систематизированный перечень конкретных заголовков дел, намеченных к заведению в делопроизводстве одной организации или ее структурного подразделения в определенном календарном году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Основой</a:t>
            </a:r>
            <a:r>
              <a:rPr b="1" i="1" lang="ru-RU" sz="28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для составления номенклатуры являются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в (положение) организации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ложения о структурных подразделениях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лассификаторы участков деятельности и кодификаторы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татные расписания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ы и отчеты о работе организации и ее структурных подразделений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оменклатуры организации за прошлые годы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иси дел постоянного хранения, временного хранения и по личному составу, акты о выделении документов и дел к уничтожению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иповые и примерные номенклатуры дел данной системы (при их наличии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шения Государственной архивной службы России и территориальных архивных органов об изменении сроков хранения тех или иных категорий документ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Разделы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28240"/>
            <a:ext cx="8229600" cy="52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качестве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ервой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фы номенклатуры указывают наименования структурных подразделений (отделов), их индексы (номера) включаются в номенклатуру и, дополненные порядковым номером дела в пределах подразделения, составляют индекс дел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втор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указываются полные заголовки де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Треть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заполняется в конце года. Каждое дело не должно превышать 250 листов, поэтому при большом объеме документов, относящихся к одному делу, допускается формирование томов, час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четверт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е номенклатуры проставляются сроки хранения дел, определенные экспертной комисси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Пятая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рафа номенклатуры дел «Примечание» заполняется в течение срока действия номенклатуры службой ДОУ, в ней проставляются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тметки о заведении дел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веден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»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ходящих делах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ходящее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 2001 г.» или «переходящее на 2003 г.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другую организацию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кт выдачи во временное пользова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от_№_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местонахождении подлинников документо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длинники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деле 01-02»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передаче дел в ведомственный архив - «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реданы в архив по опис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07.03.2002» и т.п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Срок действия номенклатуры дел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092240"/>
            <a:ext cx="822960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вержденная номенклатура дел организации вводится в действие с начала следующего делопроизводственного года и действует в течение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ет. Она подлежит внеплановому пересоставлению и переутверждению лишь в случаях коренного изменения функций и структуры организации (или ее структурного подразделения). При отсутствии таких изменений номенклатуру дел в конце каждого года уточняют, при необходимости корректируют и автоматически вводят в действие автоматичес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3:06:18Z</dcterms:modified>
  <cp:revision>137</cp:revision>
  <dc:subject/>
  <dc:title>Lecture Template </dc:title>
</cp:coreProperties>
</file>