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2333520"/>
            <a:ext cx="849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Лекция 4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ановление и развитие делопроизводства в советских государственных учреждениях (1917-1950-е годы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Рационализация делопроизводства основывалась: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сокращении инстанций прохождения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дрении однократной регистрации документ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делении нерегистрируемых документов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аботке и внедрении трафаретных фор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Бюро стандартизации при ВСНХ СССР занималось: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85868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ей документооборота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абатывала формы документов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чатало бланки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готавливало канцелярскую мебе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1925 г. создание Акционерного общества — Государственного бюро организационного строительства (Оргстрой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чи Оргстроя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еорганизации и постановки в учреждениях и на предприятиях делопроизводства и архив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зработки проектов организационных структур учреждений и их подразделен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бланков и форм документо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здания инструкций и руководств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набжения учреждений и предприятий усовершен­ствованным канцелярским оборудованием, мебелью, пишущими и счетными машина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и курсов по подготовке практических работников— делопроизводителей и др.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нформирования широких слоев работников управ­ления и производства о новейших теоретических достижениях, рационализации, о новинках конструк­торских и технических разработок в сфере управле­н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1926 г. – Создание государственного института техники управления (ИТУ).</a:t>
            </a:r>
            <a:br>
              <a:rPr sz="2800"/>
            </a:b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Задачи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ая разработка вопросов техники управ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и обобщение работы в советских учреждениях по упрощению и механизации вопросов техники управления и организации работы с документам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уществление консультационной и популяризаторской деятельности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ы обследования делопроизводства, предложенные ИТУ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посредственное наблюд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 (интервьюирование)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кетир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тографи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фотография рабочего дня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ронометраж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8800"/>
            <a:ext cx="822960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98520"/>
            <a:ext cx="8229600" cy="61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928 г.- ИТУ совместно с Центрархивом РСФСР подготовил «Правила постановки архивной части дело­производства в государственных, профессиональных и кооперативных учреждениях и предприятиях РСФСР», в которых давались рекомендации по составлению перечней документов и дел, циркулирующих в учреждениях, и правила их уничтожения (для документов с истекшими сроками хранения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1931 году издан проект «Общих правил документации и документооборота». В Общие правила вошли требования к оформлению документов, правила их обработки от получения до передачи в архив, единые принципы организации делопроизводственных служб, их функции, должностные обязанности канцелярских работни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"</a:t>
            </a:r>
            <a:r>
              <a:rPr b="1" lang="ru-RU" sz="1400" spc="-1" strike="noStrike">
                <a:solidFill>
                  <a:srgbClr val="ffcc00"/>
                </a:solidFill>
                <a:latin typeface="Arial"/>
              </a:rPr>
              <a:t>Общие правила …" содержали следующие разделы –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рганизация документации и документооборо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секретариат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бязанности конторско-секретарского персонала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приема корреспонденц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Прием, проверка, вскрытие и отметки о получении корреспонденции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Разноска корреспонденции в учреждении"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"Организация отправки корреспонденции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нституция 1936 г. 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- законодательно закреплены виды документов, издаваемые конкретными органами власти и управления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сший законодательный орган — Верховный Совет СССР — издавал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зако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зидиум Верховного Совета СССР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казы и постановл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родные комиссары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 Местные Советы депутатов трудящихся и их исполкомы принимали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решения и распоряж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чальники управлений и отделов исполкомов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 и инструкци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уководители организаций, учреждений и предприятий, действующих на основе единоначалия, —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риказ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юнь 1941 г. - 1 Межотраслевое совещании по оргтехнике.</a:t>
            </a:r>
            <a:br>
              <a:rPr sz="3200"/>
            </a:b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рограмма совещания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32120"/>
            <a:ext cx="82296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организационно-методического центра для руководства постановкой делопроизвод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(статуса) о делопроизводстве для всех в качестве общеобязательных нор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зработку положения о кадрах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ханизацию труда канцелярских работник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нификацию и трафаретизацию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единого учебного центра для подготовки и переподготовки кадр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в школах правил составления служебных документов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готовку и переподготовку преподавателей кадров по служебной документаци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Всесоюзного института по вопросам делопроизводст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В 1940-е гг. методическое руководство и контроль за организацией делопроизводства в советских учреждениях  осуществляет -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Главное архивное управление</a:t>
            </a: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43 г.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проек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лавного архивного управления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«Инструкции по постановке документальной части и охране документальных материалов в текущем делопроизводстве учреждений, организаций и предприятий СССР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Инструкция включала треб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оформлению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х учету (регистрации)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рядок исполнения и контроля исполнения документов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(классификацию и систематизацию) документов в делопроизводстве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ю архива и правила сдачи документов в архив учрежд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зовите первые декреты советской вла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государственных учреждений в России после событий октября 191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ыт рационализации делопроизводства в отдельных ведомствах во второй половин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I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начале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новление НОТ и её влияние на делопроизводство 1920-1930-х г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 органов рабоче-крестьянской инспекции по рационализации делопроизводства. Институт техники управления, его научно-методическая и практическая деятель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C0E3A-A673-4715-B786-7CBDDBDDE00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ирсанова М.В., Аксенов Ю.М. Курс делопроизводства: Документационное обеспечение управления. – М.-Новосибирск. 2007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кова А.Н. Пути воздействия государства на работу с документами в негосударственной сфере экономики // Делопроизводство. 2002. № 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0DCF-167D-4144-8E9B-580382A8E1F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труктура государственного аппарата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895400"/>
            <a:ext cx="8229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сшим органом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государственной власти стал Всероссийский съезд Советов, в период между его съездами избирался Всероссийский Центральный Исполнительный комитет (ВЦИК) - орган, выполняющий функции законодательной и исполнительной вла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управления страной было сформировано правительство - Совет Народных Комисса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руководства отраслями государственного управления были созданы 13 Народных комиссариатов (наркоматов), органами государственной власти на местах — губернские и уездные Советы, а органами государственного управления — их исполнительные комитеты (исполкомы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авовые акты советского периода: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порядке утверждения и опубликования законов» от 30 октября 1917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«О форме бланков государственных учреждений» от 02 марта 191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СНК «О времени вступления в силу Узаконений и распоряжений правительства» от 18 ноября 1918 г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ановление Совета Рабочей и Крестьянской Обороны «О точном и быстром исполнении распоряжений центральной власти и устранении канцелярской волокиты» от 08 декабря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ект декрета «Об упрощении делопроиз­водства и переписки в советских учреждениях», подготовленный в декабре 1918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ВЦИК  «О порядке пользования печатями с государственным гербом» от 06 июля1922 г.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крет «Об изменении постановления о праве пользования печатями с государственным гербом» от 192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Начало 1920-х гг. - время развития движения за научную организацию труда (НОТ), частью которого стала научная организация </a:t>
            </a:r>
            <a:r>
              <a:rPr b="0" i="1" lang="ru-RU" sz="2800" spc="-1" strike="noStrike">
                <a:solidFill>
                  <a:srgbClr val="ffc000"/>
                </a:solidFill>
                <a:latin typeface="Arial"/>
              </a:rPr>
              <a:t>управленческого </a:t>
            </a: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труда (НОУТ)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2552760"/>
            <a:ext cx="82296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вижение предполагало создать условия, при которых организация производства и управления будет построена на рациональных началах и научных рекомендация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1920-1930-е годы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издание многочисленных журналов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управл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просы организации и упра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стема и организ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рем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труд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 д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1920-1930- е год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Arial"/>
              </a:rPr>
              <a:t>издание литературы по вопросам делопроизводства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Борзенко Б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овое в организации канцелярии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ызов Л. 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ути рационализации учреждений: Методологические очерки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асильев М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следование и реорганизация предприятий и учреждений. М., 1925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ерховской П.В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елопроизводство госучреждений. М.; Л., 1929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Голубев С.Н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труктура и документация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резен З.К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новы оперативного делопроизвод­ства. М., 1923;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айзельс Р. С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делопроизводства и канцелярия. М., 1923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йльман В.И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о по делопроизводству учреждений и предприятий. М., 1930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Нефедов Г.А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анцелярское дело. М.; Л., 192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XII съезда РКП (б) - создание объединенного партийно-советского органа ЦККРКИ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ЦККР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ал государственный аппарат с использованием хронометража, анкетир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сультировал по улучшению деятельности органов управления на мест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азывал методическую помощ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Arial"/>
              </a:rPr>
              <a:t>Благодаря деятельности РКИ в стране в 1920 годы сложилась система научно-исследовательских, хозрасчетных, ведомственных и общественных организаций, разрабатывающих вопросы научной организации управления на единой методической основе.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66720"/>
            <a:ext cx="8229600" cy="50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 создано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Управление по улучшению госаппарата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торое осуществляло руководство движением НОТ в стране. Координация работы по НОТ была возложена на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Совет по научной организации труда (Совнот),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ный при коллегии НК РКИ в 1923г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ль методического центра по руководству рационализацией делопроизводства выполнял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Отдел административной техники (АТО при НК РКИ СССР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), в деятельности которого наметились два направл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работка и внедрение в практику после опытных проверок типовых систем делопроизводства, пред­назначенных для определенного типа учреждений. Особое внимание уделялось введению карточной регистрации документов, контролю их исполнения, организации справочной работы, текущего хра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здание постоянных органов рационализации в различных учреждениях. Они были созданы на многих предприятиях и практически во всех крупных учреждениях в виде бюро (сектора, ячейки и др.) НОТ. Их обобщенное название —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ведомственные органы рационализации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Такие структуры занимались разработкой и внедрением рациональных систем управления для "своих" наркоматов как в центральных аппаратах, так и в подведомственных учреждения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и созданы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и вневедомственные рационализаторские структуры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, занимавшиеся вопросами управления: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Клуб работников административного дела, Объединение работников учета, Ассоциация работников управленческого дела и др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Они создавались как общественные организации, но объединяли профессионалов, которые обладали опытом практической работы и могли предложить достаточно рациональные меры по совершенствованию того или иного участка рабо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стране начинают действовать </a:t>
            </a:r>
            <a:r>
              <a:rPr b="0" lang="ru-RU" sz="1200" spc="-1" strike="noStrike">
                <a:solidFill>
                  <a:srgbClr val="ffc000"/>
                </a:solidFill>
                <a:latin typeface="Arial"/>
              </a:rPr>
              <a:t>научные учреждения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 В 1921 г. создается Таганрогский институт научной организации производства, затем Казанский институт научной организации труда (КИНОТ). Научно-практические разработки этих институтов в области управления, производства и делопроизводства способствовали оптимизации работы советских учрежден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7T05:30:36Z</dcterms:modified>
  <cp:revision>145</cp:revision>
  <dc:subject/>
  <dc:title>Lecture Template </dc:title>
</cp:coreProperties>
</file>