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одготовка и передача дел в архив орг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составлении описи дел структурного подразделения соблюдаются следующие требовани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 дел вносятся в опись в соответствии с принятой схемой систематизации на основе номенклатуры де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ое дело вносится в опись под самостоятельным порядковым номером (если дело состоит из нескольких томов или частей, то каждый том или часть вносятся в опись под самостоятельным номером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рядок нумерации дел в описи - валовый за несколько лет; порядок присвоения номеров описям структурных подразделений устанавливается по согласованию с архиво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описи заполняются в точном соответствии с теми сведениями, которые вынесены на обложку де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несении в опись подряд дел с одинаковыми заголовками пишется полностью заголовок первого дела, а все остальные однородные дела обозначаются словами "То же", при этом другие сведения о делах вносятся в опись полностью (на каждом новом листе описи заголовок воспроизводится полностью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а описи "Примечания" используется для отметок о приеме дел, особенностях их физического состояния, о передаче дел другим структурным подразделениям со ссылкой на необходимый акт, о наличии копий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головки  дел по личному составу систематизируются в следующем порядке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азы (распоряжения) по личному соста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ски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 по учету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дела уволившихся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вые счета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остребованные трудовые книж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ы о несчаст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остав комплекса работ, проводимых службой делопроизводства при сдаче в архив документов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ел при подготовке их к сдаче в арх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окументов в 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авила составления описей дел постоянного и временного хра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99C4-6333-4B3E-8C3F-69FE08B416A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1782-0449-4A68-BD4E-7B43CAEFAA7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ла постоянного или долговременного хранения, а также конфиденциальные и по личному составу должны быть полностью оформлены с выполнением всех названных правил. Основные задачи, которые ставятся при этом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возможное обеспечение прочности и гибкости переплета, позволяют при необходимости скопировать документы, не вынимая их из подшивки, или изъятие одного или нескольких листов из подшитого дела на время, например для реставрации, а может быть и безвозвратно, в случае его переформирования, без нанесения повреждений другим листам д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учета количества листов в каждом деле и возможности проверки полноты дела после каждого обращения к н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справочного аппарата к документам, включенным в одну единицу хранения для быстроты поиска и нанесения при этом документам минимального ущерба при перелисты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формление дел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92280"/>
            <a:ext cx="8229600" cy="27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подготовка дела к хранению в соответствии с установленными правил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трелка вниз 3"/>
          <p:cNvSpPr/>
          <p:nvPr/>
        </p:nvSpPr>
        <p:spPr>
          <a:xfrm>
            <a:off x="3841920" y="1311120"/>
            <a:ext cx="1752480" cy="18622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лное оформление документов предусматривае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шивку или переплет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ю листов в де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листа-завер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, в необходимых случаях, внутренней опис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необходимых уточнений в реквизиты обложки дела (уточнение названия организации, регистрационного индекса дела, заголовка дела, крайних да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ложка дела постоянного, временного (свыше 10 лет) хранения и по личному составу имеет форму, установ­ленную государственным стандартом ГОСТ 17914-72 "Обложки дел длительного хранения. Типы, размеры, технические требования"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организации и ее подчиненность на период создания документов, включенных в дел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структурного подразделения или направления деятельности в зависимости от структуры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енный индекс дела по номенклатуре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р дела по годовому разделу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ловок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ли крайние даты первого и последнего по датам документов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листов в де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 хранения дела или запись «Хранить постоянн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вный шифр дела, сначала карандашом, а после утверждения описей - черни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Архивная опис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вный справочник, содержащий систематизированный перечень единиц хранения, а также предназначенный для их учета и закрепления системат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низ 3"/>
          <p:cNvSpPr/>
          <p:nvPr/>
        </p:nvSpPr>
        <p:spPr>
          <a:xfrm>
            <a:off x="3878280" y="1165320"/>
            <a:ext cx="1716120" cy="1679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иси составляются на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16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стоянного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временного (свыше 10 лет)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 личному составу и иные однотип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дела, состоящие из специфических, характерных только для данной организации, документов (рационализаторские предложения, судебные и следственные дела, научные отчеты по темам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ебные ведомственные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писательная статья описи дел структурного подразделения включает в себя следующие элемент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й номер дела (тома, части) по опис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ловок дела (тома, части), полностью соответствующий его заголовку на обложк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ы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листов в деле (томе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 хранения дела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ч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46:24Z</dcterms:modified>
  <cp:revision>132</cp:revision>
  <dc:subject/>
  <dc:title>Lecture Template </dc:title>
</cp:coreProperties>
</file>