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9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Прямоугольник 4"/>
          <p:cNvSpPr/>
          <p:nvPr/>
        </p:nvSpPr>
        <p:spPr>
          <a:xfrm>
            <a:off x="738360" y="3105000"/>
            <a:ext cx="7995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Методы и этапы обработки документац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Работа с исходящими документами, как инициативными, так и ответными, заключается:</a:t>
            </a:r>
            <a:br>
              <a:rPr sz="28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968120"/>
            <a:ext cx="82296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одготовке проекта докумен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го оформлении и согласовании (визировании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достоверен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гистрац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правке из организ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Документы, подлежащие отправке, должны обрабатываться в день их поступления в службу ДОУ. </a:t>
            </a:r>
            <a:br>
              <a:rPr sz="2400"/>
            </a:b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При этом дополнительно: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114280"/>
            <a:ext cx="8229600" cy="40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веряется наличие адресов рассылки на самом документе или на отдельном лист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веряется наличие необходимого числа копий, без учета экземпляра, остающегося в офис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точняется форма отправки корреспонденции: курьерская, телеграфная, электронная, электрографическая (факс), почтовая; в последнем случае важен вид почтового отправления: бандероль, простое, заказное, ценное письм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экспедиционная обработка отправляемых документов включает в себя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151000"/>
            <a:ext cx="822960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ртировку почты по корреспондента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паковку и оформление почтового отправл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дачу корреспонденции в отделение связ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Arial"/>
              </a:rPr>
              <a:t>Причины увеличения объемов документов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56920"/>
            <a:ext cx="28368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Объективные причины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552760"/>
            <a:ext cx="2727360" cy="35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лияние научно-технического прогресс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звитие экономики, расширение и усложнение номенклатуры выпускаемой продук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своение новых район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роительство новых объектов и, как результат, усложнение процессов управл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5280" y="763200"/>
            <a:ext cx="404172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Субъективные причин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20560" y="1164960"/>
            <a:ext cx="5465880" cy="56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величение количества проверяющих инстанций, контролирующих органо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щемление и игнорирование законных прав граждан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квалифицированное документирование управленческой деятельност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знание или несоблюдение работниками управленческих структур законодательства, нормативных актов, устанавливающих юридические требования к оформлению документо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своевременное, некачественное выполнение заданий, поручений, договорных обязательств или срыв сроков их исполне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сутствие у подчиненных организаций или структурных подразделений права решать задачи, входящие в их компетенцию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компетентность управленческого персонала в решении производственных, экономических, управленческих задач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сутствие в аппарате управления регламентации документирова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широкое распространение копировальной техники и ее бесконтрольное использование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начительному увеличению количества документов, т.к. один и тот же документ часто создается и в бумажной, и в электронной форм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При подсчете и анализе документооборота необходимо иметь в виду, что:</a:t>
            </a:r>
            <a:br>
              <a:rPr sz="24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едения об объеме документооборота, как правило, занижены из-за несовершенной методики их сбо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и по себе цифры, обозначающие количество документов, не могут характеризовать эффективность системы документооборота и управления в целом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бору и анализу полученных сведений должна предшествовать постановка задач: с какой целью собираются сведения, какой хронологический период и какая глубина проведения учета необходимы, каково будет их дальнейшее использова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Оптимизация системы документооборота основывается на положениях, выработанных, как правило, практикой делопроизводства и научной организацией труда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ключением возвратного движения документов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днократность пребывания документа в одном структурном подразделении или у одного исполнител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астие той или иной инстанции должно быть строго обусловлено необходимостью обработки документа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личные операции должны выполняться параллельно для сокращения времени движения документов и повышения оперативности их исполнен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етно-информационные сведения о ходе движения и исполнения документов, результат контроля и др. следует передавать в службу делопроизводства с помощью регистрационных карточек, электронных сообщений, бездокументными способами (устно, по телефону), исключая возвратное движение самих докумен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Документооборот. Определение, характеристика основных документопоток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Правила организации документооборота учреж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Правила приёма и обработки поступающей корреспонденции, их влияние на организацию движения докум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Направление документов на исполн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Основные направления совершенствования документооборо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64960"/>
            <a:ext cx="8229600" cy="56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 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елов А.А., Белов А.Н. Делопроизводство и документооборот. – М.: Кн. мир: 2008.– 34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ирсанова М.В. Курс делопроизводства : Документационное обеспечение управления / М. В. Кирсанова, Ю. М. Аксенов ; Новосиб. гос. ун-т экономики и управления, Администрация Президента РФ, Сиб. акад. гос. службы. - 6-е изд.,испр. и доп. - М. ; Новосибирск : ИНФРА-М : Сиб. соглашение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367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узнецов И. Н.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лопроизводств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: учебно-справочное пособие / И. Н. Кузнецов. - 3-е изд., перераб. и доп. - М. : Дашков и К*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52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огожин М.Ю. Делопроизводство / М. Ю. Рогожин. - М. : ИндексМедиа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24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7.    Организация работы с документами. Учебник для вузов. Под ред. В.А. Кудряева. – М., 200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8.     ГОСТ Р51141-98 Делопроизводство и архивное дело: Термины и определения.– М.: Издательство стандартов, 1998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5868-6E93-4622-A50D-CDE1F372A7AD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3EFC-5255-4D25-9A82-680B8D8468D1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Технологическая цепочка движения и обработки документов состоит из ряда этапов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ема и первичной обработ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варительного рассмотрения и распредел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гистрации докумен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равления на исполнение и исполнения докумен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формления и удостоверения докумен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прав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В документообороте, или порядке движения документов в организации, выделяется несколько этапов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кспедиционная обработка документов, поступающих в организацию, и фиксация самого факта их поступл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варительное рассмотрение документов службой ДО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рганизация движения документов внутри организации, включая доведение документов до исполнителей и придание юридической силы проектам докум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работка исполненных и отправляемых докумен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При вскрытии корреспонденции упаковка (конверты) уничтожаются, исключения делаются только в следующих случаях: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в полученных документах нет обратного адреса и фамилии отправителя, но они есть на упаковк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в документе не проставлена дата и ее приходится устанавливать по почтовому штемпел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полученный документ по смыслу носит личный характер, а на упаковке (конверте) грифа «Лично» не был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желании взыскать с корреспондента доплату почтовому ведомств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8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На поступающих документах проставляется отметка (штампом или от руки), включающая </a:t>
            </a: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369880"/>
            <a:ext cx="8229600" cy="37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именование организаци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та поступлени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рядковый учетный номер докумен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необходимости количество листов и подпись сотрудник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При диспетчеризации поступивших документов учитываются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ажность содерж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д документа: закон, распоряжение, письмо, отчет и т.д.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ожность и новизна поставленных вопрос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вторство,   т. е.   общественное   положение   лица  -   автора документа,   место учреждения-отправителя в структуре управления, роль общественной организации в жизни обще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альная срочность исполнения докумен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Эффективную помощь при предварительном рассмотрении корреспонденции оказывают внутренние справочные материалы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223720"/>
            <a:ext cx="82296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мерный перечень документов, требующих обязательного рассмотрения руководств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ень должностных лиц и их обязанност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хнологические графические схемы последовательности экспедиционной обработки и распределения различных поступающих документов и т.д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При рассмотрение корреспонденции руководителем обычно применяется следующая технология: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кументы передаются руководителем и посетителями по его просьбе секретар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кретари руководителей по мере поступления к ним документов от руководителей заполняют специальную информационную форму (лист, карточку, экранный формат), в которую вносят сведения о номере и дате документа, содержании резолюции, сроке исполнения и исполнителе (подразделении), которому передают документ на исполне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конце рабочего дня информационные листы секретарей всех руководителей поступают в службу документационного обеспечения, и на их основании дополняются сведения в информационно-поисковой системе организации. Такая технология в делопроизводственной практике получила название «переметка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3T03:07:47Z</dcterms:modified>
  <cp:revision>138</cp:revision>
  <dc:subject/>
  <dc:title>Lecture Template </dc:title>
</cp:coreProperties>
</file>