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3741"/>
            </a:gs>
            <a:gs pos="100000">
              <a:srgbClr val="230fa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3" descr="Untitled-1"/>
          <p:cNvPicPr/>
          <p:nvPr/>
        </p:nvPicPr>
        <p:blipFill>
          <a:blip r:embed="rId2"/>
          <a:stretch/>
        </p:blipFill>
        <p:spPr>
          <a:xfrm>
            <a:off x="7940520" y="6381720"/>
            <a:ext cx="879480" cy="414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"/>
          <p:cNvSpPr/>
          <p:nvPr/>
        </p:nvSpPr>
        <p:spPr>
          <a:xfrm>
            <a:off x="324000" y="2333520"/>
            <a:ext cx="8496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Arial"/>
              </a:rPr>
              <a:t>Лекция 11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ffcc00"/>
                </a:solidFill>
                <a:latin typeface="Arial"/>
              </a:rPr>
              <a:t>Контроль за сроками исполнения документов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Text Box 8"/>
          <p:cNvSpPr/>
          <p:nvPr/>
        </p:nvSpPr>
        <p:spPr>
          <a:xfrm>
            <a:off x="324000" y="549360"/>
            <a:ext cx="84960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афедр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ПД Институт права и управл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ссистент С.С.Никифоров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9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Arial"/>
              </a:rPr>
              <a:t>Проверка хода исполнения  документов осуществляется обычно в следующие сроки: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2296800"/>
            <a:ext cx="8229600" cy="43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адания последующих лет - не реже одного раза в год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адания последующих месяцев текущего года - не реже одного раза в месяц;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адания текущего месяца - каждые 10 дней и за 5 дней до истечения срока исполнени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Arial"/>
              </a:rPr>
              <a:t>Этапы снятия документов с контроля: 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27440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нятие руководителем решения о снятии документа с контроля и передача распоряжения об этом службе ДОУ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становки отметки об исполнении в РКК (регистрационно-контрольную карточку) и на документе информирования контрольной службы организации об исполнении документа, находящегося на централизованном контроле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ерестановка РКК из контрольной картотеки (раздела) в справочную карточку (раздел)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дшивка документа, имеющего отметку об исполнении, в дело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Arial"/>
              </a:rPr>
              <a:t>Причины  неисполнения документов в срок: 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347840"/>
            <a:ext cx="8229600" cy="53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лишком высокая степень централизации полномочий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ерегрузка исполнителей и руководителей разного уровня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едисциплинированность сотрудников и подведомственных организаций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едостаточные сроки для качественного исполнения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ерациональная система документооборот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едостаток технических средств оформления и тиражирования документов и др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Arial"/>
              </a:rPr>
              <a:t>Вопросы для самопроверки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12520"/>
            <a:ext cx="8229600" cy="441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71640" indent="-514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еречислите основные задачи, решаемые в процессе контроля сроков исполнения документов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514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то осуществляет контроль сроков исполнения документов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514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зовите уровни, на которых ведется контроль сроков исполнения документов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514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еречислите технологии контрольных операций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514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нятие документов с контрол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514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бобщение, анализ и использование данных об исполнении документ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Arial"/>
              </a:rPr>
              <a:t>Рекомендуемая литература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164960"/>
            <a:ext cx="8229600" cy="56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.  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Делопроизводство (Организация и технологии документационного обеспечения управления): Учебник для студ. вузов / Т.В. Кузнецова, Л.В. Санкина, Т.А. Быкова и др.; Под ред. Т.В. Кузнецовой.—М.: ЮНИТИ-ДАНА: 2007.—359с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2.    Делопроизводство: Учебник для студ. вузов, обуч. по спец. 350800 «Документоведение и докум. обеспечение управления» / Г.Ю. Максимович, Т.А. Быкова, Л.М. Вялова, Л.В. Санкина; Под ред. Т.В. Кузнецовой. – М.: Изд-во МЦФЭР: 2008. – 544с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buClr>
                <a:srgbClr val="ffffff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Белов А.А., Белов А.Н. Делопроизводство и документооборот. – М.: Кн. мир: 2008.– 340 с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buClr>
                <a:srgbClr val="ffffff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Кирсанова М.В. Курс делопроизводства : Документационное обеспечение управления / М. В. Кирсанова, Ю. М. Аксенов ; Новосиб. гос. ун-т экономики и управления, Администрация Президента РФ, Сиб. акад. гос. службы. - 6-е изд.,испр. и доп. - М. ; Новосибирск : ИНФРА-М : Сиб. соглашение,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2008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. - 367 с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buClr>
                <a:srgbClr val="ffffff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Кузнецов И. Н. Делопроизводство: учебно-справочное пособие / И. Н. Кузнецов. - 3-е изд., перераб. и доп. - М. : Дашков и К*,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2007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. - 520 с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buClr>
                <a:srgbClr val="ffffff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Рогожин М.Ю. Делопроизводство / М. Ю. Рогожин. - М. : ИндексМедиа, 2007. - 240 с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Организация работы с документами. Учебник для вузов. Под ред. В.А. Кудряева. – М., 200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8.    Спивак В.А. Делопроизводство. – СПб.: Питер: 2008. – 208 с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9.    Стенюков М.В. Делопроизводство: Конспект лекций. – М.: ПРИОР: 2008. – 127 с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10.  Стенюков М.В. Документы. Делопроизводство. Практическое по­собие. – М., 200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11.   Хрестоматия по документоведению. В 3-х частях.  Ч. 3 Сост. Н.А. Царева. Владивосток: изд-во ВГУЭС, 2005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12.   ГОСТ Р51141-98 Делопроизводство и архивное дело: Термины и определения.– М.: Издательство стандартов, 1998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3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86B21-93EA-4A2E-A043-F4D4957A6611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Text Box 4"/>
          <p:cNvSpPr/>
          <p:nvPr/>
        </p:nvSpPr>
        <p:spPr>
          <a:xfrm>
            <a:off x="324000" y="3860640"/>
            <a:ext cx="849600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Использование материалов презентац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спользование данной презентации, может осуществляться только при условии соблюдения требований законов  РФ об авторском праве и интеллектуальной собственности, а также с учетом требований настоящего Заявления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езентация является собственностью авторов. Разрешается распечатывать копию любой части презентации для личного некоммерческого использования, однако не допускается распечатывать какую-либо часть презентации с любой иной целью или по каким-либо причинам вносить изменения в любую часть презентации. Использование любой части презентации в другом произведении, как в печатной, электронной, так и иной форме, а также использование любой части презентации в другой презентации посредством ссылки или иным образом допускается только после получения письменного согласия авторов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Rectangle 5"/>
          <p:cNvSpPr/>
          <p:nvPr/>
        </p:nvSpPr>
        <p:spPr>
          <a:xfrm>
            <a:off x="324000" y="10540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Text Box 3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Arial"/>
              </a:rPr>
              <a:t>Содержани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Text Box 4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0796A-4434-402F-977E-FAEA80CC5645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Rectangle 6"/>
          <p:cNvSpPr/>
          <p:nvPr/>
        </p:nvSpPr>
        <p:spPr>
          <a:xfrm>
            <a:off x="324000" y="10540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Text Box 7"/>
          <p:cNvSpPr/>
          <p:nvPr/>
        </p:nvSpPr>
        <p:spPr>
          <a:xfrm>
            <a:off x="324000" y="1413000"/>
            <a:ext cx="849600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чебный материа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опросы для самопровер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екомендуемая литератур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29240"/>
            <a:ext cx="822960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982440"/>
            <a:ext cx="8229600" cy="514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cc00"/>
                </a:solidFill>
                <a:latin typeface="Arial"/>
              </a:rPr>
              <a:t>Цель контроля</a:t>
            </a:r>
            <a:r>
              <a:rPr b="1" lang="ru-RU" sz="4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— содействие своевременному и качественному исполнению решений и заданий руководства предприятия или структурного подразделения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Arial"/>
              </a:rPr>
              <a:t>Этапы контроль за исполнением документов: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становку документов на контроль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оверку своевременности доведения документов до исполнителей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едварительную проверку и регулирование хода исполнения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чет и обобщение результатов контроля исполнения документо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Arial"/>
              </a:rPr>
              <a:t>направления контрольной деятельности:</a:t>
            </a:r>
            <a:br>
              <a:rPr sz="4400"/>
            </a:b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2041560"/>
            <a:ext cx="8229600" cy="40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. контроль за исполнением документов по существу поставленных в них вопросо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. контроль за сроками исполнения документов и  за соответствием формы создаваемых документов их содержанию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Arial"/>
              </a:rPr>
              <a:t>Задачи контроля за исполнением документов: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763560"/>
            <a:ext cx="822960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становка документа на контроль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едварительная проверка и регулирование хода исполнения документов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нятие их с контрол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правление исполненного документа в дело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чет, обобщение и анализ хода и результатов исполнения документов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нформирование руководителей о результатах обобщения данных в целях своевременного и качественного исполнения поручений, зафиксированных в документах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азработка предложений по ускорению документопотоков и укреплению исполнительской дисциплин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Arial"/>
              </a:rPr>
              <a:t>Уровни контроля за исполнением документов: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932120"/>
            <a:ext cx="822960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онтроль своевременности исполнения поручений и документов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онтроль соответствия формы создаваемых документов их содержанию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онтроль соответствия применяемых унифицированных форм и бланков действующим нормативам и образцам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онтроль соответствия уровня и формы подтверждения каждого документа, соответствия подписей их расшифровкам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онтроль соответствия всех экземпляров на идентичность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онтроль, включающий анализ существа и полноты исполнения поручений, заданий, ответов на запрос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9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cc00"/>
                </a:solidFill>
                <a:latin typeface="Arial"/>
              </a:rPr>
              <a:t>Сроки исполнения документов:</a:t>
            </a:r>
            <a:endParaRPr b="0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2369880"/>
            <a:ext cx="8229600" cy="37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Типовы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Индивидуальны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Условны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Arial"/>
              </a:rPr>
              <a:t>Задачи текущего контроля: 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становка документов на контроль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формирование картотеки контролируемых документов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правление карточки контролируемого документа исполнителю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нформирование исполнителя о сроке исполнения документ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2T06:20:01Z</dcterms:created>
  <dc:creator>S.V.Ryzhkov</dc:creator>
  <dc:description/>
  <dc:language>en-US</dc:language>
  <cp:lastModifiedBy>Loner-XP</cp:lastModifiedBy>
  <dcterms:modified xsi:type="dcterms:W3CDTF">2010-05-14T02:10:35Z</dcterms:modified>
  <cp:revision>138</cp:revision>
  <dc:subject/>
  <dc:title>Lecture Template </dc:title>
</cp:coreProperties>
</file>