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4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Хранение дел в делопроизводств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ри определении сроков хранения документов могут использоваться несколько видов типовых перечней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29716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типовых управленческих документов, образующихся в деятельности организаций, с указанием сроков х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документов, подлежащих приему в государственные архив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научно-технической документации, подлежащей приему в государственные архив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Что такое номенклатура дел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Для чего предназначена номенклатура дел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Что включается в номенклатуру дел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Кем составляется номенклатура дел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Что в делопроизводстве подразумевается под термином "дело"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Из каких элементов должен состоять заголовок дел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ялова Л.М. Номенклатура дел. Порядок составления // Справочник секретаря и офис-менеджера. 2002. № 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3.  ГОСТ Р51141-98 Делопроизводство и архивное дело: Термины и определения.– М.: Издательство стандартов, 199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AE44-EB12-4C24-9EEF-F53D537F99E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6FB0-6AEA-4765-934C-EFE42F07C3E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Номенклатура дел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516040"/>
            <a:ext cx="822960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 утвержденный систематизированный перечень заголовков дел, заводимых в организации, с указанием сроков их хранения в установленном порядк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Стрелка вниз 3"/>
          <p:cNvSpPr/>
          <p:nvPr/>
        </p:nvSpPr>
        <p:spPr>
          <a:xfrm>
            <a:off x="3147840" y="1201680"/>
            <a:ext cx="2738520" cy="1460520"/>
          </a:xfrm>
          <a:prstGeom prst="downArrow">
            <a:avLst>
              <a:gd name="adj1" fmla="val 50000"/>
              <a:gd name="adj2" fmla="val 57056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Номенклатура дел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7476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яет классификацию, группировку исполненных документов в дел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яет систематизацию и индексацию дел, сроки их хран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ужит основным учетным документом в текущей работе с документ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вляется единственным средством учета переходящих дел, т. е. дел, наполнение документами которых продолжается несколько л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новится учетно-справочной системой для последующего поиска дел со сроками хранения до 10 лет включите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Функции номенклатуры дел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01320"/>
            <a:ext cx="8229600" cy="54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дел используется как схема классификации при распределении и группировке исполненных документов в дела. Заголовки дел из номенклатуры переносятся на обложки де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дел предварительно определяет сроки хранения документов, что является первым этапом экспертизы ценности докуме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дел используется при построении информационно-поисковой системы по документам предприятия. Классификационная схема номенклатуры может быть использована для формирования справочной картотеки на исполненные документы. При регистрации документов в регистрационный индекс часто включают индекс дела по номенклату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дел служит учетным документом при сдаче в архив дел со сроками хранения до 10 лет включительно. Она также является основой для составления описей на дела со сроками хранения свыше 10 лет и постоянн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имеет справочное значение при изучении структуры учреждения, организации, предприя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Виды номенклатуры дел: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013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иповая 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ражает документы определенной категории учреждений с однотипным характером деятельности и составом документаци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имерная 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вляется рекомендательной и создается в тех управленческих структурах, где состав документов подразделений (филиалов, цехов, кафедр) сильно различается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ндивидуальная  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систематизированный перечень конкретных заголовков дел, намеченных к заведению в делопроизводстве одной организации или ее структурного подразделения в определенном календарном году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сновой</a:t>
            </a:r>
            <a:r>
              <a:rPr b="1" i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для составления номенклатуры являются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ав (положение) организаци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ожения о структурных подразделениях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ификаторы участков деятельности и кодификаторы структурных подразделени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татные расписани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ны и отчеты о работе организации и ее структурных подразделени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ы организации за прошлые год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иси дел постоянного хранения, временного хранения и по личному составу, акты о выделении документов и дел к уничтожению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иповые и примерные номенклатуры дел данной системы (при их наличии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шения Государственной архивной службы России и территориальных архивных органов об изменении сроков хранения тех или иных категорий документ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Разделы номенклатуры дел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28240"/>
            <a:ext cx="82296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качестве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ервой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фы номенклатуры указывают наименования структурных подразделений (отделов), их индексы (номера) включаются в номенклатуру и, дополненные порядковым номером дела в пределах подразделения, составляют индекс дел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второ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рафе номенклатуры указываются полные заголовки де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Треть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рафа номенклатуры заполняется в конце года. Каждое дело не должно превышать 250 листов, поэтому при большом объеме документов, относящихся к одному делу, допускается формирование томов, час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четверто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рафе номенклатуры проставляются сроки хранения дел, определенные экспертной комисси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ята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рафа номенклатуры дел «Примечание» заполняется в течение срока действия номенклатуры службой ДОУ, в ней проставляютс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метки о заведении дел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веден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переходящих делах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еходящее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 2001 г.» или «переходящее на 2003 г.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передаче дел в другую организацию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кт выдачи во временное пользова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т_№_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местонахождении подлинников документов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длинники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деле 01-02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передаче дел в ведомственный архив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еданы в архив по опис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07.03.2002» и т.п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Срок действия номенклатуры дел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092240"/>
            <a:ext cx="822960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твержденная номенклатура дел организации вводится в действие с начала следующего делопроизводственного года и действует в течение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т. Она подлежит внеплановому пересоставлению и переутверждению лишь в случаях коренного изменения функций и структуры организации (или ее структурного подразделения). При отсутствии таких изменений номенклатуру дел в конце каждого года уточняют, при необходимости корректируют и автоматически вводят в действие автоматичес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3:06:18Z</dcterms:modified>
  <cp:revision>137</cp:revision>
  <dc:subject/>
  <dc:title>Lecture Template </dc:title>
</cp:coreProperties>
</file>