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ановление и развитие делопроизводства в советских государственных учреждениях (1917-1950-е год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ционализация делопроизводства основывалась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окращении инстанций прохождения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дрении однократной регистрации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и нерегистрируемых докумен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е и внедрении трафаретных фор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Бюро стандартизации при ВСНХ СССР занималось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ей документооборот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абатывала формы документо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чатало бланк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готавливало канцелярскую меб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925 г. создание Акционерного общества — Государственного бюро организационного строительства (Оргстрой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Оргстро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организации и постановки в учреждениях и на предприятиях делопроизводства и 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и проектов организационных структур учреждений и их подраздел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бланков и форм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инструкций и руководст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набжения учреждений и предприятий усовершен­ствованным канцелярским оборудованием, мебелью, пишущими и счетными машин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и курсов по подготовке практических работников— делопроизводителей и др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ирования широких слоев работников управ­ления и производства о новейших теоретических достижениях, рационализации, о новинках конструк­торских и технических разработок в сфере управле­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26 г. – Создание государственного института техники управления (ИТУ).</a:t>
            </a:r>
            <a:br>
              <a:rPr sz="28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 разработка вопросов техники у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работы в советских учреждениях по упрощению и механизации вопросов техники управления и организации работы с докумен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уществление консультационной и популяризаторской деятельност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тоды обследования делопроизводства, предложенные ИТУ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осредственное наблюд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с (интервьюирование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ир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фотография рабочего дн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ометраж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88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985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28 г.- ИТУ совместно с Центрархивом РСФСР подготовил «Правила постановки архивной части дело­производства в государственных, профессиональных и кооперативных учреждениях и предприятиях РСФСР», в которых давались рекомендации по составлению перечней документов и дел, циркулирующих в учреждениях, и правила их уничтожения (для документов с истекшими сроками хран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31 году издан проект «Общих правил документации и документооборота». В Общие правила вошли требования к оформлению документов, правила их обработки от получения до передачи в архив, единые принципы организации делопроизводственных служб, их функции, должностные обязанности канцелярских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бщие правила …" содержали следующие разделы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рганизация документации и документооборо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секретариа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бязанности конторско-секретарского персонал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приема корреспонденц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Прием, проверка, вскрытие и отметки о получении корреспонденции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Разноска корреспонденции в учрежден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отправки корреспонден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нституция 1936 г.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законодательно закреплены виды документов, издаваемые конкретными органами власти и управлен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й законодательный орган — Верховный Совет СССР — издава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идиум Верховного Совета СССР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казы и постано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ые комиссары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Местные Советы депутатов трудящихся и их исполкомы принима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я и распоряж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альники управлений и отделов исполкомов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и организаций, учреждений и предприятий, действующих на основе единоначалия,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юнь 1941 г. - 1 Межотраслевое совещании по оргтехнике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грамма совещани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организационно-методического центра для руководства постановкой делопроизвод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(статуса) о делопроизводстве для всех в качестве общеобязательных нор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о кадрах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зацию труда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фикацию и трафаретизацию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единого учебного центра для подготовки и переподготовки кад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в школах правил составления служебных доку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ку и переподготовку преподавателей кадров по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сесоюзного института по вопросам дело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1940-е гг. методическое руководство и контроль за организацией делопроизводства в советских учреждениях  осуществляет -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Главное архивное управлени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43 г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ного архивного управ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струкции по постановке документальной части и охране документальных материалов в текущем делопроизводстве учреждений, организаций и предприятий СССР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Инструкция включала треб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оформлению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х учету (регистр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исполнения и контроля исполн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(классификацию и систематизацию) документов в делопроизводств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архива и правила сдачи документов в архи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ервые декреты советской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государственных учреждений в России после событий октября 191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рационализации делопроизводства в отдельных ведомствах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ление НОТ и её влияние на делопроизводство 1920-19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органов рабоче-крестьянской инспекции по рационализации делопроизводства. Институт техники управления, его научно-методическая и прак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14F3-1E59-406F-8E3A-7BA9D1B5934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3A00-96A7-470D-82B9-C20117BE8D6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руктура государственного аппарата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954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сшим орган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осударственной власти стал Всероссийский съезд Советов, в период между его съездами избирался Всероссийский Центральный Исполнительный комитет (ВЦИК) - орган, выполняющий функции законодательной и исполнительной вл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правления страной было сформировано правительство - Совет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уководства отраслями государственного управления были созданы 13 Народных комиссариатов (наркоматов), органами государственной власти на местах — губернские и уездные Советы, а органами государственного управления — их исполнительные комитеты (исполком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авовые акты советского периода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порядке утверждения и опубликования законов» от 30 октября 191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«О форме бланков государственных учреждений» от 02 марта 191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времени вступления в силу Узаконений и распоряжений правительства» от 18 ноября 1918 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Совета Рабочей и Крестьянской Обороны «О точном и быстром исполнении распоряжений центральной власти и устранении канцелярской волокиты» от 08 декабря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декрета «Об упрощении делопроиз­водства и переписки в советских учреждениях», подготовленный в декабре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ВЦИК  «О порядке пользования печатями с государственным гербом» от 06 июля1922 г.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«Об изменении постановления о праве пользования печатями с государственным гербом» от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Начало 1920-х гг. - время развития движения за научную организацию труда (НОТ), частью которого стала научная организация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ческого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руда (НОУТ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5276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предполагало создать условия, при которых организация производства и управления будет построена на рациональных началах и научных рекоменд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1920-1930-е год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издание многочисленных журнал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упр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организации и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и орг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у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1920-1930- е год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дание литературы по вопросам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орзенко Б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е в организации канцелярии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ов Л. 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и рационализации учреждений: Методологические очерки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сильев М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едование и реорганизация предприятий и учреждений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рховской П.В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производство госучреждений. М.; Л., 1929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лубев С.Н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и документация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резен З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оперативного делопроизвод­ства. М., 1923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йзельс Р. С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и канцелярия. М., 1923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йльман В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ство по делопроизводству учреждений и предприятий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федов Г.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нцелярское дело. М.; Л., 19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XII съезда РКП (б) - создание объединенного партийно-советского органа ЦККРКИ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ЦККР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ал государственный аппарат с использованием хронометража, 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ультировал по улучшению деятельности органов управления на ме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ывал методиче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Благодаря деятельности РКИ в стране в 1920 годы сложилась система научно-исследовательских, хозрасчетных, ведомственных и общественных организаций, разрабатывающих вопросы научной организации управления на единой методической основе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667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 создано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Управление по улучшению госаппарата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ое осуществляло руководство движением НОТ в стране. Координация работы по НОТ была возложена на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Совет по научной организации труда (Совнот)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ный при коллегии НК РКИ в 1923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методического центра по руководству рационализацией делопроизводства выполнял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(АТО при НК РКИ ССС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, в деятельности которого наметились два на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ка и внедрение в практику после опытных проверок типовых систем делопроизводства, пред­назначенных для определенного типа учреждений. Особое внимание уделялось введению карточной регистрации документов, контролю их исполнения, организации справочной работы, текущего хра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стоянных органов рационализации в различных учреждениях. Они были созданы на многих предприятиях и практически во всех крупных учреждениях в виде бюро (сектора, ячейки и др.) НОТ. Их обобщенное название —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ведомственные органы рационализаци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Такие структуры занимались разработкой и внедрением рациональных систем управления для "своих" наркоматов как в центральных аппаратах, так и в подведомственных учреждения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созданы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и вневедомственные рационализаторские структур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занимавшиеся вопросами управления: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Клуб работников административного дела, Объединение работников учета, Ассоциация работников управленческого дела и др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ни создавались как общественные организации, но объединяли профессионалов, которые обладали опытом практической работы и могли предложить достаточно рациональные меры по совершенствованию того или иного участка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ане начинают действовать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научные учрежден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1921 г. создается Таганрогский институт научной организации производства, затем Казанский институт научной организации труда (КИНОТ). Научно-практические разработки этих институтов в области управления, производства и делопроизводства способствовали оптимизации работы советски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7T05:30:36Z</dcterms:modified>
  <cp:revision>145</cp:revision>
  <dc:subject/>
  <dc:title>Lecture Template </dc:title>
</cp:coreProperties>
</file>