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4.jpeg" ContentType="image/jpeg"/>
  <Override PartName="/ppt/media/image1.png" ContentType="image/png"/>
  <Override PartName="/ppt/media/image2.wmf" ContentType="image/x-wmf"/>
  <Override PartName="/ppt/media/image15.jpeg" ContentType="image/jpeg"/>
  <Override PartName="/ppt/media/image3.wmf" ContentType="image/x-wmf"/>
  <Override PartName="/ppt/media/image1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7751880" y="6381720"/>
            <a:ext cx="241200" cy="40968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8066160" y="6489720"/>
            <a:ext cx="718920" cy="214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324000" y="303372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324000" y="400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3159000"/>
            <a:ext cx="8496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Arial"/>
              </a:rPr>
              <a:t>Периферийные устройств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24000" y="4221000"/>
            <a:ext cx="84960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4000" y="549360"/>
            <a:ext cx="84960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иферийные устрой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омер и название специальност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ститут Информатики, Инноваций и Бизнес-систем, Кафедра ИСК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ичипоренко С.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4000" y="1413000"/>
            <a:ext cx="8496000" cy="493236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Жидкокристаллические дисплеи (LCD). Их появление связано с борьбой за снижение габаритов и веса переносных компьютер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Основной из недостаток - невозможность быстрого изменения картинок или быстрого движения курсора мыши и т.п. Такие экраны нуждаются в дополнительной подсветке или во внешнем освещении. Преимущества данных экранов - в значительном сокращении спектра вредных воздейств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ериферийные устройства вывода информации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ниторы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96A53-568F-4706-ADC4-83110A7157F9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3000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2825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24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hoto02" descr=""/>
          <p:cNvPicPr/>
          <p:nvPr/>
        </p:nvPicPr>
        <p:blipFill>
          <a:blip r:embed="rId1"/>
          <a:stretch/>
        </p:blipFill>
        <p:spPr>
          <a:xfrm>
            <a:off x="3203640" y="1521000"/>
            <a:ext cx="1695240" cy="154296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2046600" y="2755080"/>
            <a:ext cx="380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(Жидкокристаллический дисплей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24000" y="1413000"/>
            <a:ext cx="8496000" cy="493236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лазменная панель представляет собой матрицу газонаполненных ячеек, заключенных между двумя параллельными стеклянными поверхностями. В качестве газовой среды обычно используется неон или ксенон. Разряд в газе протекает между прозрачным электродом лицевой стороне экрана и адресными электродами, проходящими по его задней стороне. Газовый разряд вызывает ультрафиолетовое излучение, которое, в свою очередь, инициирует видимое свечение люминофора. В цветных плазменных панелях каждый пиксель экрана состоит из трех ячеек с красным, зеленым и синим люминофор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ериферийные устройства вывода информации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ниторы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0B2D4-FEA9-4BD1-95C7-A1DDC99F0D45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3000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2825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2444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eizo_685ex_bs" descr=""/>
          <p:cNvPicPr/>
          <p:nvPr/>
        </p:nvPicPr>
        <p:blipFill>
          <a:blip r:embed="rId1"/>
          <a:stretch/>
        </p:blipFill>
        <p:spPr>
          <a:xfrm>
            <a:off x="3887640" y="1557360"/>
            <a:ext cx="1114560" cy="172404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3305160" y="3296520"/>
            <a:ext cx="246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лазменная панел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24000" y="1413000"/>
            <a:ext cx="8496000" cy="493236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тричные (игольчатые) принтеры - это самые дешевые аппараты, обеспечивающие удовлетворительное качество печати для широкого круга рутинных операций (главным образом для подготовки текстовых документов). Применяются в сберкассах, в промышленных условиях, где необходима  рулонная печать, печать на книжках и плотных карточках и других носителях из плотного материала. Достоинства: приемлемое качество печати при условии хорошей красящей ленты, возможности печати "под копирку". Недостатки: достаточно низкая скорость печати, особенно графических изображений, значительный уровень шума. Среди матичных принтеров есть и достаточно быстрые устройства (так называемые, Shattle-принтеры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руйные принтеры обеспечивают более высокое качество печати. Они особенно удобны для вывода цветных графических изображений. Применение чернил разного цвета дает сравнительно недорогое изображение приемлемого качества. Цветную модель называют СМYB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yan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genta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Yellow-Black) по названиям основных цветов, образующих палитр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ериферийные устройства вывода информации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нтеры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2DC5D-FA2D-4C44-B921-52EED7FAD7A6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3000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2825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2444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24000" y="1413000"/>
            <a:ext cx="8496000" cy="493236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Лазерные принтеры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имеют еще более высокое качество печати, приближенное к фотографическому. Они стоят намного дороже, однако скорость печати в 4-5 раз выше, чем у матричных и струйных принтеров. Недостатком лазерных принтеров являются довольно жесткие требования к качеству бумаги - она должна быть достаточно плотной и не должна быть рыхлой, недопустима печать на бумаге  с пластиковым покрытием и т.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ермические принтеры. Используются для получения цветного изображения фотографического качества. Требуют особой бумаги. Такие принтеры пригодны для деловой графи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ериферийные устройства вывода информации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нтеры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E1F50-8421-4D82-8505-FBC7E39D0574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3000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2825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2444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4000" y="1413000"/>
            <a:ext cx="8496000" cy="493236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Лазерные принтеры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имеют еще более высокое качество печати, приближенное к фотографическому. Они стоят намного дороже, однако скорость печати в 4-5 раз выше, чем у матричных и струйных принтеров. Недостатком лазерных принтеров являются довольно жесткие требования к качеству бумаги - она должна быть достаточно плотной и не должна быть рыхлой, недопустима печать на бумаге  с пластиковым покрытием и т.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ермические принтеры. Используются для получения цветного изображения фотографического качества. Требуют особой бумаги. Такие принтеры пригодны для деловой графи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ериферийные устройства вывода информации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нтеры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DEEFE-7349-4F64-8087-65F62721D5AF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3000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0" y="2825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2444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24000" y="1413000"/>
            <a:ext cx="8496000" cy="493236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стройствами ввода  являются те устройства, посредством  которых можно ввести информацию  в  компьютер.  Главное  их предназначение - реализовывать воздействие на ПК.  Разнообразие выпускаемых устройств ввода породили целые технологии: от осязаемых до голосовых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лавным устройством   ввода  большинства  компьютерных систем является  клавиатур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лавиатуры различаются по двум признакам: способ подключения и дизайн. Подключение клавиатуры к компьютеру может осуществляться через порт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S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/2, USB и через ИК (инфракрасный) порт для беспроводных моделей. В последнем способе подключения клавиатура требует дополнительного источника питания, например батарейк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ериферийные устройства ввода информации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лавиатур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00466-660B-4F75-BDB5-2F0C66DADF9E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3000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2825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2444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0" y="2900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2" descr=""/>
          <p:cNvPicPr/>
          <p:nvPr/>
        </p:nvPicPr>
        <p:blipFill>
          <a:blip r:embed="rId1"/>
          <a:stretch/>
        </p:blipFill>
        <p:spPr>
          <a:xfrm>
            <a:off x="3456000" y="2637000"/>
            <a:ext cx="1257120" cy="105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24000" y="1413000"/>
            <a:ext cx="8496000" cy="493236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spcBef>
                <a:spcPts val="224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spcBef>
                <a:spcPts val="224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spcBef>
                <a:spcPts val="224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spcBef>
                <a:spcPts val="224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spcBef>
                <a:spcPts val="224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spcBef>
                <a:spcPts val="224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spcBef>
                <a:spcPts val="224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учные сканеры - самые простые и дешевые. Основной недостаток в том, что человек сам перемещает сканер по объекту, и качество полученного изображения зависит от умения и твердости руки. Другой важный недостаток - небольшая ширина полосы сканирования (до 10 см), что затрудняет чтение широких оригинал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ериферийные устройства ввода информации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кане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4E791-53D7-4526-9C07-22850F9B86EE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0" y="3000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2825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0" y="2444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0" y="2900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Ручной" descr=""/>
          <p:cNvPicPr/>
          <p:nvPr/>
        </p:nvPicPr>
        <p:blipFill>
          <a:blip r:embed="rId1"/>
          <a:stretch/>
        </p:blipFill>
        <p:spPr>
          <a:xfrm>
            <a:off x="1619280" y="1484280"/>
            <a:ext cx="1266840" cy="1019160"/>
          </a:xfrm>
          <a:prstGeom prst="rect">
            <a:avLst/>
          </a:prstGeom>
          <a:ln w="0">
            <a:noFill/>
          </a:ln>
        </p:spPr>
      </p:pic>
      <p:pic>
        <p:nvPicPr>
          <p:cNvPr id="175" name="Лазерный" descr=""/>
          <p:cNvPicPr/>
          <p:nvPr/>
        </p:nvPicPr>
        <p:blipFill>
          <a:blip r:embed="rId2"/>
          <a:stretch/>
        </p:blipFill>
        <p:spPr>
          <a:xfrm>
            <a:off x="5148360" y="1557360"/>
            <a:ext cx="895320" cy="89532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0" y="219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204080" y="3215160"/>
            <a:ext cx="73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84600" y="2528280"/>
            <a:ext cx="709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(светодиодный ручной сканер)    (лазерный ручной сканер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4000" y="1233360"/>
            <a:ext cx="8496000" cy="507528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арабанные сканеры  применяются в профессиональной типографической деятельности. Принцип заключается в том, что оригинал на барабане освещается источником света, а фотосенсоры переводят отраженное излучение в цифровое знач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истовые сканеры. Их основное отличие от двух предыдущих в том, что при сканировании неподвижно закреплена линейка с CCD - элементами, а лист со сканируемым изображением движется относительно нее с помощью специальных валик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ланшетные сканеры. Это самый распространенный сейчас вид для профессиональных работ. Сканируемый объект помещается на стеклянный лист, изображение построчно с равномерной скоростью считывается головкой чтения с CCD - сенсорами, расположенной снизу. Планшетный сканер может быть оборудован специальным устройством слайд-приставкой для сканирования диапозитивов и негатив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екционные сканеры. Относительно новое направление. Цветной проекционный сканер является мощным многофункциональным средством для ввода в компьютер любых цветных изображений, включая трехмерные. Он вполне может заменить фотоаппара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spcBef>
                <a:spcPts val="224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spcBef>
                <a:spcPts val="224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spcBef>
                <a:spcPts val="224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spcBef>
                <a:spcPts val="224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spcBef>
                <a:spcPts val="224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ериферийные устройства ввода информации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кане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B970D-1F37-4D9A-9FD2-4F31D22283E1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0" y="3000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0" y="2825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0" y="2444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2900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0" y="219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204080" y="3215160"/>
            <a:ext cx="73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Рекомендуемая литератур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2bec"/>
                </a:solidFill>
                <a:latin typeface="Arial"/>
              </a:rPr>
              <a:t>Пример списка литерату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4595A-26A1-4833-8168-A52A4EA936DF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24000" y="1413000"/>
            <a:ext cx="8496000" cy="48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ук М.Ю. Аппаратные средства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BM PC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– М.: Изд-во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ите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2006. – 1072 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артыка Т.Л., Попов И.И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ериферийные устройства вычислительной техник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– М.: Изд-во «Питер", 2007. – 432 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A8CBE-EA46-401A-8B94-D08A63A3375F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24000" y="3860640"/>
            <a:ext cx="849600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Использование материалов презент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Использование данной презентации, может осуществляться только при условии соблюдения требований законов  РФ об авторском праве и интеллектуальной собственности, а также с учетом требований настоящего Заявл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резентация является собственностью авторов. Разрешается распечатывать копию любой части презентации для личного некоммерческого использования, однако не допускается распечатывать какую-либо часть презентации с любой иной целью или по каким-либо причинам вносить изменения в любую часть презентации. Использование любой части презентации в другом произведении, как в печатной, электронной, так и иной форме, а также использование любой части презентации в другой презентации посредством ссылки или иным образом допускается только после получения письменного согласия автор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План лекций</a:t>
            </a: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F9F0C-DB9B-4DF2-9766-7A5B34708EDC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1413000"/>
            <a:ext cx="8496000" cy="489564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значение и группы периферийных устройств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стройства ввода-выв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стройства вв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стройства выв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значение периферийных устройст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BD22F-B8DB-4EFE-A4D1-359DAE48B5E0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1413000"/>
            <a:ext cx="8496000" cy="489564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4000" y="2192400"/>
            <a:ext cx="8496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2576520"/>
            <a:ext cx="8496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24000" y="2960640"/>
            <a:ext cx="8496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4000" y="1449360"/>
            <a:ext cx="8496000" cy="464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новное назначение ПУ - обеспечить поступление в ПК из окружающей среды программ и данных для обработки, а также выдачу результатов работы ПК в виде, пригодном для восприятия человека или для передачи на другую ЭВМ, или в иной, необходимой форме. ПУ в немалой степени определяют возможности применения П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1000"/>
                            </p:stCondLst>
                            <p:childTnLst>
                              <p:par>
                                <p:cTn id="8" nodeType="afterEffect" fill="hold" presetClass="entr" presetID="10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400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53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79280" y="189000"/>
            <a:ext cx="849636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лассификация периферийных устройст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F2EED-5655-4F8B-B2BF-EBE14EAFEB90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79280" y="728640"/>
            <a:ext cx="8569440" cy="594036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ериферийные устройства можно разделить на несколько групп по функциональному назначению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стройства ввода-вывода – предназначены для ввода информации в ПК, вывода в необходимом для оператора формате или обмена информацией с другими ПК. К такому типу ПУ можно отнести внешние накопители (ленточные, магнитооптические), модем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стройства вывода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 предназначены для  вывода информации в необходимом для оператора формате. К этому типу периферийных устройств относятся: принтер, монитор (дисплей), аудиосистем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стройства ввода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 Устройствами ввода  являются устройства, посредством  которых можно ввести информацию  в  компьютер.  Главное  их предназначение - реализовывать воздействие на машину. К такому виду периферийных устройств относятся: клавиатура (входит в базовую конфигурацию ПК), сканер, графический планшет и т.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24000" y="1413000"/>
            <a:ext cx="8496000" cy="493236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енточные (магнитные)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накопител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стримеры. Благодаря достаточно большому объему и довольно высокой надежности чаще всего используются в рамках устройств резервного копирования данных на предприятиях и в крупных компаниях (хранят резервные копии баз данных и другой важной информации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нцип записи на магнитных носителях основан на изменении намагниченности отдельных участков магнитного слоя носителя. Запись осуществляется при помощи магнитной головки, которая создает магнитное поле. При считывании информации намагниченные участки создают в магнитной головке слабые токи, которые превращаются в двоичный код, соответствующий записанном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ериферийные устройства ввода-вывода информа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нешние накопители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F6EF6-0D0A-4783-A660-3D91C97E8C8D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000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3419640" y="1665360"/>
          <a:ext cx="1247760" cy="857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19640" y="1665360"/>
                    <a:ext cx="1247760" cy="85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ериферийные устройства ввода-вывода информа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нешние накопител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195FF-E57C-4804-9D18-BBA6B74ABE87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24000" y="1413000"/>
            <a:ext cx="8496000" cy="489564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2192400"/>
            <a:ext cx="8496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24000" y="2576520"/>
            <a:ext cx="8496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4000" y="2960640"/>
            <a:ext cx="8496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24000" y="1449360"/>
            <a:ext cx="8496000" cy="464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гнитооптические накопители – приводы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D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M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D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D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W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VD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DVD-RW. Также могут использоваться в качестве устройств резервного копирования, но, в отличие от стримеров, обладают гораздо меньшей вместимостью данных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D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D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W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до 700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B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данных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VD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DVD-RW до 4.7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B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данных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дисках, которые позволяют многократную перезапись, применяется магнитооптический принцип, в основу которого положено физическое свойство: коэффициент отражения лазерного луча от по-разному намагниченных участков диска с особым образом нанесенным магнитным покрытием различе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i2" descr=""/>
          <p:cNvPicPr/>
          <p:nvPr/>
        </p:nvPicPr>
        <p:blipFill>
          <a:blip r:embed="rId1"/>
          <a:stretch/>
        </p:blipFill>
        <p:spPr>
          <a:xfrm>
            <a:off x="2050920" y="1628640"/>
            <a:ext cx="1257480" cy="885960"/>
          </a:xfrm>
          <a:prstGeom prst="rect">
            <a:avLst/>
          </a:prstGeom>
          <a:ln w="0">
            <a:noFill/>
          </a:ln>
        </p:spPr>
      </p:pic>
      <p:pic>
        <p:nvPicPr>
          <p:cNvPr id="77" name="i4" descr=""/>
          <p:cNvPicPr/>
          <p:nvPr/>
        </p:nvPicPr>
        <p:blipFill>
          <a:blip r:embed="rId2"/>
          <a:stretch/>
        </p:blipFill>
        <p:spPr>
          <a:xfrm>
            <a:off x="4319640" y="159228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0" y="2270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268160" y="3155040"/>
            <a:ext cx="607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447200" y="2720160"/>
            <a:ext cx="46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Привод лазерных дисков и сам носитель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000"/>
                            </p:stCondLst>
                            <p:childTnLst>
                              <p:par>
                                <p:cTn id="28" nodeType="afterEffect" fill="hold" presetClass="entr" presetID="10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4000"/>
                            </p:stCondLst>
                            <p:childTnLst>
                              <p:par>
                                <p:cTn id="3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5000"/>
                            </p:stCondLst>
                            <p:childTnLst>
                              <p:par>
                                <p:cTn id="36" nodeType="afterEffect" fill="hold" presetClass="entr" presetID="53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1413000"/>
            <a:ext cx="8496000" cy="493236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 этой разновидности памяти пользователи предъявляют несколько скромных требований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нергонезависимость – т.е. не нуждаться в батарейках, неожиданная разрядка которых приведет к потере информац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дежность – не потерять данные под воздействием грозы, падении или при попадании в луж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мпактной – чтобы не размышлять, а стоит ли тащить все это с соб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лговечной – чтобы не бегать в магазин каждый месяц за новой, т.к. старая отслужила свой сро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ниверсальной – совместимой со множеством устройств, в которых могут потребоваться данны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ериферийные устройства ввода-вывода информа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лэш-карты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03EDC-DD78-4F13-8DA0-3BFB39EDC231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0" y="3000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ispimage2" descr=""/>
          <p:cNvPicPr/>
          <p:nvPr/>
        </p:nvPicPr>
        <p:blipFill>
          <a:blip r:embed="rId1"/>
          <a:stretch/>
        </p:blipFill>
        <p:spPr>
          <a:xfrm>
            <a:off x="4680000" y="1592280"/>
            <a:ext cx="1152360" cy="1152360"/>
          </a:xfrm>
          <a:prstGeom prst="rect">
            <a:avLst/>
          </a:prstGeom>
          <a:ln w="0">
            <a:noFill/>
          </a:ln>
        </p:spPr>
      </p:pic>
      <p:pic>
        <p:nvPicPr>
          <p:cNvPr id="88" name="ispimage" descr=""/>
          <p:cNvPicPr/>
          <p:nvPr/>
        </p:nvPicPr>
        <p:blipFill>
          <a:blip r:embed="rId2"/>
          <a:stretch/>
        </p:blipFill>
        <p:spPr>
          <a:xfrm>
            <a:off x="3095640" y="1665360"/>
            <a:ext cx="1133640" cy="9428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225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394080" y="2791800"/>
            <a:ext cx="170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(Флэш-карты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4000" y="1413000"/>
            <a:ext cx="8496000" cy="493236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настоящее время существуют два вида модемов: аналоговые и цифровые (технология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DSL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налоговые модемы более популярны из-за своей дешевизны и используются в основном для выхода в сеть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et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и только иногда (из-за невысокой (до 56 Кбит/с) скорости передачи данных) для связи с другими ПК. Цифровые же модемы довольно дорогие и используются для высокоскоростных соединений с сетью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et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либо для организации локальной сети на больших расстояниях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DSL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модемы позволяют передавать и принимать информацию со скоростью до 5Мбит/с на расстоянии 5-7 км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ериферийные устройства ввода-вывода информа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демы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8C924-1DD9-446A-9574-2C4F1CA1E1D0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0" y="3000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i2" descr=""/>
          <p:cNvPicPr/>
          <p:nvPr/>
        </p:nvPicPr>
        <p:blipFill>
          <a:blip r:embed="rId1"/>
          <a:stretch/>
        </p:blipFill>
        <p:spPr>
          <a:xfrm>
            <a:off x="2519280" y="2168640"/>
            <a:ext cx="1067040" cy="780840"/>
          </a:xfrm>
          <a:prstGeom prst="rect">
            <a:avLst/>
          </a:prstGeom>
          <a:ln w="0">
            <a:noFill/>
          </a:ln>
        </p:spPr>
      </p:pic>
      <p:pic>
        <p:nvPicPr>
          <p:cNvPr id="98" name="i4" descr=""/>
          <p:cNvPicPr/>
          <p:nvPr/>
        </p:nvPicPr>
        <p:blipFill>
          <a:blip r:embed="rId2"/>
          <a:stretch/>
        </p:blipFill>
        <p:spPr>
          <a:xfrm>
            <a:off x="5148360" y="2205000"/>
            <a:ext cx="1257120" cy="8096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0" y="2359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26200" y="3138840"/>
            <a:ext cx="2091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701360" y="3080520"/>
            <a:ext cx="551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(Аналоговый  модем)    (Цифровой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xDSL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) модем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24000" y="1413000"/>
            <a:ext cx="8496000" cy="493236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ЛТ мониторы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основе электронно-лучевой труб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лектронно-лучевая трубка (кинескоп) — электровакуумный прибор, преобразующий электрические сигналы в световы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лектронно-лучевые приборы — класс электровакуумных электронных приборов, предназначенных для преобразований информации, представленной в форме электрических или световых сигналов. В приборах используются сфокусированные потоки электронов, управляемые по интенсивности и положению в пространств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ериферийные устройства вывода информации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ниторы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7F59E-6B90-41E1-AFAA-814F14821C70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3000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2825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i2" descr=""/>
          <p:cNvPicPr/>
          <p:nvPr/>
        </p:nvPicPr>
        <p:blipFill>
          <a:blip r:embed="rId1"/>
          <a:stretch/>
        </p:blipFill>
        <p:spPr>
          <a:xfrm>
            <a:off x="3635280" y="1592280"/>
            <a:ext cx="1190880" cy="96192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3409200" y="2575800"/>
            <a:ext cx="160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ЭЛТ-монит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2T06:20:01Z</dcterms:created>
  <dc:creator>S.V.Ryzhkov</dc:creator>
  <dc:description/>
  <dc:language>en-US</dc:language>
  <cp:lastModifiedBy>s</cp:lastModifiedBy>
  <dcterms:modified xsi:type="dcterms:W3CDTF">2009-01-26T00:30:28Z</dcterms:modified>
  <cp:revision>92</cp:revision>
  <dc:subject/>
  <dc:title>Lecture Template </dc:title>
</cp:coreProperties>
</file>