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85;&#1075;&#1083;&#1080;&#1081;&#1089;&#1082;&#1080;&#1081;_&#1103;&#1079;&#1099;&#1082;" TargetMode="External"/><Relationship Id="rId2" Type="http://schemas.openxmlformats.org/officeDocument/2006/relationships/hyperlink" Target="http://ru.wikipedia.org/wiki/&#1040;&#1085;&#1075;&#1083;&#1080;&#1081;&#1089;&#1082;&#1080;&#1081;_&#1103;&#1079;&#1099;&#1082;" TargetMode="External"/><Relationship Id="rId3" Type="http://schemas.openxmlformats.org/officeDocument/2006/relationships/hyperlink" Target="http://ru.wikipedia.org/wiki/&#1046;&#1105;&#1089;&#1090;&#1082;&#1080;&#1081;_&#1076;&#1080;&#1089;&#1082;" TargetMode="External"/><Relationship Id="rId4" Type="http://schemas.openxmlformats.org/officeDocument/2006/relationships/hyperlink" Target="http://ru.wikipedia.org/wiki/&#1046;&#1105;&#1089;&#1090;&#1082;&#1080;&#1081;_&#1076;&#1080;&#1089;&#1082;" TargetMode="External"/><Relationship Id="rId5" Type="http://schemas.openxmlformats.org/officeDocument/2006/relationships/hyperlink" Target="http://ru.wikipedia.org/wiki/&#1046;&#1105;&#1089;&#1090;&#1082;&#1080;&#1081;_&#1076;&#1080;&#1089;&#1082;" TargetMode="External"/><Relationship Id="rId6" Type="http://schemas.openxmlformats.org/officeDocument/2006/relationships/hyperlink" Target="http://ru.wikipedia.org/wiki/&#1054;&#1087;&#1090;&#1080;&#1095;&#1077;&#1089;&#1082;&#1080;&#1081;_&#1087;&#1088;&#1080;&#1074;&#1086;&#1076;" TargetMode="External"/><Relationship Id="rId7" Type="http://schemas.openxmlformats.org/officeDocument/2006/relationships/hyperlink" Target="http://ru.wikipedia.org/wiki/&#1054;&#1087;&#1090;&#1080;&#1095;&#1077;&#1089;&#1082;&#1080;&#1081;_&#1087;&#1088;&#1080;&#1074;&#1086;&#1076;" TargetMode="External"/><Relationship Id="rId8" Type="http://schemas.openxmlformats.org/officeDocument/2006/relationships/hyperlink" Target="http://ru.wikipedia.org/wiki/&#1054;&#1087;&#1090;&#1080;&#1095;&#1077;&#1089;&#1082;&#1080;&#1081;_&#1087;&#1088;&#1080;&#1074;&#1086;&#1076;" TargetMode="External"/><Relationship Id="rId9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24000" y="303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24000" y="400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3159000"/>
            <a:ext cx="8496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Arial"/>
              </a:rPr>
              <a:t>Стандарты 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IDE/ATA, ATAP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422100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мер и название специальн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ститут Информатики, Инноваций и Бизнес-систем, Кафедра ИС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чипоренко С.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1305000"/>
            <a:ext cx="8496000" cy="5040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мпания Western Digital разработала спецификацию ATAPI (ATA Packet Interface) для подключения к контроллеру IDE новых устройств хранения, подобных приводам CD-ROM и стриммерам. В традиционной компьютерной архитектуре использовался механизм переноса данных, основанный на регистрах. Современные варианты архитектуры используют механизм передачи на основе пакетов. ATAPI является расширением стандарта IDE, обеспечивающим возможность работы с пакетами. Спецификация ATAPI добавляет к IDE единственную новую команду, расширяющую функции контроллера, и две новых команды адреса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терфейс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TAP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B7313-E7EC-4A7E-B280-005C7BB8443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-468360" y="299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1305000"/>
            <a:ext cx="8496000" cy="5040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тандарт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hanced ID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E5E3-E96E-4E2B-B2AC-9BF0402911C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468360" y="299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76360" y="1736640"/>
          <a:ext cx="8136000" cy="4062600"/>
        </p:xfrm>
        <a:graphic>
          <a:graphicData uri="http://schemas.openxmlformats.org/drawingml/2006/table">
            <a:tbl>
              <a:tblPr/>
              <a:tblGrid>
                <a:gridCol w="4422960"/>
                <a:gridCol w="3713040"/>
              </a:tblGrid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дартный 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hanced 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держивает только два дис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держивает четыре диска при двухканальном контроллере и допускает дальнейшее расшир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жет использоваться только для подключения винчестер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ивает возможность подключения устройств ATAPI (CD-ROM и стриммер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мкость диска не может превышать 528Мб в результате совместного использования BIOS Int 13 и спецификации ID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ация LBA (Linear Block address) позволяет использовать диски размером до 8.4Г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 обмена не может превышать 2-3 Мб/сек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режиме 3 PIO и режиме 1 DMA скорость обмена может достигать 13.3Мб/сек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Рекомендуемая литера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Пример списка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A973-4AAF-4B55-A128-C6412CDABCD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ук М.Ю. Аппаратные средств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P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– М.: Изд-в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те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2006. – 1072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ртыка Т.Л., Попов И.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риферийные устройства вычислительной техни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– М.: Изд-во «Питер", 2007. – 432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3CA6C-09B8-4FB6-B88C-95A2B0A46A7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План лекций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704DB-D436-4833-AA46-99255375272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начение и группы периферийных устройст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ндар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/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ндар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ременные реализации ATA/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зации ATA/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заимодействие диска IDE с операционной систе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дисков большой ем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тандарты UltraD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жимы D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рфейс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ндар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ed I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Arial"/>
              </a:rPr>
              <a:t>Стандарты 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IDE/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763E4-1D20-49EE-8E94-1044F0556AB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296064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1449360"/>
            <a:ext cx="849600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A/IDE 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англ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" sz="1800" spc="-1" strike="noStrike">
                <a:solidFill>
                  <a:srgbClr val="000000"/>
                </a:solidFill>
                <a:latin typeface="Arial"/>
              </a:rPr>
              <a:t>Advanced Technology Attach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Присоединение по продвинутой технологии) 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ллельный интерфей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ключения накопителей 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жёстких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диск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6"/>
              </a:rPr>
              <a:t>оптических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7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8"/>
              </a:rPr>
              <a:t>привод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к компьютер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зникшая в 1984 году у компаний Compaq и Western Digital идея IDE- контроллера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tegrated Disk Electron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заключается в том, что непосредственно сам интерфейсный контроллер встроен в электронику носителя (жесткого диска, например). При этом тот контроллер, к которому подключается диск, по сути дела не является полноценным устройством, а выполняет только функции сопряжения носителя с шиной. Идея оказалась достаточно удачной - цена на контроллер резко снизилась, а на жесткие диски поднялась незначительно. Интерфейс IDE также часто называют ATA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T Attach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иногда AT-BUS-контроллером. Современные чипсеты уже содержат IDE-контроллер и на материнской плате присутствуют соответсвующие разъемы. Если даже чипсет и не имеет IDE-микросхемы, то производители системных плат, как правило, ставят на плату внешний контроллер, так что пользователю IDE-интерфейс достается практически бесплат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Arial"/>
              </a:rPr>
              <a:t>Стандарты 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ATAP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F103A-AAC2-47A7-8056-2872A38C713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296064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1449360"/>
            <a:ext cx="849600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AP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TA Packet Interface) - стандарт, созданный с тем, чтобы позволить таким устройствам, как дисководы CD-ROM или стриммеры, подключаться напрямую к ATA-портам - дешево, и без необходимости специальных контроллеров, как это было ранее. Спецификация была разработана максимально заинтересованными лицами - группой производителей дисководов CD-ROM, с большой помощью от Western Digital и Oak Technology. В результате появления ATAPI-устройств, появилась возможность подключать дисководы CD-ROM и стримеры непосредственно к тому же шлейфу, к которому подключен и винчестер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аким образом, ATAPI - это стандарт для CD-Rom'ов и стриммеров, позволяющий им работать с устройствами на основе IDE (ATA), такими как винчестеры, используя те же шлейфы и порты без каких-либо дополнительных контроллеров (если кто-то помнит, то ранее для этого требовался специальный контроллер, в качестве которого в ряде случаев могла выступать, например, звуковая плата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ализации ATA/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ализации ATA/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71BC8-0154-4A18-A6D3-73EDB648CF7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934920" y="1521000"/>
          <a:ext cx="7516800" cy="3630600"/>
        </p:xfrm>
        <a:graphic>
          <a:graphicData uri="http://schemas.openxmlformats.org/drawingml/2006/table">
            <a:tbl>
              <a:tblPr/>
              <a:tblGrid>
                <a:gridCol w="1846080"/>
                <a:gridCol w="2833560"/>
                <a:gridCol w="1339920"/>
                <a:gridCol w="770040"/>
                <a:gridCol w="727200"/>
              </a:tblGrid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амет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506/412 MF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506/412 RL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S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E/A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ая скорость обмен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Мбит/се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5Мбит/се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/40МБайт/се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МБайт/се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ое количество устройст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ое количество устройств в DO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ключение других устройст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секторов на дорожк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определе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определе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рузка процессор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 операции ввода-вывода осуществляются с использованием процессор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ичное использован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огозадачный ввод-выво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ическая коррекция ошибо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оуровневое форматирован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заимодействие диска IDE с операционной систем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25A2-A9E4-4377-94D8-2050D902B13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2960640"/>
            <a:ext cx="849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1449360"/>
            <a:ext cx="849600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ервоначальная версия стандарта IDE обеспечивала возможность подключения к компьютеру четырех винчестеров и позволяла обмениваться данными с диском на скорости до 10Мбайт/сек, однако реальная скорость ограничивалась прежде всего возможностями самого винчестера. Подключение четырех устройств, предусмотренное спецификацией IDE, в компьютерах семейства IBM PC AT, в спецификации ATA/IDE реализовано не было. Кроме того, совместное использование стандарта ATA и программного интерфейса Int 13 BIOS ограничивало размер дисковых устройств 528Мб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2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68160" y="3155040"/>
            <a:ext cx="60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bookide2" descr=""/>
          <p:cNvPicPr/>
          <p:nvPr/>
        </p:nvPicPr>
        <p:blipFill>
          <a:blip r:embed="rId1"/>
          <a:stretch/>
        </p:blipFill>
        <p:spPr>
          <a:xfrm>
            <a:off x="2556000" y="1808280"/>
            <a:ext cx="4133880" cy="971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842480" y="2704680"/>
            <a:ext cx="599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заимодействие диска IDE с операционной систем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заимодействие диска IDE с операционной систе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пользование дисков большой емк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9D679-61BE-4161-AAEA-54CBCBDCC74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ествует два способа преодолеть ограничение размера дис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способ заключается в использовании трансляции адресов CHS (цилиндр-головка-сектор) - пересчета реальных значений в фиктивные, удовлетворяющие ограничениям BIOS. Контроллер и BIOS используют в этом случае разную геометрию для адресации данных на диске. Если диск содержит 1500 секторов и имеет 16 головок, то в результате трансляции BIOS будет воспринимать его как устройство с 750 цилиндрами и 32 головк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я Enhanced IDE использует другой метод, называемый логической адресацией блоков (LBA - Logical Block Address). В этом случае используется сквозная нумерация секторов и адрес CHS преобразуется в одно 28-битовое число, используемое для нумерации секторов - LBA-адрес. Метод LBA обеспечивает более эффективный способ работы с большими дисками за счет простоты преобразования адреса. Кроме того, этот способ представляется более эффективным при разработке новых операционных систем. Схема адресации с использованием LBA была впервые применена фирмой Western Digital в конце 1993 года, позволив создать диск IDE размеров 540Мб (модель AC2540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0920" y="2960640"/>
            <a:ext cx="849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1449360"/>
            <a:ext cx="849600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22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68160" y="3155040"/>
            <a:ext cx="60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0"/>
                            </p:stCondLst>
                            <p:childTnLst>
                              <p:par>
                                <p:cTn id="76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1125360"/>
            <a:ext cx="8496000" cy="522000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оследние стандарты ATA 66 (или ultra DMA/66, или UDMA/66) и ATA 100 (или ultra DMA/100, или udma/100) обеспечивают быструю передачу данных в пакетном и непрерывном режимах (66 и 100 Мбайт/с, соответственно)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Cтандарт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UltraD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423B4-E7AE-4E59-B42B-F826297384F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468360" y="299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664000" y="1160640"/>
            <a:ext cx="42480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1305000"/>
            <a:ext cx="8496000" cy="5040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отя режимы программируемого ввода-вывода (PIO) являются стандартным методом, поддерживаемым в серийных устройствах IDE, и отличаются высокой совместимостью, существуют и другие способы повышения скорости обмена с винчестерами. Метод прямого доступа к памяти (DMA) основан на передаче данных между диском и памятью компьютера без использования центрального процессора CPU). Тип B для DMA определен в спецификации EISA и обеспечивает обмен со скоростью 4Мб/сек. Этот метод дает преимущество по сравнению со стандартной скоростью для шины ISA, но значительно уступает Fast-SCS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развитием технологии локальных шин в спецификации PCI был предложен новый вариант обмена с использованием DMA (тип F), обеспечивающий скорость 8.33 и 6.67Мб/сек. В соответствии с возможностями существующих микросхем была предложена спецификация DMA Mode 1 с циклом 150нсек., обеспечивающая скорость обмена 13Мб/сек. за счет передачи нескольких слов за один запрос. Комплекты микросхем с поддержкой DMA типа B (EISA) и типа F (PCI) поставляются с конца 1993 г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жимы D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A92D9-E339-4A10-A959-56CA0B5743B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-468360" y="299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s</cp:lastModifiedBy>
  <dcterms:modified xsi:type="dcterms:W3CDTF">2009-01-26T03:35:23Z</dcterms:modified>
  <cp:revision>94</cp:revision>
  <dc:subject/>
  <dc:title>Lecture Template </dc:title>
</cp:coreProperties>
</file>