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46;&#1105;&#1089;&#1090;&#1082;&#1080;&#1081;_&#1076;&#1080;&#1089;&#1082;" TargetMode="External"/><Relationship Id="rId4" Type="http://schemas.openxmlformats.org/officeDocument/2006/relationships/hyperlink" Target="http://ru.wikipedia.org/wiki/&#1046;&#1105;&#1089;&#1090;&#1082;&#1080;&#1081;_&#1076;&#1080;&#1089;&#1082;" TargetMode="External"/><Relationship Id="rId5" Type="http://schemas.openxmlformats.org/officeDocument/2006/relationships/hyperlink" Target="http://ru.wikipedia.org/wiki/&#1046;&#1105;&#1089;&#1090;&#1082;&#1080;&#1081;_&#1076;&#1080;&#1089;&#1082;" TargetMode="External"/><Relationship Id="rId6" Type="http://schemas.openxmlformats.org/officeDocument/2006/relationships/hyperlink" Target="http://ru.wikipedia.org/wiki/&#1054;&#1087;&#1090;&#1080;&#1095;&#1077;&#1089;&#1082;&#1080;&#1081;_&#1087;&#1088;&#1080;&#1074;&#1086;&#1076;" TargetMode="External"/><Relationship Id="rId7" Type="http://schemas.openxmlformats.org/officeDocument/2006/relationships/hyperlink" Target="http://ru.wikipedia.org/wiki/&#1054;&#1087;&#1090;&#1080;&#1095;&#1077;&#1089;&#1082;&#1080;&#1081;_&#1087;&#1088;&#1080;&#1074;&#1086;&#1076;" TargetMode="External"/><Relationship Id="rId8" Type="http://schemas.openxmlformats.org/officeDocument/2006/relationships/hyperlink" Target="http://ru.wikipedia.org/wiki/&#1054;&#1087;&#1090;&#1080;&#1095;&#1077;&#1089;&#1082;&#1080;&#1081;_&#1087;&#1088;&#1080;&#1074;&#1086;&#1076;" TargetMode="External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Стандарт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IDE/ATA, AT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и название специа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Информатики, Инноваций и Бизнес-систем, Кафедра 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ипор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305000"/>
            <a:ext cx="8496000" cy="5040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пания Western Digital разработала спецификацию ATAPI (ATA Packet Interface) для подключения к контроллеру IDE новых устройств хранения, подобных приводам CD-ROM и стриммерам. В традиционной компьютерной архитектуре использовался механизм переноса данных, основанный на регистрах. Современные варианты архитектуры используют механизм передачи на основе пакетов. ATAPI является расширением стандарта IDE, обеспечивающим возможность работы с пакетами. Спецификация ATAPI добавляет к IDE единственную новую команду, расширяющую функции контроллера, и две новых команды адрес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фейс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5D07-EE59-4896-871B-97E490BB17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305000"/>
            <a:ext cx="8496000" cy="5040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I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5B73-779E-41F6-98BF-CBDFA6F6301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76360" y="1736640"/>
          <a:ext cx="8136000" cy="4062600"/>
        </p:xfrm>
        <a:graphic>
          <a:graphicData uri="http://schemas.openxmlformats.org/drawingml/2006/table">
            <a:tbl>
              <a:tblPr/>
              <a:tblGrid>
                <a:gridCol w="4422960"/>
                <a:gridCol w="371304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ный 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d 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ивает только два д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ивает четыре диска при двухканальном контроллере и допускает дальнейшее расшир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использоваться только для подключения винчестер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возможность подключения устройств ATAPI (CD-ROM и стриммер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мкость диска не может превышать 528Мб в результате совместного использования BIOS Int 13 и спецификации I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ация LBA (Linear Block address) позволяет использовать диски размером до 8.4Г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обмена не может превышать 2-3 Мб/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жиме 3 PIO и режиме 1 DMA скорость обмена может достигать 13.3Мб/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имер списка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7455-2B11-426D-B606-8FE3419855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к М.Ю. Аппаратные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6. – 10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ыка Т.Л., Поп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ийные устройства вычислительной тех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«Питер", 2007. – 4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3B2A-9780-4BA7-B1B6-59A5D34E06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D48B-4C29-45A2-801B-9C566BFFB1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и группы периферийных устройст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/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реализации ATA/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и ATA/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ие диска IDE с операционной сист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дисков большой ем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тандарты Ultra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жимы D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фей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Стандарт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IDE/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EF3D-4680-4291-8AC1-60F67A2DA42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/IDE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англ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Advanced Technology Attach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Присоединение по продвинутой технологии) 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ый интерфей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ключения накопителей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жёстки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дис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оптически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привод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к компьют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никшая в 1984 году у компаний Compaq и Western Digital идея IDE- контроллера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rated Disk Electron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заключается в том, что непосредственно сам интерфейсный контроллер встроен в электронику носителя (жесткого диска, например). При этом тот контроллер, к которому подключается диск, по сути дела не является полноценным устройством, а выполняет только функции сопряжения носителя с шиной. Идея оказалась достаточно удачной - цена на контроллер резко снизилась, а на жесткие диски поднялась незначительно. Интерфейс IDE также часто называют ATA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 Attach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иногда AT-BUS-контроллером. Современные чипсеты уже содержат IDE-контроллер и на материнской плате присутствуют соответсвующие разъемы. Если даже чипсет и не имеет IDE-микросхемы, то производители системных плат, как правило, ставят на плату внешний контроллер, так что пользователю IDE-интерфейс достается практически беспла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Стандарт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AT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FECF-C347-4687-93A3-EBC13F7457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AP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TA Packet Interface) - стандарт, созданный с тем, чтобы позволить таким устройствам, как дисководы CD-ROM или стриммеры, подключаться напрямую к ATA-портам - дешево, и без необходимости специальных контроллеров, как это было ранее. Спецификация была разработана максимально заинтересованными лицами - группой производителей дисководов CD-ROM, с большой помощью от Western Digital и Oak Technology. В результате появления ATAPI-устройств, появилась возможность подключать дисководы CD-ROM и стримеры непосредственно к тому же шлейфу, к которому подключен и винчестер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им образом, ATAPI - это стандарт для CD-Rom'ов и стриммеров, позволяющий им работать с устройствами на основе IDE (ATA), такими как винчестеры, используя те же шлейфы и порты без каких-либо дополнительных контроллеров (если кто-то помнит, то ранее для этого требовался специальный контроллер, в качестве которого в ряде случаев могла выступать, например, звуковая плат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и ATA/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ализации ATA/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BF2D-6786-43BE-954A-D090CAFFD5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34920" y="1521000"/>
          <a:ext cx="7516800" cy="3630600"/>
        </p:xfrm>
        <a:graphic>
          <a:graphicData uri="http://schemas.openxmlformats.org/drawingml/2006/table">
            <a:tbl>
              <a:tblPr/>
              <a:tblGrid>
                <a:gridCol w="1846080"/>
                <a:gridCol w="2833560"/>
                <a:gridCol w="1339920"/>
                <a:gridCol w="770040"/>
                <a:gridCol w="7272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506/412 MF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506/412 R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/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скорость обме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Мби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Мби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/40МБай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МБай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устрой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устройств в D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ключение других устрой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екторов на дорож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узка процессо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операции ввода-вывода осуществляются с использованием процессо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чное использ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задачный ввод-выв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ая коррекция ошибо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уровневое форматир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заимодействие диска IDE с операционной систем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AEE8-B04F-48E5-A14F-09248E61F6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960640"/>
            <a:ext cx="849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воначальная версия стандарта IDE обеспечивала возможность подключения к компьютеру четырех винчестеров и позволяла обмениваться данными с диском на скорости до 10Мбайт/сек, однако реальная скорость ограничивалась прежде всего возможностями самого винчестера. Подключение четырех устройств, предусмотренное спецификацией IDE, в компьютерах семейства IBM PC AT, в спецификации ATA/IDE реализовано не было. Кроме того, совместное использование стандарта ATA и программного интерфейса Int 13 BIOS ограничивало размер дисковых устройств 528Мб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bookide2" descr=""/>
          <p:cNvPicPr/>
          <p:nvPr/>
        </p:nvPicPr>
        <p:blipFill>
          <a:blip r:embed="rId1"/>
          <a:stretch/>
        </p:blipFill>
        <p:spPr>
          <a:xfrm>
            <a:off x="2556000" y="1808280"/>
            <a:ext cx="4133880" cy="971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42480" y="2704680"/>
            <a:ext cx="599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действие диска IDE с операционной сис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заимодействие диска IDE с операционной систе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дисков большой ем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38E1-BDA4-48B3-90BB-DF3A81B8D1C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два способа преодолеть ограничение размера ди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способ заключается в использовании трансляции адресов CHS (цилиндр-головка-сектор) - пересчета реальных значений в фиктивные, удовлетворяющие ограничениям BIOS. Контроллер и BIOS используют в этом случае разную геометрию для адресации данных на диске. Если диск содержит 1500 секторов и имеет 16 головок, то в результате трансляции BIOS будет воспринимать его как устройство с 750 цилиндрами и 32 голов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Enhanced IDE использует другой метод, называемый логической адресацией блоков (LBA - Logical Block Address). В этом случае используется сквозная нумерация секторов и адрес CHS преобразуется в одно 28-битовое число, используемое для нумерации секторов - LBA-адрес. Метод LBA обеспечивает более эффективный способ работы с большими дисками за счет простоты преобразования адреса. Кроме того, этот способ представляется более эффективным при разработке новых операционных систем. Схема адресации с использованием LBA была впервые применена фирмой Western Digital в конце 1993 года, позволив создать диск IDE размеров 540Мб (модель AC25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960640"/>
            <a:ext cx="849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125360"/>
            <a:ext cx="8496000" cy="522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следние стандарты ATA 66 (или ultra DMA/66, или UDMA/66) и ATA 100 (или ultra DMA/100, или udma/100) обеспечивают быструю передачу данных в пакетном и непрерывном режимах (66 и 100 Мбайт/с, соответственно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тандарт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UltraD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E5D4-CCB6-42F8-88EE-B00533A390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64000" y="1160640"/>
            <a:ext cx="4248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305000"/>
            <a:ext cx="8496000" cy="5040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тя режимы программируемого ввода-вывода (PIO) являются стандартным методом, поддерживаемым в серийных устройствах IDE, и отличаются высокой совместимостью, существуют и другие способы повышения скорости обмена с винчестерами. Метод прямого доступа к памяти (DMA) основан на передаче данных между диском и памятью компьютера без использования центрального процессора CPU). Тип B для DMA определен в спецификации EISA и обеспечивает обмен со скоростью 4Мб/сек. Этот метод дает преимущество по сравнению со стандартной скоростью для шины ISA, но значительно уступает Fast-SCS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развитием технологии локальных шин в спецификации PCI был предложен новый вариант обмена с использованием DMA (тип F), обеспечивающий скорость 8.33 и 6.67Мб/сек. В соответствии с возможностями существующих микросхем была предложена спецификация DMA Mode 1 с циклом 150нсек., обеспечивающая скорость обмена 13Мб/сек. за счет передачи нескольких слов за один запрос. Комплекты микросхем с поддержкой DMA типа B (EISA) и типа F (PCI) поставляются с конца 1993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жимы D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4DA3-A23B-47E2-95A9-1971CBF8535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s</cp:lastModifiedBy>
  <dcterms:modified xsi:type="dcterms:W3CDTF">2009-01-26T03:35:23Z</dcterms:modified>
  <cp:revision>94</cp:revision>
  <dc:subject/>
  <dc:title>Lecture Template </dc:title>
</cp:coreProperties>
</file>