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jpeg" ContentType="image/jpe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00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15900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Периферийные устрой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422100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и название специаль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итут Информатики, Инноваций и Бизнес-систем, Кафедра 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чипоренко С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Жидкокристаллические дисплеи (LCD). Их появление связано с борьбой за снижение габаритов и веса переносных компьюте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Основной из недостаток - невозможность быстрого изменения картинок или быстрого движения курсора мыши и т.п. Такие экраны нуждаются в дополнительной подсветке или во внешнем освещении. Преимущества данных экранов - в значительном сокращении спектра вредных воздей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ы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ито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2D7B-D6B3-4A28-93A4-69EF64450F2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hoto02" descr=""/>
          <p:cNvPicPr/>
          <p:nvPr/>
        </p:nvPicPr>
        <p:blipFill>
          <a:blip r:embed="rId1"/>
          <a:stretch/>
        </p:blipFill>
        <p:spPr>
          <a:xfrm>
            <a:off x="3203640" y="1521000"/>
            <a:ext cx="1695240" cy="15429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046600" y="2755080"/>
            <a:ext cx="38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Жидкокристаллический диспл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зменная панель представляет собой матрицу газонаполненных ячеек, заключенных между двумя параллельными стеклянными поверхностями. В качестве газовой среды обычно используется неон или ксенон. Разряд в газе протекает между прозрачным электродом лицевой стороне экрана и адресными электродами, проходящими по его задней стороне. Газовый разряд вызывает ультрафиолетовое излучение, которое, в свою очередь, инициирует видимое свечение люминофора. В цветных плазменных панелях каждый пиксель экрана состоит из трех ячеек с красным, зеленым и синим люминофо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ы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ито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C3E6-4FFD-46DC-A40D-A72CFFFC6B4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eizo_685ex_bs" descr=""/>
          <p:cNvPicPr/>
          <p:nvPr/>
        </p:nvPicPr>
        <p:blipFill>
          <a:blip r:embed="rId1"/>
          <a:stretch/>
        </p:blipFill>
        <p:spPr>
          <a:xfrm>
            <a:off x="3887640" y="1557360"/>
            <a:ext cx="1114560" cy="17240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305160" y="3296520"/>
            <a:ext cx="24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зменная панел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ричные (игольчатые) принтеры - это самые дешевые аппараты, обеспечивающие удовлетворительное качество печати для широкого круга рутинных операций (главным образом для подготовки текстовых документов). Применяются в сберкассах, в промышленных условиях, где необходима  рулонная печать, печать на книжках и плотных карточках и других носителях из плотного материала. Достоинства: приемлемое качество печати при условии хорошей красящей ленты, возможности печати "под копирку". Недостатки: достаточно низкая скорость печати, особенно графических изображений, значительный уровень шума. Среди матичных принтеров есть и достаточно быстрые устройства (так называемые, Shattle-принтер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йные принтеры обеспечивают более высокое качество печати. Они особенно удобны для вывода цветных графических изображений. Применение чернил разного цвета дает сравнительно недорогое изображение приемлемого качества. Цветную модель называют СМYB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a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ent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Yellow-Black) по названиям основных цветов, образующих палит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ы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те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9891-4724-4881-A431-B1666151E99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зерные принтеры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меют еще более высокое качество печати, приближенное к фотографическому. Они стоят намного дороже, однако скорость печати в 4-5 раз выше, чем у матричных и струйных принтеров. Недостатком лазерных принтеров являются довольно жесткие требования к качеству бумаги - она должна быть достаточно плотной и не должна быть рыхлой, недопустима печать на бумаге  с пластиковым покрытием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рмические принтеры. Используются для получения цветного изображения фотографического качества. Требуют особой бумаги. Такие принтеры пригодны для деловой граф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ы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те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709C-34B2-43B1-8FD2-B21DFED9450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зерные принтеры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меют еще более высокое качество печати, приближенное к фотографическому. Они стоят намного дороже, однако скорость печати в 4-5 раз выше, чем у матричных и струйных принтеров. Недостатком лазерных принтеров являются довольно жесткие требования к качеству бумаги - она должна быть достаточно плотной и не должна быть рыхлой, недопустима печать на бумаге  с пластиковым покрытием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рмические принтеры. Используются для получения цветного изображения фотографического качества. Требуют особой бумаги. Такие принтеры пригодны для деловой граф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ы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те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9D4D-694D-4CC3-B626-FD39B36CC28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ойствами ввода  являются те устройства, посредством  которых можно ввести информацию  в  компьютер.  Главное  их предназначение - реализовывать воздействие на ПК.  Разнообразие выпускаемых устройств ввода породили целые технологии: от осязаемых до голосов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ым устройством   ввода  большинства  компьютерных систем является  клавиату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виатуры различаются по двум признакам: способ подключения и дизайн. Подключение клавиатуры к компьютеру может осуществляться через пор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2, USB и через ИК (инфракрасный) порт для беспроводных моделей. В последнем способе подключения клавиатура требует дополнительного источника питания, например батарей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виату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0488-74A7-47AF-9B38-11A3187F475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2" descr=""/>
          <p:cNvPicPr/>
          <p:nvPr/>
        </p:nvPicPr>
        <p:blipFill>
          <a:blip r:embed="rId1"/>
          <a:stretch/>
        </p:blipFill>
        <p:spPr>
          <a:xfrm>
            <a:off x="3456000" y="2637000"/>
            <a:ext cx="1257120" cy="10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чные сканеры - самые простые и дешевые. Основной недостаток в том, что человек сам перемещает сканер по объекту, и качество полученного изображения зависит от умения и твердости руки. Другой важный недостаток - небольшая ширина полосы сканирования (до 10 см), что затрудняет чтение широких оригина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ан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4E5C-5189-488F-B2EB-AA660D6495C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учной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1266840" cy="1019160"/>
          </a:xfrm>
          <a:prstGeom prst="rect">
            <a:avLst/>
          </a:prstGeom>
          <a:ln w="0">
            <a:noFill/>
          </a:ln>
        </p:spPr>
      </p:pic>
      <p:pic>
        <p:nvPicPr>
          <p:cNvPr id="175" name="Лазерный" descr=""/>
          <p:cNvPicPr/>
          <p:nvPr/>
        </p:nvPicPr>
        <p:blipFill>
          <a:blip r:embed="rId2"/>
          <a:stretch/>
        </p:blipFill>
        <p:spPr>
          <a:xfrm>
            <a:off x="5148360" y="1557360"/>
            <a:ext cx="895320" cy="8953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04080" y="3215160"/>
            <a:ext cx="73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4600" y="2528280"/>
            <a:ext cx="70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светодиодный ручной сканер)    (лазерный ручной скан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4000" y="1233360"/>
            <a:ext cx="8496000" cy="507528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рабанные сканеры  применяются в профессиональной типографической деятельности. Принцип заключается в том, что оригинал на барабане освещается источником света, а фотосенсоры переводят отраженное излучение в цифрово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стовые сканеры. Их основное отличие от двух предыдущих в том, что при сканировании неподвижно закреплена линейка с CCD - элементами, а лист со сканируемым изображением движется относительно нее с помощью специальных вал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шетные сканеры. Это самый распространенный сейчас вид для профессиональных работ. Сканируемый объект помещается на стеклянный лист, изображение построчно с равномерной скоростью считывается головкой чтения с CCD - сенсорами, расположенной снизу. Планшетный сканер может быть оборудован специальным устройством слайд-приставкой для сканирования диапозитивов и негатив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екционные сканеры. Относительно новое направление. Цветной проекционный сканер является мощным многофункциональным средством для ввода в компьютер любых цветных изображений, включая трехмерные. Он вполне может заменить фотоаппар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ан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EC15-88E4-4EB4-B927-410ECB80859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04080" y="3215160"/>
            <a:ext cx="73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ример списка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5FC3-01D1-4C6D-A108-8D345D9619E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к М.Ю. Аппаратные средств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P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– М.: Изд-в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т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2006. – 1072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тыка Т.Л., Попов И.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иферийные устройства вычислительной техн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– М.: Изд-во «Питер", 2007. – 432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087B-11D5-4244-B5F4-2E9454B1F92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лан лекций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023B-BCDB-49AC-B04C-868D42B89CF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начение и группы периферийных устройст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ройства ввода-вы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ройства в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ройства вы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начение периферийных устрой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7D46-D5D5-45BE-BACB-50DC4F3468D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ое назначение ПУ - обеспечить поступление в ПК из окружающей среды программ и данных для обработки, а также выдачу результатов работы ПК в виде, пригодном для восприятия человека или для передачи на другую ЭВМ, или в иной, необходимой форме. ПУ в немалой степени определяют возможности применения П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280" y="189000"/>
            <a:ext cx="849636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ассификация периферийных устрой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7B1C-8478-4B5F-8AAB-6FAABB769FC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728640"/>
            <a:ext cx="8569440" cy="594036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иферийные устройства можно разделить на несколько групп по функциональному назначению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ройства ввода-вывода – предназначены для ввода информации в ПК, вывода в необходимом для оператора формате или обмена информацией с другими ПК. К такому типу ПУ можно отнести внешние накопители (ленточные, магнитооптические), мод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ройства вывод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предназначены для  вывода информации в необходимом для оператора формате. К этому типу периферийных устройств относятся: принтер, монитор (дисплей), аудиосисте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ройства ввод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Устройствами ввода  являются устройства, посредством  которых можно ввести информацию  в  компьютер.  Главное  их предназначение - реализовывать воздействие на машину. К такому виду периферийных устройств относятся: клавиатура (входит в базовую конфигурацию ПК), сканер, графический планшет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нточные (магнитные)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накопит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тримеры. Благодаря достаточно большому объему и довольно высокой надежности чаще всего используются в рамках устройств резервного копирования данных на предприятиях и в крупных компаниях (хранят резервные копии баз данных и другой важной информаци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цип записи на магнитных носителях основан на изменении намагниченности отдельных участков магнитного слоя носителя. Запись осуществляется при помощи магнитной головки, которая создает магнитное поле. При считывании информации намагниченные участки создают в магнитной головке слабые токи, которые превращаются в двоичный код, соответствующий записан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-вывода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ие накопител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C374-FA53-487B-A9D9-3AEA74F678C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419640" y="1665360"/>
          <a:ext cx="124776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665360"/>
                    <a:ext cx="12477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-вывода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ие накопите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DD65-D10A-4E2E-A69E-FFD91DCAD04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гнитооптические накопители – привод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W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DVD-RW. Также могут использоваться в качестве устройств резервного копирования, но, в отличие от стримеров, обладают гораздо меньшей вместимостью данных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W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 7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анных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DVD-RW до 4.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анны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дисках, которые позволяют многократную перезапись, применяется магнитооптический принцип, в основу которого положено физическое свойство: коэффициент отражения лазерного луча от по-разному намагниченных участков диска с особым образом нанесенным магнитным покрытием различ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i2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1257480" cy="885960"/>
          </a:xfrm>
          <a:prstGeom prst="rect">
            <a:avLst/>
          </a:prstGeom>
          <a:ln w="0">
            <a:noFill/>
          </a:ln>
        </p:spPr>
      </p:pic>
      <p:pic>
        <p:nvPicPr>
          <p:cNvPr id="77" name="i4" descr=""/>
          <p:cNvPicPr/>
          <p:nvPr/>
        </p:nvPicPr>
        <p:blipFill>
          <a:blip r:embed="rId2"/>
          <a:stretch/>
        </p:blipFill>
        <p:spPr>
          <a:xfrm>
            <a:off x="4319640" y="15922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22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8160" y="3155040"/>
            <a:ext cx="60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47200" y="27201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вод лазерных дисков и сам носител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этой разновидности памяти пользователи предъявляют несколько скромных требова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нергонезависимость – т.е. не нуждаться в батарейках, неожиданная разрядка которых приведет к потере информ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ежность – не потерять данные под воздействием грозы, падении или при попадании в луж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актной – чтобы не размышлять, а стоит ли тащить все это с со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говечной – чтобы не бегать в магазин каждый месяц за новой, т.к. старая отслужила свой ср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ниверсальной – совместимой со множеством устройств, в которых могут потребоваться да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-вывода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лэш-карты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C1C3-C148-414F-BDE8-7D0160DAFFD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spimage2" descr=""/>
          <p:cNvPicPr/>
          <p:nvPr/>
        </p:nvPicPr>
        <p:blipFill>
          <a:blip r:embed="rId1"/>
          <a:stretch/>
        </p:blipFill>
        <p:spPr>
          <a:xfrm>
            <a:off x="4680000" y="159228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88" name="ispimage" descr=""/>
          <p:cNvPicPr/>
          <p:nvPr/>
        </p:nvPicPr>
        <p:blipFill>
          <a:blip r:embed="rId2"/>
          <a:stretch/>
        </p:blipFill>
        <p:spPr>
          <a:xfrm>
            <a:off x="3095640" y="1665360"/>
            <a:ext cx="1133640" cy="942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225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94080" y="279180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Флэш-карты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стоящее время существуют два вида модемов: аналоговые и цифровые (технолог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DS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оговые модемы более популярны из-за своей дешевизны и используются в основном для выхода в се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 только иногда (из-за невысокой (до 56 Кбит/с) скорости передачи данных) для связи с другими ПК. Цифровые же модемы довольно дорогие и используются для высокоскоростных соединений с сетью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либо для организации локальной сети на больших расстояниях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DS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одемы позволяют передавать и принимать информацию со скоростью до 5Мбит/с на расстоянии 5-7 км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-вывода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м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2CA7-59EB-4865-92BB-9206C0EB3C2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i2" descr=""/>
          <p:cNvPicPr/>
          <p:nvPr/>
        </p:nvPicPr>
        <p:blipFill>
          <a:blip r:embed="rId1"/>
          <a:stretch/>
        </p:blipFill>
        <p:spPr>
          <a:xfrm>
            <a:off x="2519280" y="2168640"/>
            <a:ext cx="1067040" cy="780840"/>
          </a:xfrm>
          <a:prstGeom prst="rect">
            <a:avLst/>
          </a:prstGeom>
          <a:ln w="0">
            <a:noFill/>
          </a:ln>
        </p:spPr>
      </p:pic>
      <p:pic>
        <p:nvPicPr>
          <p:cNvPr id="98" name="i4" descr=""/>
          <p:cNvPicPr/>
          <p:nvPr/>
        </p:nvPicPr>
        <p:blipFill>
          <a:blip r:embed="rId2"/>
          <a:stretch/>
        </p:blipFill>
        <p:spPr>
          <a:xfrm>
            <a:off x="5148360" y="2205000"/>
            <a:ext cx="1257120" cy="809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235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26200" y="3138840"/>
            <a:ext cx="20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01360" y="3080520"/>
            <a:ext cx="55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Аналоговый  модем)    (Цифровой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DS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моде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Т мониторы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е электронно-лучевой труб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ронно-лучевая трубка (кинескоп) — электровакуумный прибор, преобразующий электрические сигналы в свет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ронно-лучевые приборы — класс электровакуумных электронных приборов, предназначенных для преобразований информации, представленной в форме электрических или световых сигналов. В приборах используются сфокусированные потоки электронов, управляемые по интенсивности и положению в простран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ы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ито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5F47-6638-414D-AA79-62250739B03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2" descr=""/>
          <p:cNvPicPr/>
          <p:nvPr/>
        </p:nvPicPr>
        <p:blipFill>
          <a:blip r:embed="rId1"/>
          <a:stretch/>
        </p:blipFill>
        <p:spPr>
          <a:xfrm>
            <a:off x="3635280" y="1592280"/>
            <a:ext cx="1190880" cy="961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409200" y="257580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ЭЛТ-мони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s</cp:lastModifiedBy>
  <dcterms:modified xsi:type="dcterms:W3CDTF">2009-01-26T00:30:28Z</dcterms:modified>
  <cp:revision>92</cp:revision>
  <dc:subject/>
  <dc:title>Lecture Template </dc:title>
</cp:coreProperties>
</file>