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9.png" ContentType="image/png"/>
  <Override PartName="/ppt/media/image7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7751880" y="6381720"/>
            <a:ext cx="241200" cy="40968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8066160" y="6489720"/>
            <a:ext cx="718920" cy="214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324000" y="2673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324000" y="4113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2732040"/>
            <a:ext cx="8496000" cy="1312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3D</a:t>
            </a: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-графика и анимация в программе </a:t>
            </a: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3DSMa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4000" y="549360"/>
            <a:ext cx="8496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федр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К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.П.Васильк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сциплина «МУЛЬТИМЕДИА ТЕХНОЛОГИ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7280" y="4221000"/>
            <a:ext cx="849636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ля специальност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71900 "Информационные системы и технологии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24000" y="69228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1A398-8EC5-4DC4-8D5F-F9751AB69FB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77800" y="187920"/>
            <a:ext cx="333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Создание сплайнов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76720" y="1125360"/>
            <a:ext cx="0" cy="4896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248000" y="1011600"/>
            <a:ext cx="4608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ерните свиток Edit Geometry. И напротив кнопки Extrude ведите число 0,01. После этого у нас появился еще один ряд полигонов, но он слишком маленький, для того, чтобы увеличить его используйте инструмент Select and Non-uniform Scale по осям XY по фронтальному, относительно модели, виду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758960" y="323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870280" y="3840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639800" y="2844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13-33" descr=""/>
          <p:cNvPicPr/>
          <p:nvPr/>
        </p:nvPicPr>
        <p:blipFill>
          <a:blip r:embed="rId1"/>
          <a:stretch/>
        </p:blipFill>
        <p:spPr>
          <a:xfrm>
            <a:off x="287280" y="1125360"/>
            <a:ext cx="3745080" cy="27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324000" y="69228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679BA-9B71-4E5D-9C86-EE77FF58E12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77800" y="187920"/>
            <a:ext cx="333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Создание сплайнов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176720" y="1125360"/>
            <a:ext cx="0" cy="4896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248000" y="1195920"/>
            <a:ext cx="46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зультат раб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758960" y="323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870280" y="3840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467080" y="500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14-33" descr=""/>
          <p:cNvPicPr/>
          <p:nvPr/>
        </p:nvPicPr>
        <p:blipFill>
          <a:blip r:embed="rId1"/>
          <a:stretch/>
        </p:blipFill>
        <p:spPr>
          <a:xfrm>
            <a:off x="358920" y="1160640"/>
            <a:ext cx="3708360" cy="25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24000" y="83664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ABD3F-1585-4069-8840-0BEB86AAE6E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24720" y="5040"/>
            <a:ext cx="798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Преобразование двухмерных форм в трехмер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объекты: выдавлив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758960" y="323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870280" y="3840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6000" y="978120"/>
            <a:ext cx="864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нцип работы редактора выдавливания прост: создается некоторая сплайновая форма, которая используется для создания трехмерного объекта с заданным сечением. Такой метод очень удобен для моделирования предметов, имеющих постоянное поперечное сечение вдоль одной из ос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325760" y="464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64220" descr="Extrusion Editor"/>
          <p:cNvPicPr/>
          <p:nvPr/>
        </p:nvPicPr>
        <p:blipFill>
          <a:blip r:embed="rId1"/>
          <a:stretch/>
        </p:blipFill>
        <p:spPr>
          <a:xfrm>
            <a:off x="2087640" y="3357720"/>
            <a:ext cx="4680000" cy="26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24000" y="441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F76E2-30F8-4DEE-9185-9C0D6E1A884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4000" y="761400"/>
            <a:ext cx="8461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нцип построения сплайна по точкам мало чем отличается от создания кривой в любой программе для векторной графики. Для каждой точки можно выбрать один из трех типов излома, а форму линии можно корректировать с помощью касательных. На панели инструментов редактора выдавливания можно найти инструмент для замыкания кривой, а также кнопки для быстрого создания 2D-форм самых распространенных типов: звездочки, стрелки, значка "плюс" и прочих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37040" y="50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64221" descr="Extrusion Editor"/>
          <p:cNvPicPr/>
          <p:nvPr/>
        </p:nvPicPr>
        <p:blipFill>
          <a:blip r:embed="rId1"/>
          <a:stretch/>
        </p:blipFill>
        <p:spPr>
          <a:xfrm>
            <a:off x="1476360" y="4545000"/>
            <a:ext cx="5724720" cy="9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24000" y="441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CE7C3-7F0D-4D68-8D3A-B27EA751FFD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4000" y="690840"/>
            <a:ext cx="85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тобы увидеть результат работы с этим инструментом, нужно вернуться на этап работы с редактором сцен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179880" y="3587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64222" descr="Extrusion Editor"/>
          <p:cNvPicPr/>
          <p:nvPr/>
        </p:nvPicPr>
        <p:blipFill>
          <a:blip r:embed="rId1"/>
          <a:stretch/>
        </p:blipFill>
        <p:spPr>
          <a:xfrm>
            <a:off x="2303640" y="1700280"/>
            <a:ext cx="3947760" cy="30988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31640" y="5011560"/>
            <a:ext cx="871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ыдавливание можно также производить со скосом, что даст возможность получить несколько иной профиль конечной моде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324000" y="69228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D83C1-D57E-4777-8A6D-EA1535D78D9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840680" y="187920"/>
            <a:ext cx="510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Текстурная развертка в </a:t>
            </a: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3DSMa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758960" y="323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870280" y="3840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467080" y="500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962520" y="3657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spark2_2" descr=""/>
          <p:cNvPicPr/>
          <p:nvPr/>
        </p:nvPicPr>
        <p:blipFill>
          <a:blip r:embed="rId1"/>
          <a:stretch/>
        </p:blipFill>
        <p:spPr>
          <a:xfrm>
            <a:off x="431640" y="1484280"/>
            <a:ext cx="8209080" cy="434664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574560" y="871920"/>
            <a:ext cx="856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здание материала для текстурной разверт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324000" y="72864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F2A9C-9480-41FE-BADF-1E9C265055C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376440" y="302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584520" y="320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spark2_17" descr=""/>
          <p:cNvPicPr/>
          <p:nvPr/>
        </p:nvPicPr>
        <p:blipFill>
          <a:blip r:embed="rId1"/>
          <a:stretch/>
        </p:blipFill>
        <p:spPr>
          <a:xfrm>
            <a:off x="324000" y="944640"/>
            <a:ext cx="3816360" cy="168444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5006880" y="538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spark2_18" descr=""/>
          <p:cNvPicPr/>
          <p:nvPr/>
        </p:nvPicPr>
        <p:blipFill>
          <a:blip r:embed="rId2"/>
          <a:stretch/>
        </p:blipFill>
        <p:spPr>
          <a:xfrm>
            <a:off x="324000" y="3213000"/>
            <a:ext cx="3816360" cy="272592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4319640" y="946080"/>
            <a:ext cx="0" cy="4896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87280" y="2960640"/>
            <a:ext cx="849636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319640" y="979920"/>
            <a:ext cx="46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ъект для снятия разверт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356000" y="3211920"/>
            <a:ext cx="46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екстурная разверт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018520" y="187920"/>
            <a:ext cx="510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Текстурная развертка в </a:t>
            </a: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3DSMa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289080" y="76500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90DDC-1F52-4A3E-99CA-95BDB7F490D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572000" y="1125360"/>
            <a:ext cx="0" cy="4896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716360" y="2673360"/>
            <a:ext cx="403236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Создание и наложение текстур для фигуры полицейско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95280" y="1160640"/>
            <a:ext cx="403236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sMaxAnimation\Policmen\policmenwalk.a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sMaxAnimation\Policmen\policmenm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sMaxAnimation\Policmen\policmenwalkmaps.a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044720" y="187920"/>
            <a:ext cx="73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Создание анимированных объектов в </a:t>
            </a: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3DSMa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289080" y="76500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3754F-9DAA-441C-ABEB-B20E2A5CDA2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572000" y="1125360"/>
            <a:ext cx="0" cy="4896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680000" y="1592280"/>
            <a:ext cx="403236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Анимированный и озвученный 3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персонаж для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Web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, созданный методом анимирования по ключевым кадр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95280" y="1160640"/>
            <a:ext cx="403236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DsMaxAnimation\Klown\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klown3d.a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DsMaxAnimation\Klown\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klownsound.m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009800" y="187920"/>
            <a:ext cx="73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Создание анимированных объектов в </a:t>
            </a: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3DSMa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289080" y="76500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823D1-7B80-40FE-85DB-795089AC19C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0" y="1125360"/>
            <a:ext cx="0" cy="4896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680000" y="1197000"/>
            <a:ext cx="403236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араметрическая анимация  таяние и распа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Анимация связанных объек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Анимация столкнов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Анимирование части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Анимация иерархий       двуногие (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Bip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080" y="1160640"/>
            <a:ext cx="421164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DsMaxAnimation\melt.a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DsMaxAnimation\blast.a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DsMaxAnimation\position.a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3DsMaxAnimation\BiiiardReact.av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3DsMaxAnimation\collision.av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3DsMaxAnimation\fireworks52.av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3DsMaxAnimation\fire_particles.av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3DsMaxAnimation\FootStScelet.av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160720" y="187920"/>
            <a:ext cx="464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Разновидности </a:t>
            </a: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3D</a:t>
            </a: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 анимац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24000" y="69228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E2E7F-8D6B-4851-AEF1-0B2C82F2BD8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77800" y="187920"/>
            <a:ext cx="333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Создание сплайнов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24000" y="1198440"/>
            <a:ext cx="3708360" cy="25545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176720" y="1125360"/>
            <a:ext cx="0" cy="4896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48000" y="1124280"/>
            <a:ext cx="460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вый объект, который мы построи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удет сфер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здаём сферу радиусом 40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количество сегментов задаём равное... давайте попробуем 3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79D91-8C48-4093-A81B-757AF462190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24000" y="3860640"/>
            <a:ext cx="84960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Использование материалов презент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24000" y="69228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B3FE6-5A74-4034-82E2-12129DE5EC2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7800" y="187920"/>
            <a:ext cx="333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Создание сплайнов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176720" y="1125360"/>
            <a:ext cx="0" cy="4896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248000" y="1025280"/>
            <a:ext cx="4608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том окне, где соединяются продольные линии сферы нажмите на 4/5 влево от центральной точки сферы и продолжайте рисовать этот сплайн до конца. В итоге закройте его. Вот подробный рисуно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533600" y="198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3-33" descr=""/>
          <p:cNvPicPr/>
          <p:nvPr/>
        </p:nvPicPr>
        <p:blipFill>
          <a:blip r:embed="rId1"/>
          <a:stretch/>
        </p:blipFill>
        <p:spPr>
          <a:xfrm>
            <a:off x="216000" y="1174680"/>
            <a:ext cx="3708360" cy="25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24000" y="69228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6F792-D58F-452C-AF2F-5A380C0DC69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77800" y="187920"/>
            <a:ext cx="333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Создание сплайнов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176720" y="1125360"/>
            <a:ext cx="0" cy="4896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48000" y="1157040"/>
            <a:ext cx="4608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чки в сплайне делайте только тогда, когда под Вашим курсором стоит синий крестик, т.к. нам нужно чтобы сплайн выравнивался по вершинам сферы. В итоге в окне Perspective будет примерно такой видо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982880" y="24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4-333" descr=""/>
          <p:cNvPicPr/>
          <p:nvPr/>
        </p:nvPicPr>
        <p:blipFill>
          <a:blip r:embed="rId1"/>
          <a:stretch/>
        </p:blipFill>
        <p:spPr>
          <a:xfrm>
            <a:off x="216000" y="1160640"/>
            <a:ext cx="3889440" cy="26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24000" y="69228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0552E-E08B-4353-BA5B-2F71AB9317F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77800" y="187920"/>
            <a:ext cx="333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Создание сплайнов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176720" y="1125360"/>
            <a:ext cx="0" cy="4896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248000" y="1011600"/>
            <a:ext cx="4608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жмём на кнопку S (на клавиатуре), чтобы выключить выравнивание по точка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ведите в поле Number of copies число 1. Нажмите OK. В результате у нас будет уже не один, а два идентичных сплайна, но один из них будет немного отступать от сферы, а не прилегать вплотную как первы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758960" y="323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5-33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3852720" cy="26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324000" y="69228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07F70-C6F2-454A-BCF8-23216EA77F2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7800" y="187920"/>
            <a:ext cx="333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Создание сплайнов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176720" y="1125360"/>
            <a:ext cx="0" cy="4896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319640" y="986400"/>
            <a:ext cx="4824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теперь нам нужно сделать сплайны-мостики между этими двумя большими сплайнами. . Выбираем сплайн (теперь он единственный). Во вкладке Modify нажимаем на кнопку Vertex (в свитке Selection), на которой нарисовано четыре точки. И нажимаем на кнопку Create Line, которая находится в свитке Geometry. Теперь, нажмите на любую точку, на сплайне, а затем нажмите на точку, располагающеюся перед предыдущ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758960" y="323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562040" y="21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6-333" descr=""/>
          <p:cNvPicPr/>
          <p:nvPr/>
        </p:nvPicPr>
        <p:blipFill>
          <a:blip r:embed="rId1"/>
          <a:stretch/>
        </p:blipFill>
        <p:spPr>
          <a:xfrm>
            <a:off x="287280" y="1160640"/>
            <a:ext cx="3708360" cy="25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4000" y="69228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17720-BFD7-4D03-95CC-B4959B1F5F1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77800" y="187920"/>
            <a:ext cx="333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Создание сплайнов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176720" y="1125360"/>
            <a:ext cx="0" cy="4896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248000" y="1377360"/>
            <a:ext cx="460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ужно нарисовать промежуточные сплайны, а потом соединить их. Сплайны в дальнейшем будут создаваться кнопкой Create Line, а не Line Shape (читайте выше). Вот какие и где должны будут быть у Вас сплайн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8960" y="323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871640" y="215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7-333" descr=""/>
          <p:cNvPicPr/>
          <p:nvPr/>
        </p:nvPicPr>
        <p:blipFill>
          <a:blip r:embed="rId1"/>
          <a:stretch/>
        </p:blipFill>
        <p:spPr>
          <a:xfrm>
            <a:off x="216000" y="1160640"/>
            <a:ext cx="3816360" cy="26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24000" y="69228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DC3E7-E473-4B16-92BC-77DE6F4A403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77800" y="187920"/>
            <a:ext cx="333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Создание сплайнов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176720" y="1125360"/>
            <a:ext cx="0" cy="4896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248000" y="1122480"/>
            <a:ext cx="4608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ступим к созданию мостиковых сплайнов. Это гораздо проще. Начинайте их строить от самого маленького сплайна к самому крупному, попарно соединяя точки. Вот так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58960" y="323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927080" y="410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8-33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3852720" cy="26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24000" y="69228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1709A-260A-48E1-9041-B38A957FBE2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77800" y="187920"/>
            <a:ext cx="333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Создание сплайнов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176720" y="1125360"/>
            <a:ext cx="0" cy="4896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248000" y="1157760"/>
            <a:ext cx="460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местимся в стеках на Surface. И сконвертируем модель в Editable Mesh, нажав по ней правой кнопкой мыши и выбрал Convert To: / Convert To Editable Mesh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758960" y="323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870280" y="3840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10-33" descr=""/>
          <p:cNvPicPr/>
          <p:nvPr/>
        </p:nvPicPr>
        <p:blipFill>
          <a:blip r:embed="rId1"/>
          <a:stretch/>
        </p:blipFill>
        <p:spPr>
          <a:xfrm>
            <a:off x="216000" y="1160640"/>
            <a:ext cx="3851280" cy="31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/>
  <dc:language>en-US</dc:language>
  <cp:lastModifiedBy>User</cp:lastModifiedBy>
  <dcterms:modified xsi:type="dcterms:W3CDTF">2009-01-19T10:44:32Z</dcterms:modified>
  <cp:revision>107</cp:revision>
  <dc:subject/>
  <dc:title>Lecture Template </dc:title>
</cp:coreProperties>
</file>