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267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11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73204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омпьютерное видео на примере работы с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dobe After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280" y="422100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7A20-797B-44FA-9D39-C6DC3E85915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26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21440" cy="458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авление заготовок в проект и размещение его на монтажном ст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58560" y="18792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1. Импорт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185C-CF5D-4956-ADAE-11D0A747DB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мещение конца первого слоя (клипа) и начала втор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9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0" descr=""/>
          <p:cNvPicPr/>
          <p:nvPr/>
        </p:nvPicPr>
        <p:blipFill>
          <a:blip r:embed="rId1"/>
          <a:stretch/>
        </p:blipFill>
        <p:spPr>
          <a:xfrm>
            <a:off x="1079640" y="1449360"/>
            <a:ext cx="6480000" cy="485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58920" y="18792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2. Работа  со сло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9336-DB57-4EB9-BCD9-EEDCE9F1900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216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33" descr=""/>
          <p:cNvPicPr/>
          <p:nvPr/>
        </p:nvPicPr>
        <p:blipFill>
          <a:blip r:embed="rId1"/>
          <a:stretch/>
        </p:blipFill>
        <p:spPr>
          <a:xfrm>
            <a:off x="754200" y="9079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57240" y="487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35" descr=""/>
          <p:cNvPicPr/>
          <p:nvPr/>
        </p:nvPicPr>
        <p:blipFill>
          <a:blip r:embed="rId2"/>
          <a:stretch/>
        </p:blipFill>
        <p:spPr>
          <a:xfrm>
            <a:off x="754200" y="3500280"/>
            <a:ext cx="2305080" cy="2293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51280" y="944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905400"/>
            <a:ext cx="49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начнём добавление перехода. Перейдите на заклад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йдите пап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йте её. появятся названия переходов, их то мы и будем добавл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3453480"/>
            <a:ext cx="47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 линию продолжительности клипа, а затем 2 раза левой кнопкой клацни по названию перехо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Wip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7280" y="335772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6160" y="18792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3. Работа с перехо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2EBD-B3E7-4CF5-80EA-879F642833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гол с которого будет начинаться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глаживание границ перехода, установите его в значение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75040" y="43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37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653080" cy="44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78160" y="187920"/>
            <a:ext cx="46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4. Настройки пере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7E97-0C2C-4DF8-96D1-4EC6CB0EC9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86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40" descr=""/>
          <p:cNvPicPr/>
          <p:nvPr/>
        </p:nvPicPr>
        <p:blipFill>
          <a:blip r:embed="rId1"/>
          <a:stretch/>
        </p:blipFill>
        <p:spPr>
          <a:xfrm>
            <a:off x="324000" y="873000"/>
            <a:ext cx="3348000" cy="2509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8112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41" descr=""/>
          <p:cNvPicPr/>
          <p:nvPr/>
        </p:nvPicPr>
        <p:blipFill>
          <a:blip r:embed="rId2"/>
          <a:stretch/>
        </p:blipFill>
        <p:spPr>
          <a:xfrm>
            <a:off x="324000" y="3546360"/>
            <a:ext cx="3348000" cy="2511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392720" y="1052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64000" y="871560"/>
            <a:ext cx="442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кне предварительного просмотра виден клип 2 но его размеры не соответствуют, их можно поправить, для этого, клацните левой кнопкой мыши по линии продолжительности клипа 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3571920"/>
            <a:ext cx="442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кне предварительного просмотра появятся маркеры, ухватившись за них левой кнопкой мыши растяните границы видео клипа 2 на весь экран предварительного просмот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346536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32360" y="1879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5. Подгонка размеров кл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F448-5361-4D3E-B90E-D4371DB88C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17080" y="187920"/>
            <a:ext cx="59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6. Экспорт и сохранение фай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86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112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2720" y="1052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64000" y="101484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Экспорт фай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64000" y="368028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тановки выходного виде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280" y="346536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04920" y="20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46" descr=""/>
          <p:cNvPicPr/>
          <p:nvPr/>
        </p:nvPicPr>
        <p:blipFill>
          <a:blip r:embed="rId1"/>
          <a:stretch/>
        </p:blipFill>
        <p:spPr>
          <a:xfrm>
            <a:off x="539640" y="873000"/>
            <a:ext cx="3492720" cy="2484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87560" y="471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5960" y="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49" descr=""/>
          <p:cNvPicPr/>
          <p:nvPr/>
        </p:nvPicPr>
        <p:blipFill>
          <a:blip r:embed="rId2"/>
          <a:stretch/>
        </p:blipFill>
        <p:spPr>
          <a:xfrm>
            <a:off x="755640" y="3608280"/>
            <a:ext cx="29876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ECDC-C57C-45C2-B10D-D64686B31F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66536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зультат монтажа учебного фильма из двух клипов «Алиса в стране чудес» и «Машина времени» в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obe 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349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iceFabRaskadr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8000" y="223920"/>
            <a:ext cx="78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езультат работы в программе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Adobe 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5E70-8202-4297-8A30-F2BD0D1DB5F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04:21:30Z</dcterms:modified>
  <cp:revision>107</cp:revision>
  <dc:subject/>
  <dc:title>Lecture Template </dc:title>
</cp:coreProperties>
</file>