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png" ContentType="image/png"/>
  <Override PartName="/ppt/media/image7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2673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113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2732040"/>
            <a:ext cx="8496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3D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-графика и анимация в программе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3DS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7280" y="4221000"/>
            <a:ext cx="8496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7A40-72D4-47A4-A69C-91B3AA763C7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48000" y="1011600"/>
            <a:ext cx="460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ерните свиток Edit Geometry. И напротив кнопки Extrude ведите число 0,01. После этого у нас появился еще один ряд полигонов, но он слишком маленький, для того, чтобы увеличить его используйте инструмент Select and Non-uniform Scale по осям XY по фронтальному, относительно модели, вид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70280" y="38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39800" y="284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13-33" descr=""/>
          <p:cNvPicPr/>
          <p:nvPr/>
        </p:nvPicPr>
        <p:blipFill>
          <a:blip r:embed="rId1"/>
          <a:stretch/>
        </p:blipFill>
        <p:spPr>
          <a:xfrm>
            <a:off x="287280" y="1125360"/>
            <a:ext cx="3745080" cy="27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8ABA-F51C-42C1-AA30-0CACD0250F1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48000" y="119592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зультат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70280" y="38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67080" y="500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14-33" descr=""/>
          <p:cNvPicPr/>
          <p:nvPr/>
        </p:nvPicPr>
        <p:blipFill>
          <a:blip r:embed="rId1"/>
          <a:stretch/>
        </p:blipFill>
        <p:spPr>
          <a:xfrm>
            <a:off x="358920" y="1160640"/>
            <a:ext cx="370836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24000" y="836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FA41-21B7-4F56-959D-DDBEB4FE67D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720" y="5040"/>
            <a:ext cx="798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реобразование двухмерных форм в трехмер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объекты: выдавли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70280" y="38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6000" y="97812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цип работы редактора выдавливания прост: создается некоторая сплайновая форма, которая используется для создания трехмерного объекта с заданным сечением. Такой метод очень удобен для моделирования предметов, имеющих постоянное поперечное сечение вдоль одной из ос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25760" y="464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64220" descr="Extrusion Editor"/>
          <p:cNvPicPr/>
          <p:nvPr/>
        </p:nvPicPr>
        <p:blipFill>
          <a:blip r:embed="rId1"/>
          <a:stretch/>
        </p:blipFill>
        <p:spPr>
          <a:xfrm>
            <a:off x="2087640" y="3357720"/>
            <a:ext cx="468000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24000" y="441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EAFB-BBAD-4599-AED6-FA62F7A53F9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761400"/>
            <a:ext cx="84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цип построения сплайна по точкам мало чем отличается от создания кривой в любой программе для векторной графики. Для каждой точки можно выбрать один из трех типов излома, а форму линии можно корректировать с помощью касательных. На панели инструментов редактора выдавливания можно найти инструмент для замыкания кривой, а также кнопки для быстрого создания 2D-форм самых распространенных типов: звездочки, стрелки, значка "плюс" и прочих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37040" y="50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64221" descr="Extrusion Editor"/>
          <p:cNvPicPr/>
          <p:nvPr/>
        </p:nvPicPr>
        <p:blipFill>
          <a:blip r:embed="rId1"/>
          <a:stretch/>
        </p:blipFill>
        <p:spPr>
          <a:xfrm>
            <a:off x="1476360" y="4545000"/>
            <a:ext cx="572472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4000" y="441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710B-119F-41DA-BD20-D589E5FDA4D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69084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ы увидеть результат работы с этим инструментом, нужно вернуться на этап работы с редактором сце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79880" y="358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64222" descr="Extrusion Editor"/>
          <p:cNvPicPr/>
          <p:nvPr/>
        </p:nvPicPr>
        <p:blipFill>
          <a:blip r:embed="rId1"/>
          <a:stretch/>
        </p:blipFill>
        <p:spPr>
          <a:xfrm>
            <a:off x="2303640" y="1700280"/>
            <a:ext cx="3947760" cy="3098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31640" y="5011560"/>
            <a:ext cx="871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давливание можно также производить со скосом, что даст возможность получить несколько иной профиль конечной мод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10C6-75D5-42C5-8C51-28F075788B6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40680" y="18792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Текстурная развертка в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3DS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70280" y="38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67080" y="500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36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spark2_2" descr=""/>
          <p:cNvPicPr/>
          <p:nvPr/>
        </p:nvPicPr>
        <p:blipFill>
          <a:blip r:embed="rId1"/>
          <a:stretch/>
        </p:blipFill>
        <p:spPr>
          <a:xfrm>
            <a:off x="431640" y="1484280"/>
            <a:ext cx="8209080" cy="4346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74560" y="87192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здание материала для текстурной разверт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24000" y="728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9D6A-7269-465C-83A1-B35EA5E6B16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7644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8452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spark2_17" descr=""/>
          <p:cNvPicPr/>
          <p:nvPr/>
        </p:nvPicPr>
        <p:blipFill>
          <a:blip r:embed="rId1"/>
          <a:stretch/>
        </p:blipFill>
        <p:spPr>
          <a:xfrm>
            <a:off x="324000" y="944640"/>
            <a:ext cx="3816360" cy="1684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006880" y="538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spark2_18" descr=""/>
          <p:cNvPicPr/>
          <p:nvPr/>
        </p:nvPicPr>
        <p:blipFill>
          <a:blip r:embed="rId2"/>
          <a:stretch/>
        </p:blipFill>
        <p:spPr>
          <a:xfrm>
            <a:off x="324000" y="3213000"/>
            <a:ext cx="3816360" cy="2725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319640" y="94608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7280" y="29606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19640" y="97992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ект для снятия развер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56000" y="321192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кстурная разверт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18520" y="18792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Текстурная развертка в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3DS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435D-2536-4EF4-BA15-91416476400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16360" y="267336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Создание и наложение текстур для фигуры полицейс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5280" y="1160640"/>
            <a:ext cx="4032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sMaxAnimation\Policmen\policmenwalk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sMaxAnimation\Policmen\policmen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sMaxAnimation\Policmen\policmenwalkmaps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44720" y="187920"/>
            <a:ext cx="73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Создание анимированных объектов в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3DS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FF54-FCBD-47DE-AC2F-F2755135813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80000" y="159228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имированный и озвученный 3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персонаж для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eb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созданный методом анимирования по ключевым кадр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1160640"/>
            <a:ext cx="4032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DsMaxAnimation\Klown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klown3d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DsMaxAnimation\Klown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klownsound.m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09800" y="187920"/>
            <a:ext cx="73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Создание анимированных объектов в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3DS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CA68-7C31-4F56-8FC1-2E456F0A48A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0000" y="119700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араметрическая анимация  таяние и распа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имация связанных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имация столкнов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имирование част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имация иерархий       двуногие (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ip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080" y="1160640"/>
            <a:ext cx="421164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DsMaxAnimation\melt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DsMaxAnimation\blast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DsMaxAnimation\position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DsMaxAnimation\BiiiardReact.av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DsMaxAnimation\collision.av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DsMaxAnimation\fireworks52.av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DsMaxAnimation\fire_particles.av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DsMaxAnimation\FootStScelet.av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60720" y="187920"/>
            <a:ext cx="46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Разновидности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3D</a:t>
            </a: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 анимац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030D-392F-4415-A453-061D1F6F80D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1198440"/>
            <a:ext cx="3708360" cy="2554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48000" y="1124280"/>
            <a:ext cx="46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й объект, который мы постро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ет сф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ём сферу радиусом 4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количество сегментов задаём равное... давайте попробуем 3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99D7-64F0-4EAF-BF64-01F4D307E3C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CD75-6C32-49F3-A1B2-E1C05685207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48000" y="1025280"/>
            <a:ext cx="46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том окне, где соединяются продольные линии сферы нажмите на 4/5 влево от центральной точки сферы и продолжайте рисовать этот сплайн до конца. В итоге закройте его. Вот подробный рисун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33600" y="198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3-33" descr=""/>
          <p:cNvPicPr/>
          <p:nvPr/>
        </p:nvPicPr>
        <p:blipFill>
          <a:blip r:embed="rId1"/>
          <a:stretch/>
        </p:blipFill>
        <p:spPr>
          <a:xfrm>
            <a:off x="216000" y="1174680"/>
            <a:ext cx="370836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5A26-158C-4F9C-BDAF-1257B831981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48000" y="1157040"/>
            <a:ext cx="46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и в сплайне делайте только тогда, когда под Вашим курсором стоит синий крестик, т.к. нам нужно чтобы сплайн выравнивался по вершинам сферы. В итоге в окне Perspective будет примерно такой вид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8288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4-333" descr=""/>
          <p:cNvPicPr/>
          <p:nvPr/>
        </p:nvPicPr>
        <p:blipFill>
          <a:blip r:embed="rId1"/>
          <a:stretch/>
        </p:blipFill>
        <p:spPr>
          <a:xfrm>
            <a:off x="216000" y="1160640"/>
            <a:ext cx="388944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1238-3976-4713-8911-17D6F18298A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48000" y="1011600"/>
            <a:ext cx="460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жмём на кнопку S (на клавиатуре), чтобы выключить выравнивание по точк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ите в поле Number of copies число 1. Нажмите OK. В результате у нас будет уже не один, а два идентичных сплайна, но один из них будет немного отступать от сферы, а не прилегать вплотную как первы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5-33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85272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C319-3169-48E1-9427-6D9FF5E12DB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19640" y="986400"/>
            <a:ext cx="482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еперь нам нужно сделать сплайны-мостики между этими двумя большими сплайнами. . Выбираем сплайн (теперь он единственный). Во вкладке Modify нажимаем на кнопку Vertex (в свитке Selection), на которой нарисовано четыре точки. И нажимаем на кнопку Create Line, которая находится в свитке Geometry. Теперь, нажмите на любую точку, на сплайне, а затем нажмите на точку, располагающеюся перед предыдущ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6204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6-333" descr=""/>
          <p:cNvPicPr/>
          <p:nvPr/>
        </p:nvPicPr>
        <p:blipFill>
          <a:blip r:embed="rId1"/>
          <a:stretch/>
        </p:blipFill>
        <p:spPr>
          <a:xfrm>
            <a:off x="287280" y="1160640"/>
            <a:ext cx="370836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8DBD-A2CA-4904-A335-88C6EA95CAD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48000" y="1377360"/>
            <a:ext cx="46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нарисовать промежуточные сплайны, а потом соединить их. Сплайны в дальнейшем будут создаваться кнопкой Create Line, а не Line Shape (читайте выше). Вот какие и где должны будут быть у Вас сплай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7164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7-333" descr=""/>
          <p:cNvPicPr/>
          <p:nvPr/>
        </p:nvPicPr>
        <p:blipFill>
          <a:blip r:embed="rId1"/>
          <a:stretch/>
        </p:blipFill>
        <p:spPr>
          <a:xfrm>
            <a:off x="216000" y="1160640"/>
            <a:ext cx="381636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26C8-3BE2-4628-BF5B-5D61DCAD1A1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48000" y="1122480"/>
            <a:ext cx="460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ступим к созданию мостиковых сплайнов. Это гораздо проще. Начинайте их строить от самого маленького сплайна к самому крупному, попарно соединяя точки. Вот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27080" y="41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8-33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85272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AA26-67F2-4197-A2BD-141F1330E72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48000" y="1157760"/>
            <a:ext cx="46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местимся в стеках на Surface. И сконвертируем модель в Editable Mesh, нажав по ней правой кнопкой мыши и выбрал Convert To: / Convert To Editable Mesh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70280" y="38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10-33" descr=""/>
          <p:cNvPicPr/>
          <p:nvPr/>
        </p:nvPicPr>
        <p:blipFill>
          <a:blip r:embed="rId1"/>
          <a:stretch/>
        </p:blipFill>
        <p:spPr>
          <a:xfrm>
            <a:off x="216000" y="1160640"/>
            <a:ext cx="385128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9T10:44:32Z</dcterms:modified>
  <cp:revision>107</cp:revision>
  <dc:subject/>
  <dc:title>Lecture Template </dc:title>
</cp:coreProperties>
</file>