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Технология производства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6064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57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F177-7CF7-4E90-AF51-3A1DE6924A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8636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235640" cy="536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360" y="692280"/>
            <a:ext cx="72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сновные этапы производства мультимеди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04CE-79B5-4471-9783-AB5040B4D6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101772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78200" y="1160640"/>
            <a:ext cx="4465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's Edg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n Communic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ет собой интегрированную инструментальную среду для разработчика стиля проекта (instructional designer], которая автоматически создает такие документы, как исходные цели, конечные группы пользователей, навигационные карты, стратегии разрабо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ны и сцена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7440" y="2313000"/>
            <a:ext cx="4067280" cy="166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236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2560" y="26028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ограммы для разработ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A3DF-E5CA-4C9E-BA96-38C7BCBC4E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2360" y="1376280"/>
            <a:ext cx="4465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ьный сценари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57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2241720"/>
            <a:ext cx="7490160" cy="34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72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0160" y="2602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Разработка сцен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BA4A-4903-4532-ACAE-22C549A018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разец раскадровки при монтаже видеоклипа «Фабула Али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14520" y="18756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ска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DC1C-23F8-4A48-A661-BF6C9F0439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визуального и аудио материала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ЕПрез\МультТехнЕМЕ2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7640" y="187560"/>
            <a:ext cx="602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визуального и ауди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1517-F5DE-415F-95CD-BCE10D2CB5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субтитров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МультТехнЕМЕ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4680" y="15732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субт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080" y="9079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0756-AEB2-4C33-A9C6-65A6ADBA3F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0836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ление сценария, прототипы,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лизованные прототипы и модели в видеоклипах 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це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ПрототипыФаб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720" y="-28800"/>
            <a:ext cx="66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мультимедиа при разрабо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лектронного учебного пособия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1A3D-79CD-4857-B1DA-E03B18FEBC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53:15Z</dcterms:modified>
  <cp:revision>98</cp:revision>
  <dc:subject/>
  <dc:title>Lecture Template </dc:title>
</cp:coreProperties>
</file>