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24000" y="303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24000" y="447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3089160"/>
            <a:ext cx="8496000" cy="1312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Технология производства мультимеди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П.Василь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циплина «МУЛЬТИМЕДИА ТЕХНОЛОГ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386064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специальнос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71900 "Информационные системы и технологии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657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Занятие 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C9D0F-E4C2-4E97-8183-F6785830A02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86360" y="38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7235640" cy="5365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00360" y="692280"/>
            <a:ext cx="72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Основные этапы производства мультимеди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700AE-129E-4783-8DE0-DA2069CFFD6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35640" y="1017720"/>
            <a:ext cx="0" cy="5543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4308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78200" y="1160640"/>
            <a:ext cx="44658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er's Edge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рм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en Communication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едставляет собой интегрированную инструментальную среду для разработчика стиля проекта (instructional designer], которая автоматически создает такие документы, как исходные цели, конечные группы пользователей, навигационные карты, стратегии разработк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цены и сцена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17440" y="2313000"/>
            <a:ext cx="4067280" cy="1665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2360" y="83664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02560" y="260280"/>
            <a:ext cx="599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Программы для разработки прое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10D7A-9A9C-4021-9DFA-B6946E55BFF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4308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92360" y="1376280"/>
            <a:ext cx="446580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чальный сценарий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5752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26920" y="2241720"/>
            <a:ext cx="7490160" cy="3485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96720" y="83664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10160" y="260280"/>
            <a:ext cx="350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Разработка сценар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8908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CCF87-29DE-4E98-A33D-07A189B23E4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43280" y="1962000"/>
            <a:ext cx="40323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3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бразец раскадровки при монтаже видеоклипа «Фабула Алис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2349360"/>
            <a:ext cx="40323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МЕВидеоПрез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liceFabRaskadr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314520" y="187560"/>
            <a:ext cx="211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Раскадр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8908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805AF-B7CB-4FDB-8E57-2F9412216B0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08360" y="1700280"/>
            <a:ext cx="40323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3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Технологии подготовки визуального и аудио материала по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VD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дан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2168640"/>
            <a:ext cx="43563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МЕПрез\МультТехнЕМЕ2.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27640" y="187560"/>
            <a:ext cx="602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Подготовка визуального и аудио ря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8908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BC958-2883-440C-B995-5022874F059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08360" y="1700280"/>
            <a:ext cx="40323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3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Технологии подготовки субтитров по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VD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дан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9280" y="2168640"/>
            <a:ext cx="43563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МЕПрез\МультТехнЕМЕ.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04680" y="157320"/>
            <a:ext cx="359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Подготовка субтит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89080" y="9079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84690-163F-4A35-BEB6-987D66D5B77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08360" y="1962000"/>
            <a:ext cx="40323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3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оставление сценария, прототипы, 3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моде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еализованные прототипы и модели в видеоклипах и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3D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цен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2168640"/>
            <a:ext cx="43563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МЕПрез\ПрототипыФаб.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МЕВидеоПрез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VirtEnvNFabSnd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40720" y="-28800"/>
            <a:ext cx="661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Технологии мультимедиа при разработ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электронного учебного пособия 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751C0-64FA-4D15-9EC3-F1069A00F37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User</cp:lastModifiedBy>
  <dcterms:modified xsi:type="dcterms:W3CDTF">2009-01-19T04:53:15Z</dcterms:modified>
  <cp:revision>98</cp:revision>
  <dc:subject/>
  <dc:title>Lecture Template </dc:title>
</cp:coreProperties>
</file>