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ьютерное видео на примере работы с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1A6-EB89-474C-ACAD-4CA77B56ED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заготовок в проект и размещение его на монтажно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560" y="187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1. Импорт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8977-9FAE-451A-82B8-DC662784B0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щение конца первого слоя (клипа) и начала вт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0" descr=""/>
          <p:cNvPicPr/>
          <p:nvPr/>
        </p:nvPicPr>
        <p:blipFill>
          <a:blip r:embed="rId1"/>
          <a:stretch/>
        </p:blipFill>
        <p:spPr>
          <a:xfrm>
            <a:off x="1079640" y="144936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58920" y="1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2. Работа  со сло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B08D-45FF-4687-A896-2A9332D11F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216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3" descr=""/>
          <p:cNvPicPr/>
          <p:nvPr/>
        </p:nvPicPr>
        <p:blipFill>
          <a:blip r:embed="rId1"/>
          <a:stretch/>
        </p:blipFill>
        <p:spPr>
          <a:xfrm>
            <a:off x="7542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57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5" descr=""/>
          <p:cNvPicPr/>
          <p:nvPr/>
        </p:nvPicPr>
        <p:blipFill>
          <a:blip r:embed="rId2"/>
          <a:stretch/>
        </p:blipFill>
        <p:spPr>
          <a:xfrm>
            <a:off x="754200" y="3500280"/>
            <a:ext cx="2305080" cy="22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51280" y="944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90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чнём добавление перехода. Перейдите на закла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йдите пап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её. появятся названия переходов, их то мы и будем добав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453480"/>
            <a:ext cx="47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 линию продолжительности клипа, а затем 2 раза левой кнопкой клацни по названию перех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Wi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335772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1879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3. Работа с пере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1388-627E-4E5A-83C2-191F385301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гол с которого будет начинаться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глаживание границ перехода, установите его в значение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5040" y="43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53080" cy="44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8160" y="18792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4. Настройки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B7E2-5859-4B84-8A21-883436B76A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40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1" descr=""/>
          <p:cNvPicPr/>
          <p:nvPr/>
        </p:nvPicPr>
        <p:blipFill>
          <a:blip r:embed="rId2"/>
          <a:stretch/>
        </p:blipFill>
        <p:spPr>
          <a:xfrm>
            <a:off x="324000" y="3546360"/>
            <a:ext cx="3348000" cy="251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87156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виден клип 2 но его размеры не соответствуют, их можно поправить, для этого, клацните левой кнопкой мыши по линии продолжительности клипа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7192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появятся маркеры, ухватившись за них левой кнопкой мыши растяните границы видео клипа 2 на весь экран предварительного просмо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360" y="187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5. Подгонка размеров к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24D8-4FBB-48D9-B27F-E60DF43811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7080" y="1879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6. Экспорт и сохранение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4000" y="10148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орт фай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64000" y="3680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и выходного ви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492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6" descr=""/>
          <p:cNvPicPr/>
          <p:nvPr/>
        </p:nvPicPr>
        <p:blipFill>
          <a:blip r:embed="rId1"/>
          <a:stretch/>
        </p:blipFill>
        <p:spPr>
          <a:xfrm>
            <a:off x="539640" y="873000"/>
            <a:ext cx="3492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7560" y="47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596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49" descr=""/>
          <p:cNvPicPr/>
          <p:nvPr/>
        </p:nvPicPr>
        <p:blipFill>
          <a:blip r:embed="rId2"/>
          <a:stretch/>
        </p:blipFill>
        <p:spPr>
          <a:xfrm>
            <a:off x="755640" y="3608280"/>
            <a:ext cx="298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9D66-C0FB-4881-85BD-46B0D3F352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66536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зультат монтажа учебного фильма из двух клипов «Алиса в стране чудес» и «Машина времени» в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000" y="2239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езультат работы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903-5639-4BC0-9117-309A942BF9D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21:30Z</dcterms:modified>
  <cp:revision>107</cp:revision>
  <dc:subject/>
  <dc:title>Lecture Template </dc:title>
</cp:coreProperties>
</file>