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IllustrPres/&#1055;&#1088;&#1080;&#1083;&#1086;&#1078;&#1052;&#1084;&#1043;&#1088;/&#1084;&#1080;&#1089;&#1089;&#1080;&#1103;&#1053;2-&#1076;&#1080;&#1089;&#1090;&#1052;&#1052;.avi" TargetMode="External"/><Relationship Id="rId2" Type="http://schemas.openxmlformats.org/officeDocument/2006/relationships/hyperlink" Target="file:///../../../IllustrPres/&#1055;&#1088;&#1080;&#1083;&#1086;&#1078;&#1052;&#1084;&#1043;&#1088;/AD1200.AVI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новные понятия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532C-5F87-4E1C-B952-35E9B3DC0B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080" y="1449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20aa"/>
                </a:solidFill>
                <a:latin typeface="Arial"/>
              </a:rPr>
              <a:t>Заняти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История, носители и средства информации. Виртуальная реальность и навигационное пространств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1589-CBF3-4C27-B595-5E4914C2F5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5640" y="15922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ервый в мире виртуальный шлем Ивана Сазерленда"/>
          <p:cNvPicPr/>
          <p:nvPr/>
        </p:nvPicPr>
        <p:blipFill>
          <a:blip r:embed="rId1"/>
          <a:stretch/>
        </p:blipFill>
        <p:spPr>
          <a:xfrm>
            <a:off x="324000" y="249228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1773360"/>
            <a:ext cx="4032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а из первых моделей стереоо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9C2B-CAA7-46A5-AE59-EDD2958073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13-1-s" descr="Виртуальная перчатка"/>
          <p:cNvPicPr/>
          <p:nvPr/>
        </p:nvPicPr>
        <p:blipFill>
          <a:blip r:embed="rId1"/>
          <a:stretch/>
        </p:blipFill>
        <p:spPr>
          <a:xfrm>
            <a:off x="250920" y="184320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112536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уальная перчатка, к примеру, приобрела довольно большую популярность. На каждом ее пальце закреплены отдельные сенсоры или маркеры, а также имеется одно общее электромагнитное или ультразвуковое устройство для трекин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1E5F-CCE6-4CAE-8AEF-01318B79DE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35640" y="1341360"/>
            <a:ext cx="0" cy="529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3128" descr=""/>
          <p:cNvPicPr/>
          <p:nvPr/>
        </p:nvPicPr>
        <p:blipFill>
          <a:blip r:embed="rId1"/>
          <a:stretch/>
        </p:blipFill>
        <p:spPr>
          <a:xfrm>
            <a:off x="216000" y="1557360"/>
            <a:ext cx="4176720" cy="20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0016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" descr=""/>
          <p:cNvPicPr/>
          <p:nvPr/>
        </p:nvPicPr>
        <p:blipFill>
          <a:blip r:embed="rId2"/>
          <a:stretch/>
        </p:blipFill>
        <p:spPr>
          <a:xfrm>
            <a:off x="250920" y="393696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8600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3126" descr=""/>
          <p:cNvPicPr/>
          <p:nvPr/>
        </p:nvPicPr>
        <p:blipFill>
          <a:blip r:embed="rId3"/>
          <a:stretch/>
        </p:blipFill>
        <p:spPr>
          <a:xfrm>
            <a:off x="2340000" y="393876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53080" y="1378080"/>
            <a:ext cx="4032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хема «4+1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акустики по Logitech-овски презентабелен и аккура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854-90BE-4EEE-9211-5AB035082D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512640"/>
            <a:ext cx="4068720" cy="264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Виртуальная операционная в действии"/>
          <p:cNvPicPr/>
          <p:nvPr/>
        </p:nvPicPr>
        <p:blipFill>
          <a:blip r:embed="rId2"/>
          <a:stretch/>
        </p:blipFill>
        <p:spPr>
          <a:xfrm>
            <a:off x="216000" y="3465360"/>
            <a:ext cx="4068720" cy="274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29700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всеобъемлющая система интерактивной ВР — иммерсионная (англ. immerse — погружаться). Она обеспечивает как частичное, так и полное погружение пользователя в виртуальн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ная и смешанная реальность (augmented and mixed reality), т.е. реальность, дополненная виртуальной составляю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ые вирт. персонажи, диско жо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экранная проекция виртуальных м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ПерсДиско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Б24ВиртМКругП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виртуальной реаль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452-15A3-471E-B993-17178EEA62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в обучающем курсе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тивная вечеринка, круговая 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rXV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лКруг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8B06-8926-45B8-A696-530695E883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ая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технологии в разве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 видеопрезентация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МирРек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ПриложМмГр\миссияН2-дистММ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ПриложМмГр\AD1200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1459-D043-40BC-ACB4-84C0F42C99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эффекты в кино: останови пули, 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ьм целиком сгенерированный на компьютере: шр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работе с программами, CorelDr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mpA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matrix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shrek1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relDraw Int-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8E8F-CD90-495C-96BB-C2465D56F2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33:59Z</dcterms:modified>
  <cp:revision>96</cp:revision>
  <dc:subject/>
  <dc:title>Lecture Template </dc:title>
</cp:coreProperties>
</file>