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wmf" ContentType="image/x-wmf"/>
  <Override PartName="/ppt/media/image23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8;&#1079;&#1086;&#1073;&#1088;&#1072;&#1078;&#1077;&#1085;&#1080;&#1077;:Bezier_curve.sv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ezier_quadratic.pn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54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2588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ляющие мультимедиа-прилож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97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197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 и ани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F459-F190-4E04-BD37-2B17C44DA8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5640" y="1449360"/>
            <a:ext cx="0" cy="5111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8624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716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005" descr=""/>
          <p:cNvPicPr/>
          <p:nvPr/>
        </p:nvPicPr>
        <p:blipFill>
          <a:blip r:embed="rId1"/>
          <a:stretch/>
        </p:blipFill>
        <p:spPr>
          <a:xfrm>
            <a:off x="971640" y="1424160"/>
            <a:ext cx="2952720" cy="2041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51280" y="4290480"/>
            <a:ext cx="32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 деформации сферы при деформации реше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007" descr=""/>
          <p:cNvPicPr/>
          <p:nvPr/>
        </p:nvPicPr>
        <p:blipFill>
          <a:blip r:embed="rId2"/>
          <a:stretch/>
        </p:blipFill>
        <p:spPr>
          <a:xfrm>
            <a:off x="971640" y="4299120"/>
            <a:ext cx="2952720" cy="2046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43280" y="1590120"/>
            <a:ext cx="354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ейнер объемной деформации вокруг деформируемого 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0859-D606-4B30-90A7-F88B0A85FF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009" descr=""/>
          <p:cNvPicPr/>
          <p:nvPr/>
        </p:nvPicPr>
        <p:blipFill>
          <a:blip r:embed="rId1"/>
          <a:stretch/>
        </p:blipFill>
        <p:spPr>
          <a:xfrm>
            <a:off x="576360" y="512640"/>
            <a:ext cx="3744720" cy="2594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011" descr=""/>
          <p:cNvPicPr/>
          <p:nvPr/>
        </p:nvPicPr>
        <p:blipFill>
          <a:blip r:embed="rId2"/>
          <a:stretch/>
        </p:blipFill>
        <p:spPr>
          <a:xfrm>
            <a:off x="576360" y="3546360"/>
            <a:ext cx="37796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видео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AB24-C07D-4F13-AFCD-3AD9A79787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1665360"/>
            <a:ext cx="6485040" cy="4865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5280" y="1233360"/>
            <a:ext cx="56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Общий вид окна программы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Ulead Video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6F4E-71C8-4D48-90D3-C218CC0B28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4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3960" y="1142640"/>
            <a:ext cx="51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Библиотека заготовок, слои и компози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в программе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1952640"/>
            <a:ext cx="604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1197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F24C-92AD-450C-923F-B7A318D8E2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484280"/>
            <a:ext cx="4032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оздании такой презентации использовались анимационные заготовки 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итров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ol 3d Studio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видеофрагменты и субтитры из фильма «СФЕРА», анимации созданные во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ash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айды созданные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Poin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звуковой клип расслабляющей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Характеристики временной базы, компрессии и др. представлены на изображении сл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49360"/>
            <a:ext cx="4032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ResKont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6000" y="-216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Мультимедийные компоненты видеопрезентации курса английского ЕМЕ смонтированной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2744640"/>
            <a:ext cx="356400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ауди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DDF-95F7-4C0D-9EFC-2D66F49AC9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3440" y="1341360"/>
            <a:ext cx="0" cy="5112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080" y="37544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0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l2-1" descr=""/>
          <p:cNvPicPr/>
          <p:nvPr/>
        </p:nvPicPr>
        <p:blipFill>
          <a:blip r:embed="rId1"/>
          <a:stretch/>
        </p:blipFill>
        <p:spPr>
          <a:xfrm>
            <a:off x="611280" y="1521000"/>
            <a:ext cx="3619440" cy="2019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76560" y="54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gl2-2" descr=""/>
          <p:cNvPicPr/>
          <p:nvPr/>
        </p:nvPicPr>
        <p:blipFill>
          <a:blip r:embed="rId2"/>
          <a:stretch/>
        </p:blipFill>
        <p:spPr>
          <a:xfrm>
            <a:off x="611280" y="4400640"/>
            <a:ext cx="3848040" cy="1647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4720" y="1447920"/>
            <a:ext cx="396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идальный зву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40042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ый звуковой сиг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7EC6-3C13-4EB1-AE4E-D7DAE246BB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1000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50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98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l2-10" descr=""/>
          <p:cNvPicPr/>
          <p:nvPr/>
        </p:nvPicPr>
        <p:blipFill>
          <a:blip r:embed="rId1"/>
          <a:stretch/>
        </p:blipFill>
        <p:spPr>
          <a:xfrm>
            <a:off x="287280" y="1387440"/>
            <a:ext cx="4105440" cy="889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5116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gl2-11" descr=""/>
          <p:cNvPicPr/>
          <p:nvPr/>
        </p:nvPicPr>
        <p:blipFill>
          <a:blip r:embed="rId2"/>
          <a:stretch/>
        </p:blipFill>
        <p:spPr>
          <a:xfrm>
            <a:off x="468360" y="3753000"/>
            <a:ext cx="3816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A232-4BE1-4CF4-92DE-67FBBC7360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gl2-20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492360" cy="2682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gl2-21" descr=""/>
          <p:cNvPicPr/>
          <p:nvPr/>
        </p:nvPicPr>
        <p:blipFill>
          <a:blip r:embed="rId2"/>
          <a:stretch/>
        </p:blipFill>
        <p:spPr>
          <a:xfrm>
            <a:off x="539640" y="3537000"/>
            <a:ext cx="3421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CA41-8350-4935-A6F9-C3DCB3228B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l8-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092720" cy="5462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56040" y="29592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ий вид окна программы Sound Fo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96D6-F8CA-42EC-B6E5-38DAC382D4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екторная и растровая 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90DB-D7E0-4CD6-B426-16E4603187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45cb15e836677e949b72ace996ac052" descr="\mathbf{B}(t) = (1-t)^3\mathbf{P}_0 + 3t(1-t)^2\mathbf{P}_1 + 3t^2(1-t)\mathbf{P}_2 + t^3\mathbf{P}_3, \quad t \in [0,1]"/>
          <p:cNvPicPr/>
          <p:nvPr/>
        </p:nvPicPr>
        <p:blipFill>
          <a:blip r:embed="rId1"/>
          <a:stretch/>
        </p:blipFill>
        <p:spPr>
          <a:xfrm>
            <a:off x="647640" y="2457360"/>
            <a:ext cx="7956720" cy="34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00px-Bezier_curve.svg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46536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4560" y="1482840"/>
            <a:ext cx="86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параметрической форме кубическая кривая Безье (n =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писывается следующим 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465360"/>
            <a:ext cx="0" cy="28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3105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1080" y="3643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бическая кривая Без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9CD7-D8CF-48B9-9538-8DCB197A3B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вадратичной кривой Без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ривой Безье 4-й степ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Bezier_quadrati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57360"/>
            <a:ext cx="3564000" cy="225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ezier_forth" descr=""/>
          <p:cNvPicPr/>
          <p:nvPr/>
        </p:nvPicPr>
        <p:blipFill>
          <a:blip r:embed="rId3"/>
          <a:stretch/>
        </p:blipFill>
        <p:spPr>
          <a:xfrm>
            <a:off x="250920" y="3968640"/>
            <a:ext cx="4140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7A50-A159-4FD7-9F37-BE85679C90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2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0320" y="259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640" y="9108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римерный результат сильной компресси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6404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arrot_1" descr=""/>
          <p:cNvPicPr/>
          <p:nvPr/>
        </p:nvPicPr>
        <p:blipFill>
          <a:blip r:embed="rId1"/>
          <a:stretch/>
        </p:blipFill>
        <p:spPr>
          <a:xfrm>
            <a:off x="647640" y="803160"/>
            <a:ext cx="1714680" cy="3057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5912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nag-0050" descr=""/>
          <p:cNvPicPr/>
          <p:nvPr/>
        </p:nvPicPr>
        <p:blipFill>
          <a:blip r:embed="rId2"/>
          <a:stretch/>
        </p:blipFill>
        <p:spPr>
          <a:xfrm>
            <a:off x="3236760" y="191304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332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nag-0052" descr=""/>
          <p:cNvPicPr/>
          <p:nvPr/>
        </p:nvPicPr>
        <p:blipFill>
          <a:blip r:embed="rId3"/>
          <a:stretch/>
        </p:blipFill>
        <p:spPr>
          <a:xfrm>
            <a:off x="5091120" y="19684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000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002360" y="800280"/>
            <a:ext cx="1710000" cy="306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1672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4000" y="39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ерем на 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ну 8Х8 пикс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8520" y="39333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жем е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96000" y="353700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сред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исполь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ый 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360" y="389700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прим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си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ресси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2640" y="5140800"/>
            <a:ext cx="776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весь квадрат 8Х8 пикселей будет окрашен в этот(од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, что значительно уменьшит размеры файла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рессии.  И так, компрессия произойде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го квадрата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08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анимация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580D-4AA7-414B-A1E8-32A16AD987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1700280"/>
            <a:ext cx="0" cy="482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11434" descr=""/>
          <p:cNvPicPr/>
          <p:nvPr/>
        </p:nvPicPr>
        <p:blipFill>
          <a:blip r:embed="rId1"/>
          <a:stretch/>
        </p:blipFill>
        <p:spPr>
          <a:xfrm>
            <a:off x="754200" y="1536840"/>
            <a:ext cx="3313080" cy="2360520"/>
          </a:xfrm>
          <a:prstGeom prst="rect">
            <a:avLst/>
          </a:prstGeom>
          <a:ln w="0">
            <a:noFill/>
          </a:ln>
        </p:spPr>
      </p:pic>
      <p:pic>
        <p:nvPicPr>
          <p:cNvPr id="101" name="27246" descr=""/>
          <p:cNvPicPr/>
          <p:nvPr/>
        </p:nvPicPr>
        <p:blipFill>
          <a:blip r:embed="rId2"/>
          <a:stretch/>
        </p:blipFill>
        <p:spPr>
          <a:xfrm>
            <a:off x="826920" y="3890880"/>
            <a:ext cx="3203640" cy="2562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1479960"/>
            <a:ext cx="4319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906 году Стюардом Блактоном был создан короткий фильм «Забавные выражения веселых лиц» (Humorous Phases of Funny Faces). Автор выполнял на доске рисунок, фотографировал, стирал, а затем вновь рисовал, фотографировал и стир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0EBF-7853-4C3D-AF3C-6F35EFDD00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8640" y="39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.1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6985080" cy="5626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000" y="18900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кно программы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5D0C-F480-45ED-BA55-6EF99107EA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004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2.1" descr=""/>
          <p:cNvPicPr/>
          <p:nvPr/>
        </p:nvPicPr>
        <p:blipFill>
          <a:blip r:embed="rId1"/>
          <a:stretch/>
        </p:blipFill>
        <p:spPr>
          <a:xfrm>
            <a:off x="324000" y="2141640"/>
            <a:ext cx="84960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22520" y="33336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Временная диа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17A5-685A-4FF1-8B7B-AE03822530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468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.3" descr=""/>
          <p:cNvPicPr/>
          <p:nvPr/>
        </p:nvPicPr>
        <p:blipFill>
          <a:blip r:embed="rId1"/>
          <a:stretch/>
        </p:blipFill>
        <p:spPr>
          <a:xfrm>
            <a:off x="142920" y="1874880"/>
            <a:ext cx="8820000" cy="3282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20360" y="33336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окадровая 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28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1EE4-3FA1-435B-AEDC-CA45870BE7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5640" y="1089000"/>
            <a:ext cx="4032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нимация труд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американскую идиому 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на ниточке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233360"/>
            <a:ext cx="4032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Hard sound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PronSpo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AnimeonLine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-18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нимации разработанные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для  пособия по английскому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21T03:41:03Z</dcterms:modified>
  <cp:revision>99</cp:revision>
  <dc:subject/>
  <dc:title>Lecture Template </dc:title>
</cp:coreProperties>
</file>