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7751880" y="6381720"/>
            <a:ext cx="241200" cy="40968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8066160" y="6489720"/>
            <a:ext cx="718920" cy="214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324000" y="303372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324000" y="447372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3089160"/>
            <a:ext cx="8496000" cy="1312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Аппаратно-программное обеспечение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24000" y="549360"/>
            <a:ext cx="84960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федр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К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.П.Васильк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исциплина «МУЛЬТИМЕДИА ТЕХНОЛОГИ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3933720"/>
            <a:ext cx="84960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ля специальносте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71900 "Информационные системы и технологии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24000" y="141300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16000" y="0"/>
            <a:ext cx="8820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Занятие 1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2bec"/>
                </a:solidFill>
                <a:latin typeface="Arial"/>
              </a:rPr>
              <a:t>Аппаратная часть мультимедиа. МРС-стандарт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970AE-0E5B-4CC9-A22B-B59005F3F457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1628640"/>
            <a:ext cx="849600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28608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5.1" descr=""/>
          <p:cNvPicPr/>
          <p:nvPr/>
        </p:nvPicPr>
        <p:blipFill>
          <a:blip r:embed="rId1"/>
          <a:stretch/>
        </p:blipFill>
        <p:spPr>
          <a:xfrm>
            <a:off x="431640" y="1700280"/>
            <a:ext cx="4321440" cy="43210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4608360" y="1628640"/>
            <a:ext cx="0" cy="489600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88000" y="1665360"/>
            <a:ext cx="4032000" cy="46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лата для нелинейного видеомонтаж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roVIDEO DC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16000" y="0"/>
            <a:ext cx="8820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779AC-35B1-4E1B-81D8-4DED428577C4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24000" y="1628640"/>
            <a:ext cx="849600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503280" y="1125360"/>
          <a:ext cx="8136000" cy="5087880"/>
        </p:xfrm>
        <a:graphic>
          <a:graphicData uri="http://schemas.openxmlformats.org/drawingml/2006/table">
            <a:tbl>
              <a:tblPr/>
              <a:tblGrid>
                <a:gridCol w="4248000"/>
                <a:gridCol w="388800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етод компресс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-JPE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азрешение видео (для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AL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/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ECAM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68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6 24 би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Цифровой пото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 кадр/с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L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CAM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 кадр/с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TS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жатие для кадр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: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ТВ- системы на "ввод"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L SECAM NTS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идеовход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комп., 1 S-Vide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"Живое" окно на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G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т, только для предва-рительного просмотр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цифровка зву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Захват ТВ -кадра без компресс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ТВ-выв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L/NTS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Ши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C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ополнительные возможнос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цифровка звука и воспроиз-вед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екомендации по использованию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линейный монтаж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HS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качест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" name=""/>
          <p:cNvSpPr/>
          <p:nvPr/>
        </p:nvSpPr>
        <p:spPr>
          <a:xfrm>
            <a:off x="1406520" y="512640"/>
            <a:ext cx="66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Основные возможности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miroVIDEO DC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30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plus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24000" y="141300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16000" y="0"/>
            <a:ext cx="8820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Занятие 2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2bec"/>
                </a:solidFill>
                <a:latin typeface="Arial"/>
              </a:rPr>
              <a:t>Периферия для мультимедиа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AB753-EDB6-43D1-AAB2-B05978A0A5E6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24000" y="1628640"/>
            <a:ext cx="849600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08360" y="1628640"/>
            <a:ext cx="0" cy="489600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714680" y="3486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SR4_2" descr=""/>
          <p:cNvPicPr/>
          <p:nvPr/>
        </p:nvPicPr>
        <p:blipFill>
          <a:blip r:embed="rId1"/>
          <a:stretch/>
        </p:blipFill>
        <p:spPr>
          <a:xfrm>
            <a:off x="358920" y="2398680"/>
            <a:ext cx="3960720" cy="29019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4788000" y="1665360"/>
            <a:ext cx="4032000" cy="46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МУЛЬТИМЕДИЙНЫЕ ПРОЕКТО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ектор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VC DLA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01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16000" y="0"/>
            <a:ext cx="8820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C9928-5118-4009-BD21-189E87AF2B18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1628640"/>
            <a:ext cx="849600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35640" y="692280"/>
            <a:ext cx="0" cy="554328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50920" y="3213000"/>
            <a:ext cx="849636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ub_02-02" descr=""/>
          <p:cNvPicPr/>
          <p:nvPr/>
        </p:nvPicPr>
        <p:blipFill>
          <a:blip r:embed="rId1"/>
          <a:stretch/>
        </p:blipFill>
        <p:spPr>
          <a:xfrm>
            <a:off x="826920" y="498600"/>
            <a:ext cx="3060720" cy="267804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826920" y="3357720"/>
            <a:ext cx="2989440" cy="30765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4753080" y="585720"/>
            <a:ext cx="403200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240" indent="-32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появлением телевизоров на жидких кристаллах (ЖК) у разработчиков возникла остроумная мысль использовать ЖК-матрицу как основной элемент в прямом проектор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0000" y="3284640"/>
            <a:ext cx="403236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240" indent="-32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1996 г.появился аппарат, разработанный американской фирмой Texas Instruments и основанный на совершенно новом принципе DLP (Digital Light Processing - цифровая обработка светового потока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216000" y="0"/>
            <a:ext cx="8820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BDC4F-E449-491E-AA8D-EAD6B9500B9E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24000" y="1628640"/>
            <a:ext cx="849600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535640" y="692280"/>
            <a:ext cx="0" cy="554328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680000" y="585720"/>
            <a:ext cx="4211640" cy="57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240" indent="-32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Устройство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DMD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-кристал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40" indent="-32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DMD-матрица представляет собой кремниевую пластину с прямоугольным массивом размещенных на ее поверхности отражающих элементов. Каждый такой элемент содержит микрозеркал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ST1_1" descr=""/>
          <p:cNvPicPr/>
          <p:nvPr/>
        </p:nvPicPr>
        <p:blipFill>
          <a:blip r:embed="rId1"/>
          <a:stretch/>
        </p:blipFill>
        <p:spPr>
          <a:xfrm>
            <a:off x="216000" y="1739880"/>
            <a:ext cx="4176720" cy="302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E8367-2AB1-4343-9FC8-22830BC44742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24000" y="3860640"/>
            <a:ext cx="849600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Использование материалов презент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Использование данной презентации, может осуществляться только при условии соблюдения требований законов  РФ об авторском праве и интеллектуальной собственности, а также с учетом требований настоящего Заяв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резентация является собственностью авторов. Разрешается распечатывать копию любой части презентации для личного некоммерческого использования, однако не допускается распечатывать какую-либо часть презентации с любой иной целью или по каким-либо причинам вносить изменения в любую часть презентации. Использование любой части презентации в другом произведении, как в печатной, электронной, так и иной форме, а также использование любой части презентации в другой презентации посредством ссылки или иным образом допускается только после получения письменного согласия автор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2T06:20:01Z</dcterms:created>
  <dc:creator>S.V.Ryzhkov</dc:creator>
  <dc:description/>
  <dc:language>en-US</dc:language>
  <cp:lastModifiedBy>User</cp:lastModifiedBy>
  <dcterms:modified xsi:type="dcterms:W3CDTF">2009-01-16T07:33:17Z</dcterms:modified>
  <cp:revision>94</cp:revision>
  <dc:subject/>
  <dc:title>Lecture Template </dc:title>
</cp:coreProperties>
</file>