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3860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089160"/>
            <a:ext cx="8496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Авторские системы мультимеди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П.Василь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 «МУЛЬТИМЕДИА ТЕХН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4005360"/>
            <a:ext cx="8496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пециаль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1900 "Информационные системы и техноло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0D1F-000B-4CFE-8F83-779CCCB94D6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981000"/>
            <a:ext cx="849636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гласно классификации можно выделить восемь типов авторских систем, использующих следующие метафо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зы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ценарие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Scripting Languag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образительное управление потоком данных (Icon/Flow Contro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др (Fram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точку с языком сценариев (Card/Scriptin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ременную шкалу (Time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ерархические объекты (Hierarchical Objec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ипермедиа-ссылки (Hypermedia Linkag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еры (Taggin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400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25AA-6444-4766-A524-35FD2A4743C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981000"/>
            <a:ext cx="849636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которые из наиболее распространенных авторских сист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ormula Graphic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(www.formulagraphics.com/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GLpr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(www.gmedia.com/glpro/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yperMetho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(www.hypermethod.com/rus/index.htm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uthorwar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(www.macromedia.com/software/authorware/productinfo/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Boo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www.asymetrix.com/products/instructor.htm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onAuth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www.asymetrix.com/pr/new_iconauthor.htm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media Build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(www.mediachance.com/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Compil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www.rey.ee/webcompiler/rus/index.htm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er Maker HTM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 (http://bersoft.com/hmhtml/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B2DF-DA6E-4E2F-804C-D77CAC150DD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User</cp:lastModifiedBy>
  <dcterms:modified xsi:type="dcterms:W3CDTF">2009-01-19T11:32:24Z</dcterms:modified>
  <cp:revision>100</cp:revision>
  <dc:subject/>
  <dc:title>Lecture Template </dc:title>
</cp:coreProperties>
</file>