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The%20KMPLayer!/KMPlayer.exe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уководство по плэйе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4FC5-350C-41BA-A4E7-94EBF2EF1CC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НИМА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роигрывания видеоклипов, анимаций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айлов на которые делаются ссылки в презент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меется прилагаемый плэйе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he KMPLay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Просто перетаскивайте файл на значок плэй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KMPlay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В папке имеется так же автоинсталяционн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этого плэйер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kmp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Которая устанавливается при за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D651-2773-4B5C-90BC-20DD969C235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18:33Z</dcterms:modified>
  <cp:revision>98</cp:revision>
  <dc:subject/>
  <dc:title>Lecture Template </dc:title>
</cp:coreProperties>
</file>