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0494-D949-4BBC-8B51-B56861091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C517-08EF-46F0-9681-E7024FFDB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B179-FC15-45E5-AB60-37D85846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C7E0-C67F-476D-A09A-258FAFEF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E1E2-6C9F-4595-AA1F-DE592E27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AADE-0EBA-4578-93C4-D0E5C06B3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15B8-D379-4487-BE95-06370BCD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4C03-D71B-4A4A-80C4-C69709C9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2D07-F3BB-4CA6-88B2-8702CF45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3C88-8B2F-4EF2-B5CD-0CAD4C6B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F39-BCE3-40B1-8DFA-F36031B3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2CB3-2B02-4B9A-9CF7-17DCB90F1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24CD-D108-4A82-B6D3-9B0D0B3080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04675-2103-4838-91F9-57D8CCE673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сновную роль в системе электронной почты играют программы трех типов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ранспортные агенты (MTA - Mail Transport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агенты доставки (MDA - Mail Delivery Agen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ьзовательские агенты (MUA - Mail User Agent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F30A-50C1-42CD-8C99-8208E45060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и заголовков почтовых сообщений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ос DNS на предмет имени и адреса почтового сервера адресата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определение агента доставки для каждого сообщения и передача сообщения выбранному агенту доставки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управление очередью сообщений, отложенный и повторный вызов агентов доставки в случае невозможности немедленной доставки сообщения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возврат сообщений, которые по каким-либо причинам невозможно доставить по назначению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транспортн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B92D0-C117-4C41-9761-4441BA43CD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збор списков рассылки, пседонимов, переадресации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орвардинг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адресов в формат другой почтовой системы, если MTA функционирует как шлюз между двумя почтовыми системами (например, между Internet Mail и Sprint Mail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образование имени почтового домена отправителя (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маскарад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тановка служебных заголовков в сообщении, отражающих его маршрут и процесс обработ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нализ и преобразование адрес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70B7B-A213-44E0-A69C-B36B96D062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local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, находящийся на этом же компьютере; доставка производится, например, добавлением содержимого сообщения в определенный файл (</a:t>
            </a:r>
            <a:r>
              <a:rPr b="0" i="1" lang="ru-RU" sz="2500" spc="-1" strike="noStrike">
                <a:solidFill>
                  <a:srgbClr val="3333ff"/>
                </a:solidFill>
                <a:latin typeface="Tahoma"/>
              </a:rPr>
              <a:t>в Unix это файл /var/mail/почтовый_ящик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направлено на почтовый ящик в другом почтовом домене; доставка производится путем соединения с транспортным агентом на удаленном сервере с помощью протокола SMTP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ff"/>
                </a:solidFill>
                <a:latin typeface="Tahoma"/>
              </a:rPr>
              <a:t>prog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 - письмо должно быть обработано какой-либо программой; доставка производится вызовом этой программы, на вход которой подается содержимое письм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5715-1DB8-4C00-A701-A4F81B454BD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лучение сообщений с почтового сервера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езентация, хранение, удаление и каталогизирование почтовых сообщений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здание нового сообщения и передача его транспортному агенту для дальнейшей обработки и достав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Функции пользовательского аг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FF64D-DED3-499D-B1CB-24E00DE3A1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ОС Unix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транспортным аген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является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sendmail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тавшая де-факто стандартом MTA. Кроме того, в программу sendmail входит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агент доставки SM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Локальный агент доставки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 ключом "-d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UA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гут использовать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, pine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различны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MailTool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од X-Windows и други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качеств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POP-сервера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быть использована программ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qpop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2.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E026-04C3-499B-8AD0-454396C66D0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Почтовое сообщение состоит из заголовков и тела. В заголовках указываются адреса отправителя и получателя (получателей) и другая служебная информац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Тело представляет собой 7-битный текст. Спецификация MIME позволяет пересылать в теле сообщения двоичные данные и создавать сложные сообщения, состоящие из нескольких частей с данными различных типов. При пересылке сообщения через SMTP создается конверт, состоящий из адресов отправителя и получателя, передаваемых в SMTP-сеан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36DA-9D3D-4038-8EF0-C006E60955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rom: 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ply-To: real_ivanov@a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: sidorov@vvsu.ru, "Petr Petrov" &lt;petrov@vvsu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с: "Jonh Smith" &lt;john@smith.a.com&gt;, &lt;sidorenko@c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Bcc: "Fox Mulder" &lt;mulder@fbi.gov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ubject: Happy New Yea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Date: Sat, 15 Jan 2000 17:25:32 +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essage-ID: &lt;3.0.6.32.200623.007badf0@mail.a.ru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ceived: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Заголовки почтового 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A47DB-C32F-4F49-B7F3-D93B207539E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MI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Multipurpose Internet Mail Extensions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ецификации, определяющие дополнения в формате почтовых сообщений дл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ересылки восьмибитных текстов и полностью двоичных данны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ддержки сложных сообщений, состоящих из нескольких разделов (возможно, содержащих данные разных типов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Формирование и разбор сообщений в соответствии со спецификациями MIME производится пользовательскими почтовыми агент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M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5F8A-566B-4D8E-A3F7-B12F18CB97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HELO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host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AIL FROM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от_ко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CPT TO: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адрес_ко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VRFY</a:t>
            </a:r>
            <a:r>
              <a:rPr b="0" i="1" lang="ru-RU" sz="1800" spc="-1" strike="noStrike" baseline="-257000">
                <a:solidFill>
                  <a:srgbClr val="fafbfc"/>
                </a:solidFill>
                <a:latin typeface="Arial"/>
              </a:rPr>
              <a:t> email_адре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EXPN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email_add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SM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4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Электронная поч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C376F-7846-4B02-8A3B-CB1FF75F57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SE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имя_пользовате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SS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паро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LIST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ETR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LE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TOP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n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R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N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ые команды протокола POP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82C0-1181-451A-83A3-F0482B1DED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это транспортный почтовый агент (MTA) плюс агент доставки SMTP. Sendmail фактически является стандартным MTA для Unix и поставляется вместе с операционной систем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грамма send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FD1A-F843-44EF-A828-3CE87D8498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endmail состоит из программы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usr/lib/send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конфигурационного файла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sendmail.cf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файла псевдонимов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/aliase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других вспомогательных файлов, а также документов справочника man. Программа использует каталог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etc/mai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хранения конфигурационного и вспомогательных файлов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/var/spool/mqueu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ля очереди сообщений. Путь к каталогу очереди сообщений может варьироваться от системы к систем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479840" y="331488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1341000"/>
            <a:ext cx="84708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ем отличаются почтовые агенты: транспортный, доставки, пользовательски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разница между протоколами POP и SMTP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В чем состоят функции почтового сервер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Назовите составные части сложного почтового сообщения (текст с двумя файлами-приложениями)? Укажите ключевые для понимания формата сообщения заголовки и их знач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M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 функции программы sendmail. Обоснуйте необходимость наличия сложного конфигурационного файла у этой программ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Сравните sendmail с другими транспортными аген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Опишите, какие возможности имеет sendmail для ограничения (фильтрации) входящих и исходящих сообщений; какие критерии при этом использую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99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ff"/>
                </a:solidFill>
                <a:latin typeface="Tahoma"/>
              </a:rPr>
              <a:t>Что такое маскарадинг? Приведите ситуации, в которых он может понадобить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B.Costales, E.Alman. Sendmail. – O’Reily and Associates, In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Организация службы электронной почты в Интер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Почтовые агенты в различных 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email-сооб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Основные команды протокола SMTP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и </a:t>
            </a:r>
            <a:r>
              <a:rPr b="0" lang="en-US" sz="3200" spc="-1" strike="noStrike">
                <a:solidFill>
                  <a:srgbClr val="0066ff"/>
                </a:solidFill>
                <a:latin typeface="Tahoma"/>
              </a:rPr>
              <a:t>P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а sendmail: ее функции и составные ч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91EEF-D196-4AEA-985C-7259F77460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лужба электронной почты состоит из сети почтовых серверов, обслуживающих определенные доменные имена D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 серверах сортируются, обрабатываются и хранятся в ожидании получателя почтовые сообщ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еры пересылают сообщения между собой через Интернет по протоколу SMT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онечные пользователи работают либо непосредственно на серверах, либо чаще всего - за отдельными компьютер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7281-0002-4518-AC1F-99C11A28CBB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Работа электронной почты организуется путем взаимодействия агентов трех типов: транспортных, пользовательских и агентов достав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Транспортны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ыполняют роль центров по обработке и маршрутизации пис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Агенты доставки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работают в связке с траспортными агентами и осуществляют доставку и пересылку сообщений тем или иным специфическим спосо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Пользовательские агенты</a:t>
            </a:r>
            <a:r>
              <a:rPr b="0" lang="ru-RU" sz="2400" spc="-1" strike="noStrike">
                <a:solidFill>
                  <a:srgbClr val="3333ff"/>
                </a:solidFill>
                <a:latin typeface="Tahoma"/>
              </a:rPr>
              <a:t> взаимодействуют непосредственно с человек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81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ahoma"/>
              </a:rPr>
              <a:t>1</a:t>
            </a:r>
            <a:r>
              <a:rPr b="1" lang="ru-RU" sz="2400" spc="-1" strike="noStrike">
                <a:solidFill>
                  <a:srgbClr val="3333ff"/>
                </a:solidFill>
                <a:latin typeface="Tahoma"/>
              </a:rPr>
              <a:t>. Организация службы электронной почты в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648CA-51F6-43E4-AA81-3B31F503A7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Транспортны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T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маршрутизацию почтовых сообщений, то есть анализ и преобразование заголовков письма и выбор и вызов нужного агента достав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Агент доставки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D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осуществляющая доставку или пересылку почтового сообщения тем или иным специфическим способом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ользовательский агент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 (MUA)</a:t>
            </a:r>
            <a:r>
              <a:rPr b="0" lang="en-US" sz="26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- программа, предоставляющая конечному пользователю интерфейс для работы с почтовыми сообщениям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1DF3-6BA4-4851-B0A4-E4C1068D04C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домен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доменное имя, находящееся в правой части адреса электронной почт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очтовый ящик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левая часть адреса электронной почты, а также совокупность методов доставки и хранения почтовых сообщений внутри данного почтового доме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Локальный 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адрес электронной почты, находящийся в одном из почтовых доменов, обслуживаемых данным транспортным аген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Ключевые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5FEF-6522-4F2A-90D1-4385DC07DA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7280" y="1198440"/>
            <a:ext cx="8604360" cy="50022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MT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пересылки почтового сообщения транспортному агент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P-3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MAP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 сетевой протокол прикладного уровня, предназначенный для удаленного доступа пользовательского агента к почтовому ящику; по сравнению с POP-3 предлагает расширенный набор услуг для конечного пользова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Tahoma"/>
              </a:rPr>
              <a:t>Протоко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A940-BEA1-4745-B15C-5144C67570E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58920" y="94464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Организация и функционирование службы электронной поч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763640" y="1052640"/>
            <a:ext cx="5437440" cy="54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27:56Z</dcterms:modified>
  <cp:revision>238</cp:revision>
  <dc:subject/>
  <dc:title>Lecture Template </dc:title>
</cp:coreProperties>
</file>