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6EC-009C-4515-881B-C5A3368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EB23-A922-4279-BCAE-FAB1FCF1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C6F-5B8E-4948-AF1F-C9A76675F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6B46-172F-4DAD-93F9-682B1D4C0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14ED-2F71-489B-8602-F051D9A1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993FF-810D-463E-B09C-7E8A94C4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FE60-E9CF-447C-8451-001059AA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AF1-9C3F-4F40-93DC-94F60E2E1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BD52-1949-4422-9709-4683CE5FE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A017-32E4-452C-B99C-ED5C5788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B7F2-1514-4426-A306-5AB98B34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4C82A-AD37-4014-B960-7C171B26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B540-D765-4299-914D-177B263CF4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89AA-3171-4CAD-BFCE-C6FAEDE35A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утпа позволяют фильтровать входящий и исходящий трафик в сети в зависимости от адресов источника и приемника, номеров портов, протоколов и т.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8625-F6F2-4C66-91A9-FDF8422DA6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Для защиты целой сети от несанкционированных соединений можно подключить списки доступа на входном маршрутизаторе (шлюзе). Параметры любой входящей или исходящей дейтаграммы (адрес источника, места назначения, номера портов и т.п.) проверяется по списку и в зависимости от результата дейтаграмма либо пропускается маршрутизатором, либо уничтож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E7A01-5523-47F2-9DE5-E9730DFD18E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 строятся командой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 (режим доступен через команд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n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зате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configure termina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, каждый список определяется номером - числом в диапазоне 0-99. Синтаксис команды для ввода строки в список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адрес_источника  [маска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ов доступа маршрутизаторов C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552F8-87A6-4314-9774-8532D338BF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аннулирования списка доступа следует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 access-list номер_спис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применения списка доступа к дейтаграммам, проходящим через определенный интерфейс, нужно в режиме конфигурации этого интерфейса ввести коман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access_group номер_списка {in | out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E159-2DD5-4389-B57B-D87C0189E9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xtended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писки доступа, имеющие большее количество параметров и предлагающие более богатые возможности для контроля трафик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е списки доступа создаются также с помощью команд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ccess-li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режиме глобальной конфигурации, но номера этих списков лежат в диапазоне 100-1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8ABB-7D20-4DC9-B2BC-E87A6105DE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ширенный спискок для контроля TCP-соединени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номер_списка {deny | permit} tcp адрес_источника маска [оператор порт [порт]] адрес_назначения маска [оператор порт [порт]] [established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Маски для адреса источника и хоста назначения определяются так же, как и в стандартных списках. Оператор должен иметь одно из следующих значений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lt (строго меньше), gt (строго больше), eq (равно), neq (не равно), range (диапазон включительно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510F-486F-402B-B238-79B5A0692CF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Запретить установление соединений с помощью протокола telnet со всеми хостами сети 172.16.252.0 netmask 255.255.252.0 со стороны всех хостов Интернет, причем в обратном направлении все соединения должны устанавли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172.16.252.0  0.0.3.255 eq 23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deny tcp any 172.16.252.0  0.0.3.255 eq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100 permit tcp any 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BCFB-33C7-4165-BC2F-BF5C32C50C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access-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омер_спи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{deny | permit} icm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источни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аск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дрес_назнач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маск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[icmp-тип [icmp-код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гд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тип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, если требуется уточнение,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icmp-ко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ределяют ICMP-сообщение. Обычно в целях безопасности не пропускаются ICMP-сообщения типа Redirect (Изменить маршрут), т.е. сообщения типа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онтроль за ICMP сообщения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BEFE-171D-49D1-96E3-5B5DFCD61E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source-routing - использование опции протокола IP, позволяющей фиксировать маршрут дейтаграммы (опасность подстановки ложных адресов отправителя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ть окна для пропуска необходимого TCP-трафика, например, разрешить доступ из Интернет к WWW, email, FTP серверам предприятия, разрешить любой доступ в Интернет из сети предприят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оступ извне по порту 53/TCP (передача зоны вторичному серверу DNS) разрешить только вторичным серверам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95C3-EAD6-4C1B-B1CE-E64C8BB9186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есь остальной TCP-трафик запрети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ропуск любых пакетов, приходящих извне с адресом отправителя, принадлежащим внутренней сети (такие пакеты либо ошибочны, либо отправлены злоумышленник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все соединения по UDP кроме порта 53 (DNS) (UDP - протокол без установления соединения, поэтому его сложнее контролировать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претить передачу ICMP-сообщений типа Redirec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ahoma"/>
              </a:rPr>
              <a:t>Правила составления списков доступа на маршрутизат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8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Обеспечение безопасности в корпоративной се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, что происходит при подключении клиента к серверу удаленного доступа на базе Unix (протокол PPP). Какие программы запускаются, в какой последовательности, что они дел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Опишите принцип работы демона оболочек сервисов TCP wrapp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Сформулируйте основные угрозы безопасности корпоративной IP-с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Дайте сравнительные характеристики различных типов брандмауэ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ем отличаются стандартные и расширенные списки доступа на маршрутизаторах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ICS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Chapman and Zwicky. Building Internet Firewalls. – O’Reily and Associates, Inc.Huitema C. Routing in the Internet. – Prentice-Hall PTR, </a:t>
            </a: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Задача обеспечения безопасности в корпоратив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писки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Расширенные списки досту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Общие правила составления списков доступа на маршрутизат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75C1-8915-4EE9-8980-093DCBA36D8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Защита сети и данных - важная часть работы системного и сетевого администра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е методы защиты строятся на создании фильтров, анализирующих поступающие или исходящие данные с целью принятия решения о пропуске или блокировании трафика. Фильтры могут защищать целую сеть или отдельные сетевые сервисы какого-либо уз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дачи обеспечения безопас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D736B-DCDA-4687-A762-407514D3C01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стым средством защиты Unix-хоста от несанкционированного доступа является установка оболочек сервисов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 wrapp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 Принцип действия оболочек следующий: при поступлении запроса на соединение с каким-либо сетевым сервисом на хосте запускается не демон, обслуживающий этот сервис, а программа-оболочка, которая проверяет, разрешен ли сеанс с удаленным хостом, запросившим соединение, и в случае положительного результата запускает собственно требуемый 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Демон оболочек сервисов (TCP wrapp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86A6-B948-4F2C-A453-484D788CE3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запуска оболочек для тех или иных сервисов следует модифицировать файл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net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так, чтобы при обращении на порты указанных сервисов вместо стандартного демона запускался демон оболочки, а в качестве параметра ему передавался путь к стандартному демон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finger stream tcp nowait  nobody  /usr/sbin/tcpd  in.finge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/usr/sbin/tcpd контролирует доступ к сервису fi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9B87-F212-4CD4-A489-4B1F174157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и доступа, которыми пользуется демон оболочки, содержатся в файлах /etc/hosts.allow, /etc/hosts.deny. При возникновении попытки соединения адрес хоста ищется сначала в файле hosts.allow, если он найден, то соединение разрешается, иначе производится поиск в hosts.deny. В случае успешного поиска соединение запрещается, иначе разрешает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Списки доступа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в TCP wrapp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564D-10AF-42F4-A337-324E6653F68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ат файлов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allow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s.den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динаков, строка в файле имеет вид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ервисы:хосты[:действи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действие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ействие, выполняемое, в случае совпадения адреса хоста и требуемого сервиса с данной строкой (например, послать сообщение администратору); поле действие может отсутствова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оле хосты допускаются регулярное выражение *, операторы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L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XCEP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3DB9-33B4-45B0-9D71-1004812C4C6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allow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elnetd:194.84.124.0/255.255.255.0, 193.124.169.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tpd:ALL EXCEPT 1.0.0.0/255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ahoma"/>
              </a:rPr>
              <a:t>hosts.deny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LL: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7:22Z</dcterms:modified>
  <cp:revision>174</cp:revision>
  <dc:subject/>
  <dc:title>Lecture Template </dc:title>
</cp:coreProperties>
</file>