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DC8-4757-4DAB-9C39-F888AC83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6D3D-A54C-4085-A43C-125CA284B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6611-2B1F-453C-B3D3-31EB5168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2764-5BCB-4B4F-86D6-2DFA7AF5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75F3-1D2F-4F3F-A317-F40027A6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9180-0ADB-4E0B-BF1A-34AC66577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3CF8-1189-488B-A23A-0132F2E7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A88-138B-492A-95FD-6CE292BD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AAE-9B14-45A7-9C2D-617030BB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603A-64AA-4570-A9C5-ACCD82F7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626-36D5-4CD8-806E-4B322D97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4A49-D420-4455-850F-7D8C8B66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DE9A-B5C7-43FD-BFE5-C8FF5E73D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940520" y="6381720"/>
            <a:ext cx="879480" cy="4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65736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Владивостокский государственный университет экономики и сервиса</a:t>
            </a:r>
            <a:br>
              <a:rPr sz="2600"/>
            </a:b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Институт информатики инноваций и бизнес систем</a:t>
            </a:r>
            <a:br>
              <a:rPr sz="2600"/>
            </a:b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Предмет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ff"/>
                </a:solidFill>
                <a:latin typeface="Tahoma"/>
              </a:rPr>
              <a:t>«Технологии Интернет»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Руководитель: Сачко Максим Анатольевич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33ff"/>
                </a:solidFill>
                <a:latin typeface="Tahoma"/>
              </a:rPr>
              <a:t>старший преподаватель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A545B-D059-4723-B3A5-F55700B0AD0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ары имя-значение разделяются амперсандом. Алфавитно-цифровые символы и некоторые знаки препинания, не имеющие специального значения (тире, подчеркивание) передаются как есть. Остальные символы кодируются в виде "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%NM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", где NM - двузначный шестнадцатеричный код симво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500" spc="-1" strike="noStrike">
                <a:solidFill>
                  <a:srgbClr val="3333ff"/>
                </a:solidFill>
                <a:latin typeface="Tahoma"/>
              </a:rPr>
              <a:t>.../</a:t>
            </a: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prog?birthday=11%2F05%2F73&amp;name=John+Smith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birthday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"11/05/73 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"John Smith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51E2-F30E-47EE-A28C-43A0682FD25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AUTH_TYPE</a:t>
            </a: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 -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етод аутентифицирования, использованный для опознания пользователя. См. также REMOTE_USER и REMOTE_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LENGTH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-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ина данных запроса в байтах, переданных CGI-скрипту через стандартный вв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CONTENT_TYPE MIME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-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Тип данных за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DOCUMENT_ROO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Корневой каталог дерева документов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ATEWAY_INTERFAC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спользуемая версия CG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9DEF-497B-4963-95E0-89E44EDFBC6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ACCEP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Список MIME-типов данных, которые клиент может принять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FROM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Адрес электронной почты пользователя, сделавшего запрос (многие броузеры не передают такие данные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REFERER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URL документа, в котором находилась ссылка, вызвавшая настоящий запрос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HTTP_USER_AGENT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Броузер клиент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3333ff"/>
                </a:solidFill>
                <a:latin typeface="Tahoma"/>
              </a:rPr>
              <a:t>PATH_TRANSLATED</a:t>
            </a:r>
            <a:r>
              <a:rPr b="0" lang="ru-RU" sz="2700" spc="-1" strike="noStrike">
                <a:solidFill>
                  <a:srgbClr val="3333ff"/>
                </a:solidFill>
                <a:latin typeface="Tahoma"/>
              </a:rPr>
              <a:t> - PATH_INFO, преобразованное в полный путь в файловой системе сервер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30B7E-350D-46DD-A9A7-C744FEF66C5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Данные запроса, переданные в составе URL вслед за вопросительным знак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ADD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IP-адрес кли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H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DNS клиент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MOTE_USER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Аутентифицированное имя пользовател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REQUEST_METHOD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Метод запроса (GET, POST, HEAD и т.д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CRIPT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Виртуальный путь (например, /cgi-bin/program.pl) к исполняемому CGI-скрип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C4A43-2BFA-4CAB-816E-22C2BA68A3E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NAM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DNS-имя сервера или, при невозможности определить имя, его IP-адрес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OR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Номер порта 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PROTOCO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Имя и версия протокола, через который был сделан запрос (например, HTTP/1.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SERVER_SOFTWARE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- Тип и номер версии ПО веб-серве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еременные окружения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3B3A-0EFB-4F47-903E-B20C18DF85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оскольку все HTTP-запросы независимы друг от друга и на уровне протокола HTTP отсутствует понятие сеанса связи, CGI-программа запускается заново для каждого вновь поступившего запроса, неважно имеет ли он связь с предыдущими или нет. Таким образом, существует проблема сохранения состояния логического сеанса работы пользователя между его последовательными запросами к CGI-программе. Для этого используются: cookies, сохранение состояния в базу данных, сохранение в файл, скрытые поля.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Cook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0B138-C692-45B8-86AA-5ACE55633FD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cookies - сохранение на компьютере клиент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крытые поля - сохранение внутри формы, посылаемой клиенту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файле какого-либо формата на сервер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3333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охранение в параллельно работающей базе данны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Методы сохранения состоя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F05C8-4D1B-44F9-AE74-D40C19838B0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При программировании CGI-скриптов всегда следует помнить, что при каждом очередном запросе скрипт начинает свою работу сначала, не имея никакой предыстории взаимодействия пользователя с этим или другими скриптам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Программирование C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3BCA-7A47-439F-81B5-A4F511AA137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my $x;         # $x создается, равно un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0;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лож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;             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efined($x); # исти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$x=undef;    # опять unde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A178-4796-461E-B2EC-33BCA4FCEA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Списком (list) называется упорядоченная последовательность скалярных значений; порядковые номера (индексы) начинаются с нуля. Отдельно стоящие списки заключаются в скобк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                    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($x, "abc",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Обращение к элементу списка осуществляется путем указания индекса этого элемента в квадратных скобках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$y=($x, "abc", 15)[1];      # $y="abc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писки и масси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360" y="11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Тема</a:t>
            </a:r>
            <a:r>
              <a:rPr b="1" lang="ru-RU" sz="41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1" lang="en-US" sz="4100" spc="-1" strike="noStrike">
                <a:solidFill>
                  <a:srgbClr val="3333ff"/>
                </a:solidFill>
                <a:latin typeface="Tahoma"/>
              </a:rPr>
              <a:t>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50920" y="2421000"/>
            <a:ext cx="69134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CG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ff"/>
                </a:solidFill>
                <a:latin typeface="Tahoma"/>
              </a:rPr>
              <a:t>веб-программ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0723-B814-4CC6-88A2-F4527B4DAC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if 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условие ? выражение_да : выражение_нет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while(...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do {...} while (...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for (...;...;...;) {...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if ($a&lt;$b) { $a=$b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while ($a&lt;$b) { some_function($a);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a=$b if ($a&lt;$b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перато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6984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397E-8389-45AC-BEA9-3E62C5EDAC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$x=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@array=('c','d','e'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%hash=( a =&gt; "A", b=&gt; "B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print "this is \$x: \"$x\"; \nthis is element 2 of \@array: \"$array[2]\";\n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"and \$hash{a} is \"$hash{a}\"\n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ahoma"/>
              </a:rPr>
              <a:t>ВЫВОД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$x: 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this is element 2 of @array: "e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and $hash{a} is "A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5280" y="1484280"/>
            <a:ext cx="84708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Какие действия предпринимает сервер, если для обработки поступившего запроса требуется запуск CGI-программ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CGI-программа должна выдавать заголовок “Content-Type: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Что позволяет делать модуль mod_per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заключается основная особенность CGI-программи­рова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В чем состоит проблема сохранения состояния в CGI-программировании и какие существуют способы ее решения? Укажите их достоинства и недоста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-511920">
              <a:lnSpc>
                <a:spcPct val="80000"/>
              </a:lnSpc>
              <a:spcBef>
                <a:spcPts val="601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ff"/>
                </a:solidFill>
                <a:latin typeface="Tahoma"/>
              </a:rPr>
              <a:t>Почему язык Perl считается наиболее удобным для написания CGI-приложени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"/>
              </a:rPr>
              <a:t>Вопросы для самопроверк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66ff"/>
                </a:solidFill>
                <a:latin typeface="Tahoma"/>
              </a:rPr>
              <a:t>Рекомендуемая литература: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Мамаев М., Петренко С. Технологии защиты информации в Интернете. Специальный справочник. – СПб: "Питер"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UNIX для системных администраторов: Энциклопедия пользователя/ Пер.с англ. – Киев: ДиаСофт, 200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Д.Р.Левин, К.Бароди. Секреты Интернет. – К.: Диалектика, ICE,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100000"/>
              </a:lnSpc>
              <a:spcBef>
                <a:spcPts val="700"/>
              </a:spcBef>
              <a:buClr>
                <a:srgbClr val="3366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Tahoma"/>
              </a:rPr>
              <a:t>S.Spainbour, V.Quercia. Webmaster in a Nutshell. – O’Reily &amp; Associates, Inc.,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317340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ff"/>
                </a:solidFill>
                <a:latin typeface="Tahoma"/>
              </a:rPr>
              <a:t>Использование материалов презента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Использование данной презентации, может осуществляться только при условии соблюдения требований законов  РФ об авторском праве и интеллектуальной собственности, а также с учетом требований настоящего Заяв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349"/>
              </a:spcBef>
              <a:buClr>
                <a:srgbClr val="00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ff"/>
                </a:solidFill>
                <a:latin typeface="Tahoma"/>
              </a:rPr>
              <a:t>Презентация является собственностью авторов. Разрешается распечатывать копию любой части презентации для личного некоммерческого использования, однако не допускается распечатывать какую-либо часть презентации с любой иной целью или по каким-либо причинам вносить изменения в любую часть презентации. Использование любой части презентации в другом произведении, как в печатной, электронной, так и иной форме, а также использование любой части презентации в другой презентации посредством ссылки или иным образом допускается только после получения письменного согласия авто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512280"/>
            <a:ext cx="8229600" cy="6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66ff"/>
                </a:solidFill>
                <a:latin typeface="Tahoma"/>
              </a:rPr>
              <a:t>Содержание: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24000" y="1520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1) Интерфейс CGI, его задачи и фун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2) Исполнения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3) Структура URL и кодирование данных запро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4) Переменные окружения CG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5) Программирование CGI-скрип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ahoma"/>
              </a:rPr>
              <a:t>6) Введение в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A86EC-5C69-4779-A315-B074699C6F6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Интерфейс CGI представляет собой спецификацию взаимодействия веб-сервера и внешней программы, которую веб-сервер запускает для обработки запроса. CGI определяет каким образом данные, предоставленные клиентом в запросе, передаются программе, как программа возвращает сгенерированный HTML-контент серверу, и какие переменные окружения устанавливаются сервером при запуске програм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Основная концеп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0EAC-2030-42EE-9F8B-5D5A450F8F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Клиент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может запросить у веб-сервера как документ-файл с диска, так и документ, динамически формируемый некоторой внешней программой (как правило - в зависимости от данных, предоставленных пользователем при заполнении формы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Интерфейс CGI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представляет собой спецификацию взаимодействия веб-сервера и внешней программы, которую веб-сервер запускает для обработки запроса. (Внешняя программа, вне зависимости от своей природы, часто называется CGI-скриптом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3AB4-0AEA-4BE6-B853-22C31D27755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анные из заполненной клиентом HTML-формы могут передаваться на сервер двумя методами: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GE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OST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это определяется параметром method соответствующего тэга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&lt;form method=... action=...&gt;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В первом случа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(GET)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данные присоединяются после вопросительного знака в конец URL, указанной в параметре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ction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во втором случае - передаются в теле запроса - в секции, предназначенной для данных (следует после всех заголовков и пустой строки).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BC5D-DCFA-4FBD-9E52-999C7898180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Content-Type: text/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BODY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1&gt;Hello, world&lt;/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/BODY&gt;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&lt;HTML&gt;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Например, вывод CGI-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F4C2-68AB-4B7A-BFAD-377EA22AA9C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виртуальный/путь/ /путь/к/каталогу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ScriptAlias /cgi-bin/ /usr/local/www/cgi-bin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Это означает, что для обработки запроса URL вида http://your.server.com/cgi-bin/dir/script будет взят не файл script из каталога DocumentRoot/cgi-bin/dir/, а запущена программа /usr/local/www/cgi-bin/dir/scri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ahoma"/>
              </a:rPr>
              <a:t>Конфигурирование сервера Ap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-133200" y="6308640"/>
            <a:ext cx="1041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A5350-2E9D-4F88-9483-791F6A44773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461440" cy="5148000"/>
          </a:xfrm>
          <a:prstGeom prst="rect">
            <a:avLst/>
          </a:pr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Для работы CGI-программ важное значение имеют част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URL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, называемые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и </a:t>
            </a:r>
            <a:r>
              <a:rPr b="1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Рассмотрим запрос с URL вида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:</a:t>
            </a: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3333ff"/>
                </a:solidFill>
                <a:latin typeface="Tahoma"/>
              </a:rPr>
              <a:t>http://my.server.com/cgi-bin/dir/prog/a/b?A=1&amp;B=qwer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PATH_INFO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en-US" sz="2800" spc="-1" strike="noStrike">
                <a:solidFill>
                  <a:srgbClr val="3333ff"/>
                </a:solidFill>
                <a:latin typeface="Tahoma"/>
              </a:rPr>
              <a:t>/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/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ff"/>
                </a:solidFill>
                <a:latin typeface="Tahoma"/>
              </a:rPr>
              <a:t>QUERY_STRING</a:t>
            </a:r>
            <a:r>
              <a:rPr b="0" lang="en-US" sz="2800" spc="-1" strike="noStrike">
                <a:solidFill>
                  <a:srgbClr val="3333ff"/>
                </a:solidFill>
                <a:latin typeface="Tahoma"/>
              </a:rPr>
              <a:t> - </a:t>
            </a:r>
            <a:r>
              <a:rPr b="0" i="1" lang="ru-RU" sz="2800" spc="-1" strike="noStrike">
                <a:solidFill>
                  <a:srgbClr val="3333ff"/>
                </a:solidFill>
                <a:latin typeface="Tahoma"/>
              </a:rPr>
              <a:t>A=1&amp;B=qw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8920" y="692280"/>
            <a:ext cx="8496000" cy="7128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50000">
                <a:srgbClr val="b2b2b2"/>
              </a:gs>
              <a:gs pos="100000">
                <a:srgbClr val="3333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Структура UR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6:20:01Z</dcterms:created>
  <dc:creator>S.V.Ryzhkov</dc:creator>
  <dc:description/>
  <dc:language>en-US</dc:language>
  <cp:lastModifiedBy>1519-sachko</cp:lastModifiedBy>
  <dcterms:modified xsi:type="dcterms:W3CDTF">2009-01-13T03:31:57Z</dcterms:modified>
  <cp:revision>192</cp:revision>
  <dc:subject/>
  <dc:title>Lecture Template </dc:title>
</cp:coreProperties>
</file>