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13B-631D-4AA3-A956-A1200DDF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233-F396-4253-975D-E1D3E6AA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678-2F68-4EB2-AD29-677FAD45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AB1-FAB2-4F59-A10F-2BA64997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A9C-C9B8-4FEC-A4F0-CEA2BEE2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7FA-A089-425C-B2E3-2776BEEF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A49-0FB1-45F5-A16C-4E19CF2F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C4B-2183-4097-86BE-555C2232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AD4-B969-4487-8421-23554888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6F2-CCA4-4412-9B62-94CD0C99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9AA-436D-4760-8978-22CCFB48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F71-5F1D-4F1F-83A1-BCA626F4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650F-50A0-4753-A456-346DBF30E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3F63-4677-4B6D-AD65-3D310CEF34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ервер состоит из программы-демона dhcpd, ее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dhcpd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pd.le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в который сервер заносит информацию о выделенных адре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работы с сервером необходимо создать конфигурационный файл, после чего запустить программу-дем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 сервер под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5A1D-6F06-49E9-A32D-4082A06BFD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конфигурационном файле определяются пространства IP-адресов, назначаемых клиентам, дополнительная информация по конфигурации стека TCP/IP, передаваемая клиентам, а также описываются хосты, которым назначаются фиксированные IP-адреса (по MAC-адресу хост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ACE6-A47C-4DC4-9EE5-983DCF0DBD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каждой обслуживаемой сервером IP-сети создается отдельный раздел, где указыв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etma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иапазон(ы) выдаваемых IP-адресов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rang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ремя по умолчанию, на которое выдается адрес, в секундах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efault-lease-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ксимальное время, на которое может быть выдан адрес, если хост запрашивает конкретное время, в секундах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x-lease-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Конфигурационный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27D7-FED0-47AF-ADDB-3DD84F1581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, передаваемая клиенту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ubnet-ma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широковещательный адрес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broadcast-addres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а шлюзов (для маршрута по умолчанию)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rout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мя домена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-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а DNS-серверов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-name-serv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ополнительные опции (op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464A-866B-41D0-A398-A5A8196C79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subnet 194.84.124.0 netmask 255.255.255.0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range 194.84.124.100 194.84.124.12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range 194.84.124.200 194.84.124.25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default-lease-time 600 max-lease-time 720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subnet-mask 255.255.255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broadcast-address 194.84.124.25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routers 194.84.124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domain-name-servers 194.84.124.4, 193.232.88.1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3. Пример конфигу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2280-378B-45F2-8194-7E8B2293AB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host ocean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hardware ethernet 08:00:26:4c:54: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fixed-address 194.84.124.2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domain-name-servers 194.84.124.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Пример раздела конфигурации хо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4967-7E08-41A5-973D-286BBD9642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HCP клиент под Unix (от Internet Software Consortium) состоит из программ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lien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dhclient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lient.le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который клиент заносит информацию о выданных ему адресах и настрой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-клиент под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49E7-F5A9-475F-8CA1-1829AB36B1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try 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ериод повторных попыток соединения с сервером в случае неудачи; измеряется в секундах, по умолчанию - 300 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est op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запросить у сервера передачу опции option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ire op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в случае, если сервер не передал опцию option, отвергнуть конфигурацию, предложенную серве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nd option declara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ередать серверу значени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eclara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пци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иректив конфигурационного 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8B60-368A-4234-B8C5-EE93E7485C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default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установить значение declaration для опции option, если сервер не передал эту опцию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supersede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установить значение declaration для опции option, независимо от того, что передал сервер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prepend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добавить значение для опции к значению, переданному сервером, поставив свое значение первым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append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добавить значение для опции к значению, переданному сервером, поставив свое значение последни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иректив конфигурационного 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чем нужно динамическое распределение IP-адрес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кажите преимущества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инамического распределения IP-адресов и недостатки по сравнению со статичес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функции выполняет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м образом происходит конфигурирование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 и клиен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данные передает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 клиен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1) Протокол DH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2) DHCP-клиенты и сер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3) Конфигур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C578-0456-4858-9E99-DA0F5BF48A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Цель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научиться настраивать сервер DHC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Основная концепция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DHCP-сервер, получая запрос на конфигурацию от хоста, предлагает ему настройки стека TCP/IP. Эти настройки могут быть как индивидуальными для хоста, так и создаваться динамически с учетом свободных в настоящий момент ресурсов (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IP-адресов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). Настройки могут выдаваться сервером в пользование хосту на опреде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DHCP-серв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B236-2CD7-4B08-AD9A-F57534D266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Использование протокола DHCP в сети предприятия может быть вызвана необходимостью автоматизировать конфигурирование большого числа пользовательских рабочих станций для работы с протоколами TCP/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Также важно, что при переносе компьютера из одной сети в другую не требуется ручного изменения его настро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. Протокол DH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38DE-DF52-4A52-B55E-2DD103600C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стройки стека TCP/IP передаются рабочей станции сервером DHCP после того, как станция во время своей загрузки выдаст широковещательный запрос параметров своей конфигурации, на который и откликается сервер. Данные конфигурации включают в себя IP-адрес рабочей станции, а также (опционально) адреса маршрутизатора (шлюза) и сервера DNS, имя домена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7FD3-9B6D-4C65-9E13-B7D72D2FCB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ервер получает запрос и откликается с предложением об аренде (lease), содержащим конфигурационные данные для х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Хост может получить предложения от нескольких DHCP-серверов, работающих в его сети. Хост, на основании настроек своего DHCP-клиента, решает принять предложение определенного сервера (или принять первое поступившее предложение, если никаких настроек н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Хост отвечает выбранному серверу сообщением "выбор". Сервер подтверждает выдачу аренды; после получения подтверждения хост конфигурирует себя в соответствии с полученными дан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Взаимодействия сервера и кли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A9CC-D0BF-4A5F-897C-A2CD83D048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дин DHCP-сервер может работать в нескольких сетях. Для этого в каждой сети должен быть сконфигурирован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P-rela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ециальный посредник, который будет ретранслировать сообщения между сервером и хостом, запросившим конфигур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Без посредника DHCP-сервер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не услышит запросов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так как широковещательные IP-дейтаграммы не выходят за пределы IP-се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-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F3B5-F942-430E-8E09-BAEE3766D1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P-адрес, присваиваемый рабочей станции, может браться сервером из пространства специально для этого выделенных адресов (берется первый свободный адрес). В этом случае у рабочей станции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нет постоянного IP-адрес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P-адрес, присваиваемый конкретной рабочей станции, может быть и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фиксированным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, для этого надо знать MAC-адрес (Ethernet-адрес) рабочей станции и соответствующим образом настроить серв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5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0:53Z</dcterms:modified>
  <cp:revision>177</cp:revision>
  <dc:subject/>
  <dc:title>Lecture Template </dc:title>
</cp:coreProperties>
</file>