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2DFE-0BFE-4033-B364-B04B09158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24C9-EA47-4EE7-8BD0-47AE996D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C3D9-57F1-4CF6-95CB-438083A66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4427-89B9-404E-A942-ED89E205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B51-A1DF-46FE-840C-E6AEE3A4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45A0-D496-4114-BE36-C8AA0E5C7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5717-AE99-467F-8059-F9A39DBC1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0712-62AA-41FF-AB10-E6DC4690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E5D1-B52A-4BE1-9277-C7C03348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0734-37A2-486C-85DF-BC2964B4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8162-5CA4-4178-83F8-901585B2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A137-C27F-4FE2-AC96-A018DFF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B49B-DC42-4143-AC0B-E8C2046512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7D1A-77D6-4405-AB1A-FFF2CE8BC4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Служба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редставляет собой иерархическую структуру серверов, где каждый сервер отвечает за определенную зону - т.е. свою часть дерева доменных имен, хранит соответствующие базы данных и отвечает на запросы. При этом вышестоящие по дереву серверы имеют информацию об адресах нижестоящих серверов, что обеспечивает связность дер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A733D-0AFD-4F70-9D45-5DF9927930C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Различие между доменом и зоной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поддерево дерева доменных им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Зон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это часть дерева, за которую отвечает тот или иной DNS-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957CA-9A59-4514-9874-669023D6C6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При ручном конфигурировании DNS-клиента указываютс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имя хо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домен, в котором находится данный хост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•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 сервера DNS, обслуживающего этот доме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0"/>
            <a:ext cx="84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87280" y="1376280"/>
            <a:ext cx="39909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EB4B3-0E06-4AD7-85BB-3743C6816E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7559" r="0" b="0"/>
          <a:stretch/>
        </p:blipFill>
        <p:spPr>
          <a:xfrm>
            <a:off x="5327640" y="1376280"/>
            <a:ext cx="3495600" cy="3962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58920" y="0"/>
            <a:ext cx="84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3887640" y="1989000"/>
            <a:ext cx="3848400" cy="43340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971640" y="2529000"/>
            <a:ext cx="311472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C98C-FE35-42B2-AB96-60C372A7166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ahoma"/>
              </a:rPr>
              <a:t>Ручное конфигурирование. Un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Unix имя домена и адрес DNS-сервера указываются в файл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resolv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формат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 vvsu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ameserver 212.16.195.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 сервера указывается исключительно в числовом ви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2089-FE3E-4297-97F1-9D7ED2E2CB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зменения в базу данных DNS могут быть внесены только на первичном сервер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служивания клиентских запросов первичный и вторичные серверы идентичны, все они выдаю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вторитативны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тветы. Рекомендуется, чтобы первичный и вторичные серверы находились в разных сетях - для увеличения надежности обработки запросов. Серверы DNS не обязаны находиться в том домене, за который они отвеч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D605-4597-4FBD-A8F1-B08828EB154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тная зона предназначен для проведения обратного DNS-преобразования, т.е. "IP-адрес  в доменное имя"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ехнология этого преобразования, использующего специальный дом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   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n-addr.arp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 учетом, что всякое DNS-преобразование представляет собой поиск узла в дереве и возврат информации, связанной с этим уз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Обратная з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0187-ECE7-4119-A1F3-C7FC063E5B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ространство IP-адресов, записанных в десятично-точечной нотации, также представляет собой дерево (точнее, лес из 256 деревьев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личие от иерархии доменных имен од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доменном имени узлы, более близкие к корню, записываются справа, а в IP-адресе - сле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55B8-3738-466F-B598-53D8955AF1B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33760" y="318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n-addr" descr="Fig 2.2"/>
          <p:cNvPicPr/>
          <p:nvPr/>
        </p:nvPicPr>
        <p:blipFill>
          <a:blip r:embed=""/>
          <a:stretch/>
        </p:blipFill>
        <p:spPr>
          <a:xfrm>
            <a:off x="358920" y="907920"/>
            <a:ext cx="8426160" cy="5364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23040"/>
            <a:ext cx="9144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ff"/>
                </a:solidFill>
                <a:latin typeface="Tahoma"/>
              </a:rPr>
              <a:t>Прямое и обратное преобразование в системе DN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3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DNS – доменная система им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9D3D-D48A-40FA-8CF0-061DF93F69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ие поддомена может потребоваться для удобства управления сетью организации со сложной структурой или если поддомен будет принадлежать другой орган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озданным поддоменом может управлять тот же сервер, либо полномочия по управлению поддоменом могут быть переданы другому серве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Поддо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выполняется DNS-запро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Чем зона DNS отличается от домен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Перечислите конфигурационные файлы, необходимые для первичного сервера зо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 разбить сеть класса С на поддомены? Сформулируйте основную проблему этой зада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Сформулируйте, как обратное DNS преобразование технически сводится к прям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Albitz and Liu. DNS and BIND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1) Имена и адр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2) Служб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3) Конфигурирование клиента D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4) Другие службы распознавания имен и порядок их использования хос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5) Порядок выполнения DNS-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6) Программа nsloo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D6A05-AD8F-49D0-AE60-FB15DE7EF5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мимо IP-адрес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хосты идентифицируются доменными именам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более легкими для запоминания и отражающими логическое структурирование се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ное имя состоит из символьных полей, разделенных точк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869A-A894-47DC-A348-066D0745BE7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райнее правое поле обозначает домен верхнего уровня, далее, справа налево, следуют поддомены в порядке иерархической вложенности, крайнее левое поле обозначает имя хо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i="1" lang="ru-RU" sz="2800" spc="-1" strike="noStrike">
                <a:solidFill>
                  <a:srgbClr val="3333ff"/>
                </a:solidFill>
                <a:latin typeface="Tahoma"/>
              </a:rPr>
              <a:t>crypt.iae.nsk.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хос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ry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домен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a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торый в свою очередь находится внутри домен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C54C-D273-405B-ACB6-A27F5EC96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1780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dom-tree" descr="Fig 2.1"/>
          <p:cNvPicPr/>
          <p:nvPr/>
        </p:nvPicPr>
        <p:blipFill>
          <a:blip r:embed="rId1"/>
          <a:stretch/>
        </p:blipFill>
        <p:spPr>
          <a:xfrm>
            <a:off x="287280" y="1560600"/>
            <a:ext cx="8532720" cy="4460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58920" y="0"/>
            <a:ext cx="84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ahoma"/>
              </a:rPr>
              <a:t>Дерево доменных име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0C02-17BA-42A3-8105-55F5587F5E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Корнем дерева является домен "." (точка). Полное -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абсолют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л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лностью определенно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fully qualified domain 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оменное имя заканчивается точкой, обозначающей корень доменного дерева, но часто эта завершающая точка опуск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менами верхнего уровня выступают двухбуквенные национальные домены или трехбуквенные домены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m, edu, org, net, gov, int, m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1865-EA6F-4E57-83FF-065B18DE003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например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vvsu.ru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 может выступать также как и имя узла, т.е. быть указателем на связанную с этим именем информ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пример, такой информацией может бы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P-адре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EE042-5A7D-497E-AA72-108D9E7F774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1640" y="1198440"/>
            <a:ext cx="8317080" cy="475164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тевое программное обеспечение, маршрутизаторы и другая сетевая аппаратура работают c IP-адресами. Преобразования "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доменное имя в IP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 ("прямое")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полняются службой DNS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путем поиска в доменном дереве нужного имени и извлечения связанной с этим именем информации требуемого типа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3:31Z</dcterms:modified>
  <cp:revision>178</cp:revision>
  <dc:subject/>
  <dc:title>Lecture Template </dc:title>
</cp:coreProperties>
</file>