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F956-5D12-48A3-9FBF-C8BE0E0F7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182E-8B04-4925-A5FC-26A3DBDC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C6B8-9BDB-46B6-A8CB-49ED71AFC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0A8D-786B-471B-BBD9-EF91DDE7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DB54-2365-44A2-A81D-98BC3C0B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6C11-C541-4CFA-8D45-F0C386BC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8E4D-8116-4FBE-8FB6-DA8CD1EAA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F7BF-8760-4B4C-A6C3-F15967600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15E3-E640-4B35-91B9-C4978791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EC57-4166-4796-B8BE-0131A9FE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2CC2-CE77-4373-9905-742368C06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0937-B9F2-4045-A0D0-DFF7E87C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201C-F916-493E-BDA5-6195D66FC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600"/>
            </a:b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Институт информатики инноваций и бизнес систем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редмет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«Технологии Интернет»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Руководитель: Сачко Максим Анатольевич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старший преподаватель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46E05-4CA6-477D-AEAD-19D9002FE1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ервер состоит из программы-демона dhcpd, ее конфигурационного файла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etc/dhcpd.conf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файла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hcpd.lease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в который сервер заносит информацию о выделенных адрес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работы с сервером необходимо создать конфигурационный файл, после чего запустить программу-демо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DHCP сервер под U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CD8C-FAE3-4C38-9380-53DF63E4A0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В конфигурационном файле определяются пространства IP-адресов, назначаемых клиентам, дополнительная информация по конфигурации стека TCP/IP, передаваемая клиентам, а также описываются хосты, которым назначаются фиксированные IP-адреса (по MAC-адресу хост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75F85-75E2-4461-B264-DB0E39CD864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каждой обслуживаемой сервером IP-сети создается отдельный раздел, где указываютс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маска сети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netmask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иапазон(ы) выдаваемых IP-адресов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rang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ремя по умолчанию, на которое выдается адрес, в секундах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default-lease-ti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максимальное время, на которое может быть выдан адрес, если хост запрашивает конкретное время, в секундах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max-lease-ti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Конфигурационный фай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4A39-0A02-4F40-BC3D-B11D7E1D038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маска сети, передаваемая клиенту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subnet-mask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широковещательный адрес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broadcast-addres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адреса шлюзов (для маршрута по умолчанию)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router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имя домена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domain-na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адреса DNS-серверов (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domain-name-server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Дополнительные опции (op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814DA-913A-4EF4-9B15-783A0E31D2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subnet 194.84.124.0 netmask 255.255.255.0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range 194.84.124.100 194.84.124.127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range 194.84.124.200 194.84.124.25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default-lease-time 600 max-lease-time 720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option subnet-mask 255.255.255.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option broadcast-address 194.84.124.25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option routers 194.84.124.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option domain-name-servers 194.84.124.4, 193.232.88.17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3. Пример конфигур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01BA-2D9E-47DE-B0FA-182D091796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host ocean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hardware ethernet 08:00:26:4c:54:2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fixed-address 194.84.124.2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option domain-name-servers 194.84.124.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Пример раздела конфигурации хо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27DF4-2BB4-422E-B088-89567E96BE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HCP клиент под Unix (от Internet Software Consortium) состоит из программы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hclien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конфигурационного файла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etc/dhclient.conf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файла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hclient.lease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в который клиент заносит информацию о выданных ему адресах и настройк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DHCP-клиент под Un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BD24C-7A09-4BFC-AA1B-E394C65F6AD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try ti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период повторных попыток соединения с сервером в случае неудачи; измеряется в секундах, по умолчанию - 300 с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quest option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запросить у сервера передачу опции option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quire option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в случае, если сервер не передал опцию option, отвергнуть конфигурацию, предложенную серверо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end option declaration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передать серверу значени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declaration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опции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Директив конфигурационного фай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0923D-5944-4F2E-A76E-69016DE089D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default option declaration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установить значение declaration для опции option, если сервер не передал эту опцию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supersede option declaration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установить значение declaration для опции option, независимо от того, что передал сервер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prepend option declaration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добавить значение для опции к значению, переданному сервером, поставив свое значение первым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append option declaration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добавить значение для опции к значению, переданному сервером, поставив свое значение последним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Директив конфигурационного фай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Зачем нужно динамическое распределение IP-адресов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Укажите преимущества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динамического распределения IP-адресов и недостатки по сравнению со статическ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ие функции выполняет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HCP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сервер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им образом происходит конфигурирование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HCP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сервер и клиент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акие данные передает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DHCP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 сервер клиент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2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Назва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. Хант. Персональные компьютеры в сетях TCP/IP: Руководство администратора сети/ Пер. с англ. – СПб.: ЗАО "ЭлектроникаБизнесИнформатика", Киев: "BHV",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UNIX для системных администраторов: Энциклопедия пользователя/ Пер.с англ. – Киев: ДиаСофт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20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1) Протокол DHC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2) DHCP-клиенты и серве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3) Конфигур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946DB-D03D-49F8-8388-F35A671759F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Цель: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научиться настраивать сервер DHCP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Основная концепция: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DHCP-сервер, получая запрос на конфигурацию от хоста, предлагает ему настройки стека TCP/IP. Эти настройки могут быть как индивидуальными для хоста, так и создаваться динамически с учетом свободных в настоящий момент ресурсов (</a:t>
            </a:r>
            <a:r>
              <a:rPr b="0" i="1" lang="en-US" sz="2800" spc="-1" strike="noStrike">
                <a:solidFill>
                  <a:srgbClr val="3333ff"/>
                </a:solidFill>
                <a:latin typeface="Tahoma"/>
              </a:rPr>
              <a:t>IP-адресов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). Настройки могут выдаваться сервером в пользование хосту на определенное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DHCP-сервер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4C65A-2363-4277-A1BF-E8428CDF7E3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Использование протокола DHCP в сети предприятия может быть вызвана необходимостью автоматизировать конфигурирование большого числа пользовательских рабочих станций для работы с протоколами TCP/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Также важно, что при переносе компьютера из одной сети в другую не требуется ручного изменения его настро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. Протокол DH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51E6-90D1-4277-8CBE-B06AD56F22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Настройки стека TCP/IP передаются рабочей станции сервером DHCP после того, как станция во время своей загрузки выдаст широковещательный запрос параметров своей конфигурации, на который и откликается сервер. Данные конфигурации включают в себя IP-адрес рабочей станции, а также (опционально) адреса маршрутизатора (шлюза) и сервера DNS, имя домена и т.п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9E3D-A2F9-4741-A884-136F9ACED54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Сервер получает запрос и откликается с предложением об аренде (lease), содержащим конфигурационные данные для хо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Хост может получить предложения от нескольких DHCP-серверов, работающих в его сети. Хост, на основании настроек своего DHCP-клиента, решает принять предложение определенного сервера (или принять первое поступившее предложение, если никаких настроек нет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Хост отвечает выбранному серверу сообщением "выбор". Сервер подтверждает выдачу аренды; после получения подтверждения хост конфигурирует себя в соответствии с полученными данны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Взаимодействия сервера и клиен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C5A2-C79F-4721-BEC0-BAE176CF14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дин DHCP-сервер может работать в нескольких сетях. Для этого в каждой сети должен быть сконфигурирован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HCP-relay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специальный посредник, который будет ретранслировать сообщения между сервером и хостом, запросившим конфигур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Без посредника DHCP-сервер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не услышит запросов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так как широковещательные IP-дейтаграммы не выходят за пределы IP-се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-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DHCP-re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F4D6-0927-45FE-85A4-3C75367011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IP-адрес, присваиваемый рабочей станции, может браться сервером из пространства специально для этого выделенных адресов (берется первый свободный адрес). В этом случае у рабочей станции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нет постоянного IP-адреса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IP-адрес, присваиваемый конкретной рабочей станции, может быть и 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фиксированным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, для этого надо знать MAC-адрес (Ethernet-адрес) рабочей станции и соответствующим образом настроить серв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054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20:53Z</dcterms:modified>
  <cp:revision>177</cp:revision>
  <dc:subject/>
  <dc:title>Lecture Template </dc:title>
</cp:coreProperties>
</file>