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761C-D03B-4473-8EF3-1BA205473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A5CB-E2FC-45F7-AE85-296933690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0C1-6E5B-41FF-B72C-322FB58F2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A353-4A75-4A37-A71B-69A5CDD0B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5E53-37A4-46C3-9628-6A34CACD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2CCC-D576-4A57-8463-E7BF231A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DD0C-E68F-4385-A26B-B998A56B7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EFF-AAB9-4E19-A717-FEB579F9C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BF4D-BF14-49FD-A935-382DF6C9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4F31-B598-4D3B-9044-EA78DDF2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D7DA-9478-4046-9549-E8EAC778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6A04-BBD9-46C0-ADF7-EFBE87FC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97C5-0499-46EB-ADF9-E246FC384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A0758-260C-4D35-845E-14A9C43013F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торым важным протоколом межсетевого уровня является протокол управляющих сообщений Интернет —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IC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Internet Control Message Protocol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являющийся неотъемлемой частью модуля 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Протокол IC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оставляет диагностические и управляющие сообщения от одного IP-адреса к другому. Сообщения делятся на типы, определяемые номерами, внутри типов сообщения идентифицируются числовыми кодами или имен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2. Протокол IC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76993-A1EC-4904-9DFE-D882D0D728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ource Quench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4) - слишком быстрое прибытие дейтаграмм; отправляется узлом назначения на узел-источник, если первый не успевает обрабатывать поступающие данн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estination Unreachabl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3) - узел назначения недоступ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direc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5) - изменить маршрут; отправляется маршрутизатором при необходимости использовать другой маршр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Echo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8,0) - эхо; используется программой p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ы сообщений ICM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59C0-3162-46D3-A377-75F6F2DA433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токолы транспортного уровня обеспечивают прозрачную доставку данных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end-to-end delivery service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ежду двумя процессами. Процесс внутри хоста идентифицируется номером, который называется номером порта. Таким образом, роль адреса на транспортном уровне выполняет номер по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вокупность IP-адреса и номера порта называется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сокето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socket).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Как IP адрес уникально определяет в Интернет IP-интерфейс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хост),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сокет уникально идентифицирует в Сети конкретный проце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Transport Lay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DE41-863F-4EFF-BC6D-B6FCE168AD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UD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User Datagram Protocol, протокол пользовательских дейтаграмм) является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енадежным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отоколом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без установления соедин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UDP получает от прикладного процесса данные для пересылки в виде отдельных несвязанных сообщений, снабжает их минимальным заголовком, в котором указываются номера портов отправителя и получателя и передает пакет на уровень 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. Протокол 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9180-E9F9-4128-A551-D6987DFD1B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NF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Network File System - сетевая файловая система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FT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rivial File Transfer Protocol - простой протокол передачи файлов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NM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Simple Network Management Protocol - простой протокол управления сетью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NS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Domain Name Service - доменная служба имен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Прикладные процессы на основе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UD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8A4AC-B922-4FC5-B8A7-22BE1F9806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TCP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Transmission Control Protocol - протокол контроля передачи) -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надежный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байт-ориентированный (byte-stream) протокол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с установлением соединен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отокол TCP осуществляет передачу данных, получаемых от прикладного процесса. Поток данных разбивается модулем TCP на сегменты. Передача сегментов осуществляется между сокетами с предварительным выполнением диалоговой процедуры установления соединения и с контролем успешной доставки сегментов в процессе пересы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3. Протокол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7A79-B9B7-4A4A-9AE3-C3495B1F4C8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Установка TCP-соед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00000" y="981000"/>
            <a:ext cx="73454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4E14-FD2B-4307-9900-197612D793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Метод скользящего ок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6720" y="1166760"/>
            <a:ext cx="838836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BF70-787A-446D-894D-7D5C142439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Каждому узлу Интернет (точнее, каждому IP-интерфейсу) присваивается уникальный 32-битный адрес, состоящий из адреса сети, в которой находится компьютер, и номера компьютера в этой сети. Сетевая маска (32 бита) позволяет отделить адрес сети от номера компьютера. В каждой сети определяется широковещательный адрес ("всем узлам этой сети"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P-адре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546C-79D2-47CC-A6D6-28F6CFC0E7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IP-адрес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32-битный идентификатор IP-интерфейса, состоящий из адреса сети и номера хоста. Местоположение границы между двумя частями адреса может быть различным в разных адресах и определяется разными способами в классовой и бесклассовой модел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 1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3640" y="2421000"/>
            <a:ext cx="58690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ahoma"/>
              </a:rPr>
              <a:t>Стек протоколов TCP/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27D9-10F7-4B72-AB4D-7F0B1DDCA76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апример, ад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0100000010100010000010110000011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записывается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0100000.01010001.00000101.10000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160.81.5.1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7B3A8-5B99-43C5-B68E-66C3B7828DD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Классовая адресац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способ построения адреса, когда граница между адресом сети и номером хоста в IP-адресе проходит по границе октета (между битами 7 и 8, или 15 и 16, или 23 и 24), при этом местоположение этой границы определяется значением страшего окте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Бесклассовая адресация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(CIDR) - способ построения адреса, граница между адресом сети и номером хоста в IP-адресе проходит в произвольном месте. Местоположение границы определяется сетевой маской, которая в этом случае прилагается к IP-адрес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6. Классовая и бесклассовая адрес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CC82-5DF9-4BAA-BDBC-22B7821E271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Классы IP-адре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1640" y="969840"/>
            <a:ext cx="5256360" cy="35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871640" y="3998880"/>
            <a:ext cx="5292720" cy="21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8F44-6321-4911-BDE4-59D7923D0D0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удобства записи IP-адрес в модели CIDR часто представляется в виде a.b.c.d / n, где a.b.c.d — IP адрес, n — количество бит в сетевой ча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имер: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137.158.128.0/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сети для этого адреса: 17 единиц (сетевая часть), за ними 15 нулей (хостовая часть), что в октетном представлении равн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11111111.11111111.10000000.00000000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255.255.128.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Запись адресов в бесклассовой моде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A88D1-B5A4-4F53-85AA-6ECB572F44D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= 205.37.193.134/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= 205.37.193.134  netmask = 255.255.255.1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3333ff"/>
                </a:solidFill>
                <a:uFillTx/>
                <a:latin typeface="Tahoma"/>
              </a:rPr>
              <a:t>в двоичном вид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  </a:t>
            </a:r>
            <a:r>
              <a:rPr b="0" lang="ru-RU" sz="9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= 11001101 00100101 11000111 100001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маска    = 11111111 11111111 11111111 1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network = 11001101 00100101 11000111 1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1.    Опишите функции слоев стека TCP/IP и их взаимо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2.    Что такое маска се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3.    В чем состоит сущность процесса IP-маршрутизац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4.    Каковы задачи протокола IP? TCP? В чем их отличие друг от друг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5.    Каковы недостатки протокола I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6.    Каковы недостатки протокола TCP? Подходы к их реше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Tahoma"/>
              </a:rPr>
              <a:t>7.    Как приложение взаимодействует со стеком TCP/IP?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К. Хант. Персональные компьютеры в сетях TCP/IP: Руководство администратора сети/ Пер. с англ. – СПб.: ЗАО "ЭлектроникаБизнесИнформатика", Киев: "BHV"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3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Золотов С. Протоколы Internet: Руководство для профессионалов. – СПб.: BHV-СПб, </a:t>
            </a:r>
            <a:r>
              <a:rPr b="0" lang="en-US" sz="2800" spc="-1" strike="noStrike">
                <a:solidFill>
                  <a:srgbClr val="3366ff"/>
                </a:solidFill>
                <a:latin typeface="Tahoma"/>
              </a:rPr>
              <a:t>2004</a:t>
            </a: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1) Уровни стека TCP/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2) Протокол IC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3) Протокол U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4) Протокол TC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5) IP-адрес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6) Классовая</a:t>
            </a:r>
            <a:r>
              <a:rPr b="0" lang="en-US" sz="36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66ff"/>
                </a:solidFill>
                <a:latin typeface="Tahoma"/>
              </a:rPr>
              <a:t>и бесклассовая мод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E77F-37B4-4AB2-BE47-EA29B438795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CP/IP - набор средств низкого уровня, которые обеспечивают передачу данных между компьютерами через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ервисы Интернет и прикладные программы, которые изучаются в настоящем курсе, пользуются TCP/IP для взаимодействия между собой - аналогично как люди пользуются телефонной се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ек протоколов TCP/I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5B29-D7D2-498E-97DF-618AD1FBBA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CP/IP устроен в виде многоуровневой системы, где каждый уровень выполняет свою функцию по обеспечению передачи данных между компьютерами. Детали работы каждого уровня скрыты от других уровней; каждый уровень взаимодействует только со своими соседними уровнями сверху и сниз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1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. Уровни стека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BA3E-41C8-43EA-B686-05723700CFA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ткрытые стандарты протоколов, разрабатываемые независимо от программного и аппаратного обеспеч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независимость от физической среды пере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истема адресации, позволяющая уникально идентифицировать каждый компьютер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стандартизованные протоколы прикладного уровня, реализующие сервисы Интерн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собенности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AC77-D1A8-435B-9CAC-6888AABB6EA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ек протоколов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971640" y="944640"/>
            <a:ext cx="6696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682A-BE91-4379-9817-07483A5102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Функ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тображение IP-адресов в физические адреса сети (MAC-адреса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нкапсуляция IP-дейтаграмм (datagrams) в кадры (frames) для передачи по физическому каналу и передача кадро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На этом уровне работает протокол ARP, осуществляющий отображение адрес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P-&gt;MA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Network Access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E7518-A807-42A9-BC5B-B5C939F883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пределение дейтаграммы - основного блока передачи данных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определение схемы адресации в Интернет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передвижение данных между транспортным уровнем и уровнем доступа к среде передач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маршрутизация дейтаграм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фрагментация дейтаграмм на границе сред с различными размерами блока передаваемых данных и сборка фрагментированных дейтаграмм в месте назнач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Функции протокола </a:t>
            </a: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IP</a:t>
            </a: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 в Internet 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12:19Z</dcterms:modified>
  <cp:revision>178</cp:revision>
  <dc:subject/>
  <dc:title>Lecture Template </dc:title>
</cp:coreProperties>
</file>