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854-7C9E-4521-921D-0C32DA6A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A1B-4255-455C-A428-376AD20E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B56-6E5F-4D24-92D9-C2F1D86C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468-C42B-41A3-9096-85F9DC11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1DF-6FA5-44EE-BC6E-AF462452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8D3-26D9-4F3C-928B-5E4B48B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29C-EB10-4CEA-B187-D52D8FDF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128-C1B9-41AB-AFDD-F9DD9F5C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842-9F31-4B3F-A5C2-23BEF320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FD4-957E-4BAD-8101-14472FE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359-ABBA-4254-BB39-E955449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13E-75B6-42C1-AA44-75AE8B89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826-21B7-4C7C-A3EE-54E3AE58D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7797-AAD1-4451-A4EC-777E640500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ары имя-значение разделяются амперсандом. Алфавитно-цифровые символы и некоторые знаки препинания, не имеющие специального значения (тире, подчеркивание) передаются как есть. Остальные символы кодируются в виде "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%N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", где NM - двузначный шестнадцатеричный код симв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.../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prog?birthday=11%2F05%2F73&amp;name=John+Sm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birthd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"11/05/73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"John Smit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A977-964F-44C5-B23F-D1D9460122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UTH_TYPE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тод аутентифицирования, использованный для опознания пользователя. См. также REMOTE_USER и REMOTE_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LENGT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ина данных запроса в байтах, переданных CGI-скрипту через стандартный в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TYPE MIME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ип данных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OCUMENT_ROO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Корневой каталог дерева документов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ATEWAY_INTERFAC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спользуемая версия C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9CDD-BE9A-477E-BB7F-D4EAC8D52E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ACCEP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Список MIME-типов данных, которые клиент может прин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FROM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Адрес электронной почты пользователя, сделавшего запрос (многие броузеры не передают такие данны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REFERER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URL документа, в котором находилась ссылка, вызвавшая настоящий запро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USER_AGEN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Броузер клиен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PATH_TRANSLATED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PATH_INFO, преобразованное в полный путь в файловой системе серв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75B1-889F-431A-8295-F8B7842D61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анные запроса, переданные в составе URL вслед за вопросительным зна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ADD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IP-адрес кли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H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DNS кли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USE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Аутентифицированное имя пользов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_METHOD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Метод запроса (GET, POST, HEAD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CRIPT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иртуальный путь (например, /cgi-bin/program.pl) к исполняемому CGI-скри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2979-F91C-4B09-BCDA-E16886AFF1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DNS-имя сервера или, при невозможности определить имя, его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Номер порта 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ROTOCO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и версия протокола, через который был сделан запрос (например, HTTP/1.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SOFTWAR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Тип и номер версии ПО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3190-C2EE-4EA9-AF5B-DB0734EF3C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скольку все HTTP-запросы независимы друг от друга и на уровне протокола HTTP отсутствует понятие сеанса связи, CGI-программа запускается заново для каждого вновь поступившего запроса, неважно имеет ли он связь с предыдущими или нет. Таким образом, существует проблема сохранения состояния логического сеанса работы пользователя между его последовательными запросами к CGI-программе. Для этого используются: cookies, сохранение состояния в базу данных, сохранение в файл, скрытые поля.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ook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F825-1AFA-4C18-B184-6636A56C29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cookies - сохранение на компьютере кл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крытые поля - сохранение внутри формы, посылаемой клиен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файле какого-либо формата на серве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параллельно работающей баз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ы сохранен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27DF-0C69-4A6A-836D-E2C6E8CEBD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 программировании CGI-скриптов всегда следует помнить, что при каждом очередном запросе скрипт начинает свою работу сначала, не имея никакой предыстории взаимодействия пользователя с этим или другими скрип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ограммирование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465D-2D37-453D-B724-DA0636A817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y $x;         # $x создается, равно un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0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undef;    # опять unde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0289-412D-445F-A335-AE4B61E163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ом (list) называется упорядоченная последовательность скалярных значений; порядковые номера (индексы) начинаются с нуля. Отдельно стоящие списки заключаются в скоб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($x, "abc",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щение к элементу списка осуществляется путем указания индекса этого элемента в квадратных скобк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$y=($x, "abc", 15)[1];      # $y="ab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и 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50920" y="2421000"/>
            <a:ext cx="6913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C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веб-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1095-0964-4989-8179-D3671E41C5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f 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ловие ? выражение_да : выражение_нет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while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o {...} while (..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or (...;...;...;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f ($a&lt;$b) { $a=$b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while ($a&lt;$b) { some_function($a)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a=$b if ($a&lt;$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пера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F4AF-3F90-4CF3-B24F-B0036E3790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x=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@array=('c','d','e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%hash=( a =&gt; "A", b=&gt; "B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print "this is \$x: \"$x\"; \nthis is element 2 of \@array: \"$array[2]\";\n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and \$hash{a} is \"$hash{a}\"\n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$x: 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element 2 of @array: "e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nd $hash{a} is "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действия предпринимает сервер, если для обработки поступившего запроса требуется запуск CGI-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CGI-программа должна выдавать заголовок “Content-Type: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позволяет делать модуль mod_pe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заключается основная особенность CGI-программи­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проблема сохранения состояния в CGI-программировании и какие существуют способы ее решения? Укажите их достоинства 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язык Perl считается наиболее удобным для написания CGI-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.Р.Левин, К.Бароди. Секреты Интернет. – К.: Диалектика, ICE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S.Spainbour, V.Quercia. Webmaster in a Nutshell. – O’Reily &amp; Associates, Inc.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Интерфейс CGI, его задачи 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Исполнения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URL и кодирование данных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еременные окружения C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ирование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6) Введение в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3321-02C3-4374-B4D5-E0EB9230BF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терфейс CGI представляет собой спецификацию взаимодействия веб-сервера и внешней программы, которую веб-сервер запускает для обработки запроса. CGI определяет каким образом данные, предоставленные клиентом в запросе, передаются программе, как программа возвращает сгенерированный HTML-контент серверу, и какие переменные окружения устанавливаются сервером при запуск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177D-F53E-49D9-9B9C-D193EAF44D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иент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запросить у веб-сервера как документ-файл с диска, так и документ, динамически формируемый некоторой внешней программой (как правило - в зависимости от данных, предоставленных пользователем при заполнении фор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Интерфейс CGI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ставляет собой спецификацию взаимодействия веб-сервера и внешней программы, которую веб-сервер запускает для обработки запроса. (Внешняя программа, вне зависимости от своей природы, часто называется CGI-скрипто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CB55-5790-4510-A25E-6BACE64C30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анные из заполненной клиентом HTML-формы могут передаваться на сервер двумя методами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E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это определяется параметром method соответствующего тэг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&lt;form method=... action=...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ервом случа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GET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анные присоединяются после вопросительного знака в конец URL, указанной в параметр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c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о втором случае - передаются в теле запроса - в секции, предназначенной для данных (следует после всех заголовков и пустой строки).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7660-861A-4BDE-85DA-42D657004E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ntent-Type: text/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1&gt;Hello, world&lt;/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/BODY&gt;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Например, вывод CGI-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ADD-2D70-43C1-8583-F3ECAB36A9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виртуальный/путь/ /путь/к/каталогу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cgi-bin/ /usr/local/www/cgi-bi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Это означает, что для обработки запроса URL вида http://your.server.com/cgi-bin/dir/script будет взят не файл script из каталога DocumentRoot/cgi-bin/dir/, а запущена программа /usr/local/www/cgi-bin/dir/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Конфигурирование сервера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4E4F-60BE-4E01-81A4-07AA7E72FE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CGI-программ важное значение имеют част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R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называемы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смотрим запрос с URL вид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http://my.server.com/cgi-bin/dir/prog/a/b?A=1&amp;B=qw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/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=1&amp;B=qw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руктура UR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1:57Z</dcterms:modified>
  <cp:revision>192</cp:revision>
  <dc:subject/>
  <dc:title>Lecture Template </dc:title>
</cp:coreProperties>
</file>