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D05-C217-47B5-8A7F-B7F0D9CB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62FD-673C-4318-A2B3-746319FD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7B48-8489-4EEC-B57C-C07A529B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DB2F-8401-49B5-968A-2BCCD729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BB7-7098-4423-BDCE-F211648A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A2A-A738-48D0-9B0D-86EE4391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7FA1-BA79-4849-B40F-2512E7E0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692-6B14-45E1-8785-2A0CB9E5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8436-B481-43BF-BAC9-458E6EE2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9AA-C3DF-49AE-9FC6-FE774670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8280-F2A9-43D1-B4CD-34ED9433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B857-7FA5-4EC0-8525-960D40D2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E8B2-4A56-4E2E-8948-C5DF4B8C4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E047-8EB5-4376-8BF3-2DE2F686F4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ары имя-значение разделяются амперсандом. Алфавитно-цифровые символы и некоторые знаки препинания, не имеющие специального значения (тире, подчеркивание) передаются как есть. Остальные символы кодируются в виде "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%N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", где NM - двузначный шестнадцатеричный код симв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500" spc="-1" strike="noStrike">
                <a:solidFill>
                  <a:srgbClr val="3333ff"/>
                </a:solidFill>
                <a:latin typeface="Tahoma"/>
              </a:rPr>
              <a:t>.../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prog?birthday=11%2F05%2F73&amp;name=John+Sm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birthda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"11/05/73 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"John Smith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F16A-F2B2-4318-A5DF-9E4E73E85D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AUTH_TYPE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-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етод аутентифицирования, использованный для опознания пользователя. См. также REMOTE_USER и REMOTE_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CONTENT_LENGTH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ина данных запроса в байтах, переданных CGI-скрипту через стандартный в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CONTENT_TYPE MIME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Тип данных за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OCUMENT_ROO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Корневой каталог дерева документов веб-серв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GATEWAY_INTERFAC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Используемая версия CG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F956-3F51-4777-BF33-F4A7285C18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ACCEPT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Список MIME-типов данных, которые клиент может приня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FROM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Адрес электронной почты пользователя, сделавшего запрос (многие броузеры не передают такие данные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REFERER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URL документа, в котором находилась ссылка, вызвавшая настоящий запро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USER_AGENT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Броузер клиент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PATH_TRANSLATED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PATH_INFO, преобразованное в полный путь в файловой системе сервер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77E1-5ACB-4E23-B06F-1791EB9C94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QUERY_STRING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Данные запроса, переданные в составе URL вслед за вопросительным зна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MOTE_ADDR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IP-адрес кли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MOTE_HO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Имя DNS клиен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MOTE_USER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Аутентифицированное имя пользова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QUEST_METHOD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Метод запроса (GET, POST, HEAD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CRIPT_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Виртуальный путь (например, /cgi-bin/program.pl) к исполняемому CGI-скрип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FEE3-5335-471D-A8CC-6A904A7665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DNS-имя сервера или, при невозможности определить имя, его IP-адре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POR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Номер порта серв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PROTOCO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Имя и версия протокола, через который был сделан запрос (например, HTTP/1.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SOFTWAR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Тип и номер версии ПО веб-серв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CE23-5D8C-4FB7-B52D-328B6FBEA3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скольку все HTTP-запросы независимы друг от друга и на уровне протокола HTTP отсутствует понятие сеанса связи, CGI-программа запускается заново для каждого вновь поступившего запроса, неважно имеет ли он связь с предыдущими или нет. Таким образом, существует проблема сохранения состояния логического сеанса работы пользователя между его последовательными запросами к CGI-программе. Для этого используются: cookies, сохранение состояния в базу данных, сохранение в файл, скрытые поля.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Cook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8B6F-CDA4-4706-A821-37B5806671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cookies - сохранение на компьютере клиен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крытые поля - сохранение внутри формы, посылаемой клиент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хранение в файле какого-либо формата на серве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хранение в параллельно работающей базе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Методы сохранения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9C2D-BB2F-4F55-AE85-F487F89437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и программировании CGI-скриптов всегда следует помнить, что при каждом очередном запросе скрипт начинает свою работу сначала, не имея никакой предыстории взаимодействия пользователя с этим или другими скрипт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ограммирование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982A-796F-427E-B478-646BA44565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my $x;         # $x создается, равно un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;              # л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fined($x); # л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=0;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;              # л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fined($x); # исти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=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;              # исти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fined($x); # исти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=undef;    # опять unde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0FA6-3927-4B12-9B7A-71CDF99998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ом (list) называется упорядоченная последовательность скалярных значений; порядковые номера (индексы) начинаются с нуля. Отдельно стоящие списки заключаются в скобк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  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($x, "abc", 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бращение к элементу списка осуществляется путем указания индекса этого элемента в квадратных скобка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$y=($x, "abc", 15)[1];      # $y="abc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писки и масс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6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50920" y="2421000"/>
            <a:ext cx="6913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C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веб-программ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ED14-B01D-4D6A-AC3E-72214F65E1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f (...) {...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условие ? выражение_да : выражение_нет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while(...) {...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o {...} while (..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for (...;...;...;) {...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if ($a&lt;$b) { $a=$b;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while ($a&lt;$b) { some_function($a);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$a=$b if ($a&lt;$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перат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F536-F001-4DB9-BD25-50E4722EF5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$x="abc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@array=('c','d','e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%hash=( a =&gt; "A", b=&gt; "B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print "this is \$x: \"$x\"; \nthis is element 2 of \@array: \"$array[2]\";\n"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"and \$hash{a} is \"$hash{a}\"\n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his is $x: "abc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his is element 2 of @array: "e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and $hash{a} is "A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ие действия предпринимает сервер, если для обработки поступившего запроса требуется запуск CGI-програм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Почему CGI-программа должна выдавать заголовок “Content-Type: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позволяет делать модуль mod_per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заключается основная особенность CGI-программи­ро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состоит проблема сохранения состояния в CGI-программировании и какие существуют способы ее решения? Укажите их достоинства и недоста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Почему язык Perl считается наиболее удобным для написания CGI-прило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Д.Р.Левин, К.Бароди. Секреты Интернет. – К.: Диалектика, ICE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S.Spainbour, V.Quercia. Webmaster in a Nutshell. – O’Reily &amp; Associates, Inc.,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Интерфейс CGI, его задачи и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Исполнения CGI-скрип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Структура URL и кодирование данных за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Переменные окружения CG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5) Программирование CGI-скрип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6) Введение в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F5E6-39B3-44C3-9B35-5CD44B08DB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нтерфейс CGI представляет собой спецификацию взаимодействия веб-сервера и внешней программы, которую веб-сервер запускает для обработки запроса. CGI определяет каким образом данные, предоставленные клиентом в запросе, передаются программе, как программа возвращает сгенерированный HTML-контент серверу, и какие переменные окружения устанавливаются сервером при запуск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сновная концеп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57BE-EBDF-4685-9711-2CE0E0204F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Клиент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ожет запросить у веб-сервера как документ-файл с диска, так и документ, динамически формируемый некоторой внешней программой (как правило - в зависимости от данных, предоставленных пользователем при заполнении форм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Интерфейс CGI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редставляет собой спецификацию взаимодействия веб-сервера и внешней программы, которую веб-сервер запускает для обработки запроса. (Внешняя программа, вне зависимости от своей природы, часто называется CGI-скриптом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F6D4-639C-4F16-909C-9F9BA3696F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анные из заполненной клиентом HTML-формы могут передаваться на сервер двумя методами: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GE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O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это определяется параметром method соответствующего тэг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&lt;form method=... action=...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первом случа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GET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анные присоединяются после вопросительного знака в конец URL, указанной в параметр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c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во втором случае - передаются в теле запроса - в секции, предназначенной для данных (следует после всех заголовков и пустой строки).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F852-078D-4149-84CD-86600B9F00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Content-Type: text/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HTM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BOD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H1&gt;Hello, world&lt;/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/BODY&gt;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HTML&gt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Например, вывод CGI-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3CEF-2D94-40BB-9136-9C76E3C032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criptAlias /виртуальный/путь/ /путь/к/каталогу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criptAlias /cgi-bin/ /usr/local/www/cgi-bi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Это означает, что для обработки запроса URL вида http://your.server.com/cgi-bin/dir/script будет взят не файл script из каталога DocumentRoot/cgi-bin/dir/, а запущена программа /usr/local/www/cgi-bin/dir/scri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Конфигурирование сервера Ap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B5CA-68C3-4DDD-AE75-AEE6E4CFD4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работы CGI-программ важное значение имеют част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UR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называемые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ATH_INFO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QUERY_STRING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смотрим запрос с URL вид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http://my.server.com/cgi-bin/dir/prog/a/b?A=1&amp;B=qwer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PATH_INFO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/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/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QUERY_STRING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=1&amp;B=qw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труктура UR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31:57Z</dcterms:modified>
  <cp:revision>192</cp:revision>
  <dc:subject/>
  <dc:title>Lecture Template </dc:title>
</cp:coreProperties>
</file>