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98D-09B3-45A3-A4FD-806D599D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F3A-1FD5-40D6-A1F5-E5660F35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DF3-1CAC-4F61-A3C0-EC94F01B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684-386D-44D5-ACA6-530F41E2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02B-6F40-4EAF-BB09-B7888487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805-34F5-4F09-9B97-00E79283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CA4-ACCC-4F0F-8915-814FA887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048-EC00-4358-9343-15EAE9C3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8C3-654F-43F8-A335-1E6AEA93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2BC-41CA-419E-AA80-C2B52AC7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018-F627-4FA4-8505-9EDD904A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E6B-2B05-412E-975D-2834E045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F24C-BD14-4BC9-930E-76D3B8189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9D2C-D927-4281-8D0C-01C1EF0C59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торым важным протоколом межсетевого уровня является протокол управляющих сообщений Интернет —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Control Message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являющийся неотъемлемой частью модуля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оставляет диагностические и управляющие сообщения от одного IP-адреса к другому. Сообщения делятся на типы, определяемые номерами, внутри типов сообщения идентифицируются числовыми кодами или им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42DC-30B9-4674-9A62-86D1FFB95D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ource Quenc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4) - слишком быстрое прибытие дейтаграмм; отправляется узлом назначения на узел-источник, если первый не успевает обрабатывать поступающие д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estination Unreach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) - узел назначения недоступ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direc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5) - изменить маршрут; отправляется маршрутизатором при необходимости использовать другой маршр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Ech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,0) - эхо; используется программой 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ы сообщений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2283-D2DD-434E-896B-02D4EB9041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ы транспортного уровня обеспечивают прозрачную доставку данных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nd-to-end delivery service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жду двумя процессами. Процесс внутри хоста идентифицируется номером, который называется номером порта. Таким образом, роль адреса на транспортном уровне выполняет номер 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вокупность IP-адреса и номера порта называется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соке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socket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Как IP адрес уникально определяет в Интернет IP-интерфейс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хост)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окет уникально идентифицирует в Сети конкретный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Transport L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8736-CEAA-4A56-80DB-F8C8802A3E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D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User Datagram Protocol, протокол пользовательских дейтаграмм) являет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енадежны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отоколо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без установления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DP получает от прикладного процесса данные для пересылки в виде отдельных несвязанных сообщений, снабжает их минимальным заголовком, в котором указываются номера портов отправителя и получателя и передает пакет на уровень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BAD8-214C-4971-9C2A-C678E59779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F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Network File System - сетевая файловая систем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F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ivial File Transfer Protocol - простой протокол передачи файлов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N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Simple Network Management Protocol - простой протокол управления сетью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N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omain Name Service - доменная служба име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рикладные процессы на основе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F6E3-1AD2-4CDC-9631-83A3032962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ansmission Control Protocol - протокол контроля передачи)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адежный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байт-ориентированный (byte-stream) протокол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 установлением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 TCP осуществляет передачу данных, получаемых от прикладного процесса. Поток данных разбивается модулем TCP на сегменты. Передача сегментов осуществляется между сокетами с предварительным выполнением диалоговой процедуры установления соединения и с контролем успешной доставки сегментов в процессе пере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E2C4-EFC2-40E3-8070-B2ACF3E881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Установка TCP-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54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3A0D-86F1-4AF2-A42D-F51F458932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 скользящего 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720" y="1166760"/>
            <a:ext cx="8388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455F-BF40-42C1-90EE-12F026C2E6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аждому узлу Интернет (точнее, каждому IP-интерфейсу) присваивается уникальный 32-битный адрес, состоящий из адреса сети, в которой находится компьютер, и номера компьютера в этой сети. Сетевая маска (32 бита) позволяет отделить адрес сети от номера компьютера. В каждой сети определяется широковещательный адрес ("всем узлам этой сети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-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9C7F-8482-48E6-8775-441388E818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32-битный идентификатор IP-интерфейса, состоящий из адреса сети и номера хоста. Местоположение границы между двумя частями адреса может быть различным в разных адресах и определяется разными способами в классовой и бесклассовой мо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Стек протоколов TCP/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2301-EDBE-4B6A-A391-ECE2537ED0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пример, ад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010100010000010110000011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записывается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.01010001.00000101.1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60.81.5.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D312-C32A-4508-818A-4FF61355DE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особ построения адреса, когда граница между адресом сети и номером хоста в IP-адресе проходит по границе октета (между битами 7 и 8, или 15 и 16, или 23 и 24), при этом местоположение этой границы определяется значением страшего окт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Бес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CIDR) - способ построения адреса, граница между адресом сети и номером хоста в IP-адресе проходит в произвольном месте. Местоположение границы определяется сетевой маской, которая в этом случае прилагается к IP-адр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. Классовая и бесклассовая 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8655-56E8-4FC3-82FB-09BB23184D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лассы IP-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1640" y="969840"/>
            <a:ext cx="5256360" cy="35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71640" y="3998880"/>
            <a:ext cx="52927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6CDB-2816-4844-8259-90D5E8F66E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удобства записи IP-адрес в модели CIDR часто представляется в виде a.b.c.d / n, где a.b.c.d — IP адрес, n — количество бит в сетевой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мер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137.158.128.0/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для этого адреса: 17 единиц (сетевая часть), за ними 15 нулей (хостовая часть), что в октетном представлени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11111111.11111111.10000000.00000000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255.255.128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пись адресов в бесклассов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E4A4-1D4C-4713-A26C-7F0A6C1DB7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/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  netmask = 255.255.255.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Tahoma"/>
              </a:rPr>
              <a:t>в двоичном ви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 </a:t>
            </a: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= 11001101 00100101 11000111 100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   = 11111111 11111111 11111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network = 11001101 00100101 11000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олотов С. Протоколы Internet: Руководство для профессионалов. – СПб.: BHV-СПб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4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1) Уровни стека TCP/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2) Протокол IC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3) Протокол U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4) Протокол T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5) IP-адрес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6) Классовая</a:t>
            </a: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и бесклассовая 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975A-245B-4F38-AFA9-B6C77CDCC1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- набор средств низкого уровня, которые обеспечивают передачу данных между компьютерами через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исы Интернет и прикладные программы, которые изучаются в настоящем курсе, пользуются TCP/IP для взаимодействия между собой - аналогично как люди пользуются телефонной се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347A-9695-40DF-8294-D281116070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устроен в виде многоуровневой системы, где каждый уровень выполняет свою функцию по обеспечению передачи данных между компьютерами. Детали работы каждого уровня скрыты от других уровней; каждый уровень взаимодействует только со своими соседними уровнями сверху и с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Уровни стека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34E7-178C-4FFC-8874-2D7AF40BEB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крытые стандарты протоколов, разрабатываемые независимо от программного и аппаратного обесп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езависимость от физической среды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истема адресации, позволяющая уникально идентифицировать каждый компьютер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тандартизованные протоколы прикладного уровня, реализующие сервисы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обенности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033F-C662-4474-82B0-EE16C9DDD5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944640"/>
            <a:ext cx="6696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4471-02ED-4CDF-BCB7-08F3297867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ображение IP-адресов в физические адреса сети (MAC-адрес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капсуляция IP-дейтаграмм (datagrams) в кадры (frames) для передачи по физическому каналу и передача кад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 этом уровне работает протокол ARP, осуществляющий отображение адр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-&gt;M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Network Access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70A7-07AD-48A3-8224-4FBCC7103B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дейтаграммы - основного блока передачи данных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схемы адресации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ередвижение данных между транспортным уровнем и уровнем доступа к среде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маршрутизация дейтагра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фрагментация дейтаграмм на границе сред с различными размерами блока передаваемых данных и сборка фрагментированных дейтаграмм в месте на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Функции протокола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 в Internet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12:19Z</dcterms:modified>
  <cp:revision>178</cp:revision>
  <dc:subject/>
  <dc:title>Lecture Template </dc:title>
</cp:coreProperties>
</file>