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7B5-F393-473E-9DA8-1EEE90F1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315-F36F-4C0F-8624-F8BDA9C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C37-5D8E-4FBF-812C-35205AA8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266-ABAF-4297-89BB-CAA58478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78B-576F-43B3-89FF-E6676FB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56F-A847-4733-9934-6458457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583-9DA1-4448-B7CC-48D54CAE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632-024E-4316-86AA-B27030E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810-C19C-4702-B909-E1521716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28B-EA92-4601-A8F7-D5FB81EF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BA6-8A34-4E9D-9F6E-FFA95B0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A4E-A58E-4F38-BDB9-774A2326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230-11B8-40F2-AE1C-D69CFF354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0870-556C-45B3-8BEA-B513014E7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утпа позволяют фильтровать входящий и исходящий трафик в сети в зависимости от адресов источника и приемника, номеров портов, протоколов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239-0C24-41C3-9223-863E3E55D2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защиты целой сети от несанкционированных соединений можно подключить списки доступа на входном маршрутизаторе (шлюзе). Параметры любой входящей или исходящей дейтаграммы (адрес источника, места назначения, номера портов и т.п.) проверяется по списку и в зависимости от результата дейтаграмма либо пропускается маршрутизатором, либо уничто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74D0-253B-4CFD-9276-7F8976C44A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 строятся командой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 (режим доступен через команд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n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зате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nfigure termina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, каждый список определяется номером - числом в диапазоне 0-99. Синтаксис команды для ввода строки в спис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адрес_источника  [маска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ов доступа маршрутизаторов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85CF-E9EC-4775-883E-F486CCCE38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аннулирования списка доступа следует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 access-list номер_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применения списка доступа к дейтаграммам, проходящим через определенный интерфейс, нужно в режиме конфигурации этого интерфейса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access_group номер_списка {in | ou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340-591D-46B2-9D7F-5322B6A9C0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xtended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писки доступа, имеющие большее количество параметров и предлагающие более богатые возможности для контрол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списки доступа создаются также с помощью команд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, но номера этих списков лежат в диапазоне 100-1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B5DF-AB4F-4555-BA4E-91334EFAE3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й спискок для контроля TCP-соедин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tcp адрес_источника маска [оператор порт [порт]] адрес_назначения маска [оператор порт [порт]] [establishe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аски для адреса источника и хоста назначения определяются так же, как и в стандартных списках. Оператор должен иметь одно из следующих зна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lt (строго меньше), gt (строго больше), eq (равно), neq (не равно), range (диапазон включительно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855F-6879-4B8C-96BF-8056B1BAE1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Запретить установление соединений с помощью протокола telnet со всеми хостами сети 172.16.252.0 netmask 255.255.252.0 со стороны всех хостов Интернет, причем в обратном направлении все соединения должны устанав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172.16.252.0  0.0.3.255 eq 23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deny tcp any 172.16.252.0  0.0.3.255 eq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AAD3-46BC-4F58-8CF6-313BB9B837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омер_спи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{deny | permit} icm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источни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аск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назнач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а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[icmp-тип [icmp-код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гд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тип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, если требуется уточнение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ко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ределяют ICMP-сообщение. Обычно в целях безопасности не пропускаются ICMP-сообщения типа Redirect (Изменить маршрут), т.е. сообщения тип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онтроль за ICMP сообщ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ED7B-FA4C-4C1B-BD63-65107AA62A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source-routing - использование опции протокола IP, позволяющей фиксировать маршрут дейтаграммы (опасность подстановки ложных адресов отправите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ть окна для пропуска необходимого TCP-трафика, например, разрешить доступ из Интернет к WWW, email, FTP серверам предприятия, разрешить любой доступ в Интернет из сети предпри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ступ извне по порту 53/TCP (передача зоны вторичному серверу DNS) разрешить только вторичным серверам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E20C-7C0E-43EE-B75D-F373555E70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есь остальной TCP-трафик запре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ропуск любых пакетов, приходящих извне с адресом отправителя, принадлежащим внутренней сети (такие пакеты либо ошибочны, либо отправлены злоумышленни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все соединения по UDP кроме порта 53 (DNS) (UDP - протокол без установления соединения, поэтому его сложнее контролиров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ередачу ICMP-сообщений типа Redi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Обеспечение безопасности в корпоратив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, что происходит при подключении клиента к серверу удаленного доступа на базе Unix (протокол PPP). Какие программы запускаются, в какой последовательности, что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 принцип работы демона оболочек сервисов TCP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формулируйте основные угрозы безопасности корпоративной IP-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Дайте сравнительные характеристики различных типов брандмауэ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ем отличаются стандартные и расширенные списки доступа на маршрутизаторах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IC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hapman and Zwicky. Building Internet Firewalls. – O’Reily and Associates, Inc.Huitema C. Routing in the Internet. – Prentice-Hall PTR,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Задача обеспечения безопасности в корпоратив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Общие правила составления списков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E523-D25D-4F91-BCA2-C37F397B6B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щита сети и данных - важная часть работы системного и сетевого администр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е методы защиты строятся на создании фильтров, анализирующих поступающие или исходящие данные с целью принятия решения о пропуске или блокировании трафика. Фильтры могут защищать целую сеть или отдельные сетевые сервисы какого-либо 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дачи обеспечения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B6EF-EE75-4FFB-9CEB-09C643401D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м средством защиты Unix-хоста от несанкционированного доступа является установка оболочек сервисов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 wrapp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 Принцип действия оболочек следующий: при поступлении запроса на соединение с каким-либо сетевым сервисом на хосте запускается не демон, обслуживающий этот сервис, а программа-оболочка, которая проверяет, разрешен ли сеанс с удаленным хостом, запросившим соединение, и в случае положительного результата запускает собственно требуемый 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EEE-6FAA-4E0A-9E06-9313FCBFF4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запуска оболочек для тех или иных сервисов следует модифицировать файл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net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так, чтобы при обращении на порты указанных сервисов вместо стандартного демона запускался демон оболочки, а в качестве параметра ему передавался путь к стандартному дем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finger stream tcp nowait  nobody  /usr/sbin/tcpd  in.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/usr/sbin/tcpd контролирует доступ к сервису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186E-83FE-4B4C-95C6-240202AE57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, которыми пользуется демон оболочки, содержатся в файлах /etc/hosts.allow, /etc/hosts.deny. При возникновении попытки соединения адрес хоста ищется сначала в файле hosts.allow, если он найден, то соединение разрешается, иначе производится поиск в hosts.deny. В случае успешного поиска соединение запрещается, иначе разре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писки доступа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 TCP wra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9F7E-592E-43E4-8347-20C5B5D1E8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ат файлов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allow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den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динаков, строка в файле име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ервисы:хосты[:действи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действи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ействие, выполняемое, в случае совпадения адреса хоста и требуемого сервиса с данной строкой (например, послать сообщение администратору); поле действие может отсут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оле хосты допускаются регулярное выражение *, оператор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L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XCE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64C-D324-4313-B9BB-9685072358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al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elnetd:194.84.124.0/255.255.255.0, 193.124.169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tpd:ALL EXCEPT 1.0.0.0/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deny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LL: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7:22Z</dcterms:modified>
  <cp:revision>174</cp:revision>
  <dc:subject/>
  <dc:title>Lecture Template </dc:title>
</cp:coreProperties>
</file>