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D95C-391E-4038-A25D-19EBB9A9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C603-60A5-4784-83CE-BD03E461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F8C8-E2FD-405C-8DFF-BAB95E45C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1DEB-B722-4F87-9060-783D6BBA1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9BED-BCAE-4308-A813-F5825D41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79F1-E037-4115-9F77-E8E4FCD7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DFD4-8C68-4E29-B114-CAAF983E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C498-B3CD-42A1-AAAF-B843CC0A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3867-D40D-4A69-AA8B-2ACDC02D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FA2D-2425-4AD1-94AB-FA81152D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78A4-51B7-4AA1-B606-8581020D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A2AA-D93D-4BFC-94AF-1BCF9EB1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B08D-8DA3-4BFA-A98D-45D788AE3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600"/>
            </a:b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Институт информатики инноваций и бизнес систем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редмет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«Технологии Интернет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Руководитель: Сачко Максим Анатольевич, старший преподавате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B590-95AF-4909-BA9B-89C1BECF9C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Служба DNS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представляет собой иерархическую структуру серверов, где каждый сервер отвечает за определенную зону - т.е. свою часть дерева доменных имен, хранит соответствующие базы данных и отвечает на запросы. При этом вышестоящие по дереву серверы имеют информацию об адресах нижестоящих серверов, что обеспечивает связность дере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E018-5A99-40BA-8359-137054F438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i="1" lang="en-US" sz="2800" spc="-1" strike="noStrike">
                <a:solidFill>
                  <a:srgbClr val="3333ff"/>
                </a:solidFill>
                <a:latin typeface="Tahoma"/>
              </a:rPr>
              <a:t>Различие между доменом и зоно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Домен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- это поддерево дерева доменных им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Зона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- это часть дерева, за которую отвечает тот или иной DNS-серв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DD77-96C5-430B-B1BB-4BD0117534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При ручном конфигурировании DNS-клиента указываютс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имя хос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домен, в котором находится данный хос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IP-адрес сервера DNS, обслуживающего этот доме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Конфигурирование клиента D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87280" y="1376280"/>
            <a:ext cx="3990960" cy="4800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1BDD-D6D9-4C62-BC36-D7860B4E86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rcRect l="0" t="7559" r="0" b="0"/>
          <a:stretch/>
        </p:blipFill>
        <p:spPr>
          <a:xfrm>
            <a:off x="5327640" y="1376280"/>
            <a:ext cx="3495600" cy="3962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58920" y="0"/>
            <a:ext cx="84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Ручное конфигурирование. Wind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887640" y="1989000"/>
            <a:ext cx="3848400" cy="4334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971640" y="2529000"/>
            <a:ext cx="311472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C986-1A2C-437B-9E70-89DEF38A71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1640" y="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Ручное конфигурирование. Uni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 Unix имя домена и адрес DNS-сервера указываются в файле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etc/resolv.conf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в формат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            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domain vvsu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            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nameserver 212.16.195.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Адрес сервера указывается исключительно в числовом ви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3A43-E922-4321-B813-FA82307FAE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Изменения в базу данных DNS могут быть внесены только на первичном серве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бслуживания клиентских запросов первичный и вторичные серверы идентичны, все они выдают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авторитативные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ответы. Рекомендуется, чтобы первичный и вторичные серверы находились в разных сетях - для увеличения надежности обработки запросов. Серверы DNS не обязаны находиться в том домене, за который они отвеча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6ED0-C3C0-4626-B566-9D59CD1418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братная зона предназначен для проведения обратного DNS-преобразования, т.е. "IP-адрес  в доменное имя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Технология этого преобразования, использующего специальный дом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                       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in-addr.arpa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 учетом, что всякое DNS-преобразование представляет собой поиск узла в дереве и возврат информации, связанной с этим уз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Обратная з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5181-DF60-4B72-B35C-0883B5433A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Пространство IP-адресов, записанных в десятично-точечной нотации, также представляет собой дерево (точнее, лес из 256 деревье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Отличие от иерархии доменных имен од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в доменном имени узлы, более близкие к корню, записываются справа, а в IP-адресе - сле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23B3-1CDF-4565-B2FE-9485565F90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33760" y="318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in-addr" descr="Fig 2.2"/>
          <p:cNvPicPr/>
          <p:nvPr/>
        </p:nvPicPr>
        <p:blipFill>
          <a:blip r:embed=""/>
          <a:stretch/>
        </p:blipFill>
        <p:spPr>
          <a:xfrm>
            <a:off x="358920" y="907920"/>
            <a:ext cx="8426160" cy="5364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2304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ahoma"/>
              </a:rPr>
              <a:t>Прямое и обратное преобразование в системе DN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 3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DNS – доменная система им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D43D-3E3E-4DEE-A222-C61E567531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оздание поддомена может потребоваться для удобства управления сетью организации со сложной структурой или если поддомен будет принадлежать другой орган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озданным поддоменом может управлять тот же сервер, либо полномочия по управлению поддоменом могут быть переданы другому серве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Поддо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 выполняется DNS-запро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Чем зона DNS отличается от доме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еречислите конфигурационные файлы, необходимые для первичного сервера зо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 разбить сеть класса С на поддомены? Сформулируйте основную проблему этой за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Сформулируйте, как обратное DNS преобразование технически сводится к прям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. Хант. Персональные компьютеры в сетях TCP/IP: Руководство администратора сети/ Пер. с англ. – СПб.: ЗАО "ЭлектроникаБизнесИнформатика", Киев: "BHV",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UNIX для системных администраторов: Энциклопедия пользователя/ Пер.с англ. – Киев: ДиаСофт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lbitz and Liu. DNS and BIND. – O’Reily and Associates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20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1) Имена и адр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2) Служба D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3) Конфигурирование клиента D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4) Другие службы распознавания имен и порядок их использования хо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5) Порядок выполнения DNS-за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6) Программа nsloo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0F8F-4B6A-4CAA-AF0E-E476775C78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7280" y="1198440"/>
            <a:ext cx="860436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омимо IP-адресов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хосты идентифицируются доменными именами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более легкими для запоминания и отражающими логическое структурирование с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оменное имя состоит из символьных полей, разделенных точ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BF29-D43E-4BE7-B837-23A475C4B5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Крайнее правое поле обозначает домен верхнего уровня, далее, справа налево, следуют поддомены в порядке иерархической вложенности, крайнее левое поле обозначает имя хо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i="1" lang="ru-RU" sz="2800" spc="-1" strike="noStrike">
                <a:solidFill>
                  <a:srgbClr val="3333ff"/>
                </a:solidFill>
                <a:latin typeface="Tahoma"/>
              </a:rPr>
              <a:t>crypt.iae.nsk.su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хост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cryp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в домен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ia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который находится внутри домен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nsk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который в свою очередь находится внутри домен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su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1B56-8528-4467-9A06-C8CEBBE2E6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1780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dom-tree" descr="Fig 2.1"/>
          <p:cNvPicPr/>
          <p:nvPr/>
        </p:nvPicPr>
        <p:blipFill>
          <a:blip r:embed="rId1"/>
          <a:stretch/>
        </p:blipFill>
        <p:spPr>
          <a:xfrm>
            <a:off x="287280" y="1560600"/>
            <a:ext cx="8532720" cy="4460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58920" y="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Дерево доменных и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56CD-8268-4FB9-830F-BE8217EBEF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Корнем дерева является домен "." (точка). Полное -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абсолютное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ли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олностью определенное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fully qualified domain na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доменное имя заканчивается точкой, обозначающей корень доменного дерева, но часто эта завершающая точка опуск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оменами верхнего уровня выступают двухбуквенные национальные домены или трехбуквенные домены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com, edu, org, net, gov, int, m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623E-ECA7-4594-9DA8-725FD95286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Имя домена (например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vvsu.ru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 может выступать также как и имя узла, т.е. быть указателем на связанную с этим именем информ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Например, такой информацией может бы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IP-адре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8E20-07FD-466C-8BF0-AD18B6AE1A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етевое программное обеспечение, маршрутизаторы и другая сетевая аппаратура работают c IP-адресами. Преобразования "</a:t>
            </a:r>
            <a:r>
              <a:rPr b="0" i="1" lang="en-US" sz="2800" spc="-1" strike="noStrike">
                <a:solidFill>
                  <a:srgbClr val="3333ff"/>
                </a:solidFill>
                <a:latin typeface="Tahoma"/>
              </a:rPr>
              <a:t>доменное имя в IP адрес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" ("прямое")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выполняются службой DNS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путем поиска в доменном дереве нужного имени и извлечения связанной с этим именем информации требуемого типа (</a:t>
            </a:r>
            <a:r>
              <a:rPr b="0" i="1" lang="en-US" sz="2800" spc="-1" strike="noStrike">
                <a:solidFill>
                  <a:srgbClr val="3333ff"/>
                </a:solidFill>
                <a:latin typeface="Tahoma"/>
              </a:rPr>
              <a:t>IP-адрес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23:31Z</dcterms:modified>
  <cp:revision>178</cp:revision>
  <dc:subject/>
  <dc:title>Lecture Template </dc:title>
</cp:coreProperties>
</file>