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E55-AEBD-482C-8627-A5724993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4C7-4A29-4EB5-AF6B-53C69E08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717-0FAC-4AE0-98D9-69B1D69E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95D-7F2D-4F55-81B6-74195F54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A17-F675-4CDC-AC30-F3C55248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9B6-1865-42A9-B0D8-36FB7B51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8A9-8FA4-4A9E-A1DC-FBDFDC4D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D9A-D94E-443B-931A-BE1898E1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8BD-CF37-4D00-935B-5F95C519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F93-D3C1-432B-8D8A-3901739E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7A3-C1AB-42C5-8E7B-7351D71C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B4F-292A-424B-AB1B-4E30B5B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0098-8D80-4B22-BFD3-D6EEE5C2A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FE38-3811-48E6-90FC-CE7EEB9DEB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сновную роль в системе электронной почты играют программы трех тип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ранспортные агенты (MTA - Mail Transport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генты доставки (MDA - Mail Delivery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ьзовательские агенты (MUA - Mail User Ag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8ACE-5C93-4BDD-BE2E-6370943F0B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и заголовков почтовых сообщ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ос DNS на предмет имени и адреса почтового сервера адресата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еделение агента доставки для каждого сообщения и передача сообщения выбранному агенту доставк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управление очередью сообщений, отложенный и повторный вызов агентов доставки в случае невозможности немедленной доставки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возврат сообщений, которые по каким-либо причинам невозможно доставить по назнач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транспортн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6C38-0C77-4000-8C9E-6491507959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збор списков рассылки, пседонимов, переадресации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орвардинг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адресов в формат другой почтовой системы, если MTA функционирует как шлюз между двумя почтовыми системами (например, между Internet Mail и Sprint Mail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имени почтового домена отправителя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маскара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тановка служебных заголовков в сообщении, отражающих его маршрут и процесс обрабо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6461-692F-46D6-A70F-D06CA00C0D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local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, находящийся на этом же компьютере; доставка производится, например, добавлением содержимого сообщения в определенный файл (</a:t>
            </a:r>
            <a:r>
              <a:rPr b="0" i="1" lang="ru-RU" sz="2500" spc="-1" strike="noStrike">
                <a:solidFill>
                  <a:srgbClr val="3333ff"/>
                </a:solidFill>
                <a:latin typeface="Tahoma"/>
              </a:rPr>
              <a:t>в Unix это файл /var/mail/почтовый_ящик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 в другом почтовом домене; доставка производится путем соединения с транспортным агентом на удаленном сервере с помощью протокола SMT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og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должно быть обработано какой-либо программой; доставка производится вызовом этой программы, на вход которой подается содержимое пись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C353-A2CC-4B6E-9870-4841E9913B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учение сообщений с почтового серве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зентация, хранение, удаление и каталогизирование почтовых сообщ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ние нового сообщения и передача его транспортному агенту для дальнейшей обработки и доста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пользовательск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38DC-A4CC-4260-8FEE-1DF7444E58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ОС Unix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транспортным аген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является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endmail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тавшая де-факто стандартом MTA. Кроме того, в программу sendmail входи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гент доставки SM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Локальный агент доставк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 ключом "-d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U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гут использовать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, pine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различ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Tool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од X-Windows и друг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POP-сервер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быть использована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qpop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2.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035B-A8A6-46BD-A6A7-D6B9C638BC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Почтовое сообщение состоит из заголовков и тела. В заголовках указываются адреса отправителя и получателя (получателей) и другая служебная информ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Тело представляет собой 7-битный текст. Спецификация MIME позволяет пересылать в теле сообщения двоичные данные и создавать сложные сообщения, состоящие из нескольких частей с данными различных типов. При пересылке сообщения через SMTP создается конверт, состоящий из адресов отправителя и получателя, передаваемых в SMTP-сеан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8FD2-6253-405F-9EEC-162376CEAF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rom: 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ply-To: real_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: sidorov@vvsu.ru, "Petr Petrov" &lt;petrov@vvsu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с: "Jonh Smith" &lt;john@smith.a.com&gt;, &lt;sidorenko@c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Bcc: "Fox Mulder" &lt;mulder@fbi.gov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ubject: Happy New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ate: Sat, 15 Jan 2000 17:25:32 +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essage-ID: &lt;3.0.6.32.200623.007badf0@mail.a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ceived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Заголовки почтового 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78C6-2C7A-4B3C-A699-8C1833D494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purpose Internet Mail Extensions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фикации, определяющие дополнения в формате почтовых сообщений д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ересылки восьмибитных текстов и полностью двоичных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ддержки сложных сообщений, состоящих из нескольких разделов (возможно, содержащих данные разных тип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ирование и разбор сообщений в соответствии со спецификациями MIME производится пользовательскими почтовыми аг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M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1FC9-F863-4689-91A3-EE83A57B6D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HELO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AIL FROM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от_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CPT TO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VRFY</a:t>
            </a:r>
            <a:r>
              <a:rPr b="0" i="1" lang="ru-RU" sz="1800" spc="-1" strike="noStrike" baseline="-257000">
                <a:solidFill>
                  <a:srgbClr val="fafbfc"/>
                </a:solidFill>
                <a:latin typeface="Arial"/>
              </a:rPr>
              <a:t> email_ад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EXPN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ad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SM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C14A-34A5-4BD8-BEE1-C7392A8FBA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SE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имя_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SS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T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LE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POP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3556-9FF0-4E3E-813E-D3B568E02B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это транспортный почтовый агент (MTA) плюс агент доставки SMTP. Sendmail фактически является стандартным MTA для Unix и поставляется вместе с операционной сис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32CA-4CEC-442D-BDCB-086209D5A0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endmail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usr/lib/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sendmail.c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файла псевдоним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ali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других вспомогательных файлов, а также документов справочника man. Программа использует каталог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хранения конфигурационного и вспомогательных файлов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var/spool/mqueu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очереди сообщений. Путь к каталогу очереди сообщений может варьироваться от системы к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7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ем отличаются почтовые агенты: транспортный, доставки, пользовательс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разница между протоколами POP и SM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состоят функции почтового серв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Назовите составные части сложного почтового сообщения (текст с двумя файлами-приложениями)? Укажите ключевые для понимания формата сообщения заголовки 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M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 функции программы sendmail. Обоснуйте необходимость наличия сложного конфигурационного файла у эт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Сравните sendmail с другими транспортными аг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, какие возможности имеет sendmail для ограничения (фильтрации) входящих и исходящих сообщений; какие критерии при этом исполь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маскарадинг? Приведите ситуации, в которых он может понадоб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.Costales, E.Alman. Sendmail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рганизация службы электронной почты в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Основные команды протокола SMTP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а sendmail: ее функции и составные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E294-45AE-49D5-A4E5-CA62C5E055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лужба электронной почты состоит из сети почтовых серверов, обслуживающих определенные доменные имена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 серверах сортируются, обрабатываются и хранятся в ожидании получателя почтовые со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еры пересылают сообщения между собой через Интернет по протоколу SM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онечные пользователи работают либо непосредственно на серверах, либо чаще всего - за отдельными компьют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2EFB-B926-4F6A-8524-A308B5BCAD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Работа электронной почты организуется путем взаимодействия агентов трех типов: транспортных, пользовательских и агентов дост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Транспортны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ыполняют роль центров по обработке и маршрутизации пи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работают в связке с траспортными агентами и осуществляют доставку и пересылку сообщений тем или иным специфически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Пользовательски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заимодействуют непосредственно с челове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. Организация службы электронной почты в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C5C4-D779-4380-B15C-7244A85EB5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Транспортны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T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маршрутизацию почтовых сообщений, то есть анализ и преобразование заголовков письма и выбор и вызов нужного агента достав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Агент доставки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D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доставку или пересылку почтового сообщения тем или иным специфическим способ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ользовательски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U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предоставляющая конечному пользователю интерфейс для работы с почтовыми сообщени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95D4-45FE-4D67-ADC5-8A103BC82D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доменное имя, находящееся в правой части адреса электронной поч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ящи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левая часть адреса электронной почты, а также совокупность методов доставки и хранения почтовых сообщений внутри данного почтового до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Локальный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адрес электронной почты, находящийся в одном из почтовых доменов, обслуживаемых данным транспортным аг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C424-B484-47C6-B173-0006CAB96E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пересылки почтового сообщения транспортному аген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P-3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MA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; по сравнению с POP-3 предлагает расширенный набор услуг для конечного пользов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то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7415-0D69-4C9C-9E81-20F42D1ED8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94464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рганизация и функционирование службы электронной поч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43744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7:56Z</dcterms:modified>
  <cp:revision>238</cp:revision>
  <dc:subject/>
  <dc:title>Lecture Template </dc:title>
</cp:coreProperties>
</file>