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45C-E050-45B8-AF9E-4FE2B75B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A053-972B-4E03-9267-ACBF8668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A6F-DBF5-4A97-AAD8-EBBFC3DB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81EA-46D8-4713-AA76-47DB92CB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8C34-DA6E-4ACB-8800-A4CB2DD0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56D4-3CDF-41ED-9069-9143DFB0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D7A-E4E4-44E1-A729-A92EA6E4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3F76-4A28-40B5-8690-4E58750D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F2F-1A5B-4662-9839-1F42607F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BDB-C1A1-4720-9D13-71EFCC8B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8D1-87DA-4507-AC41-0B6A4B73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271-481F-4DA5-881D-BD3ED27C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5825-7B82-43D3-8BA4-1F0C459E2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41DA-E37D-4BE2-8A2D-110A199EE2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embership Quer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17) – запрос о наличии в сети членов групп. Запросы обо всех имеющихся группах – общие запросы – отправляются по адресу 224.0.0.1 ("всем узлам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embership Repor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22) – уведомление о наличии в сети члена группы (отправляется хостом – членом группы по адресу групп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Leave Grou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23) – уведомление об отсоединении хоста от группы (отправляется отсоединившимся хостом по адресу 224.0.0.2 – "всем маршрутизаторам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Типы IG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D9B3-3CAF-4D4B-ABF8-764790F379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Веерная рассылк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– наиболее простой метод маршрутизации групповых дейтаграмм, при котором дейтаграмма рассылается во все сети системы независимо от наличия в той или иной сети членов группы. При поступлении групповой дейтаграммы маршрутизатор проверяет, впервые ли он получает эту дейтаграмму. Если да, то маршрутизатор рассылает дейтаграмму через все свои интерфейсы, кроме того, с которого она была получена. Иначе дейтаграмма игнориру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Веерная рассылка (Floo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0DE0-C3B5-41EC-A99B-5E344D92E6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Остовые деревья (Spanning Tre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87850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11BD-3B10-4FD7-9AB0-FFB54DE409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RPF (Reverse Path Forwar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8560" y="728640"/>
            <a:ext cx="540252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10F5-9444-452D-9590-C02D667B91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CBT (Core Based Tre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3024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8931-D22C-4D79-A884-725E900DE1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DVMR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Distance Vector Multicast Routing Protocol) – самый старый протокол групповой маршрутизации, он используется в ядре экспериментальной сети MBONE. Протокол работает по технологии RPF с усечением, но для построения деревьев используется собственный дистанционно-векторный протокол, аналогичный протоколу 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4. 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8150-2593-4C81-A6D6-349024A84A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MOSP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Multicast OSPF) является расширением протокола OSPF. Маршрутизатор, поддерживающий это расширение, устанавливает бит "М" в поле "Options" сообщения "Hello". В базе данных состояния связей вводится дополнительный тип записи: для указанной сети перечисляются все группы, члены которых есть в этой сети. Эти записи, как и все прочие записи базы данных состояния связей, распространяются по системе сетей с помощью протокола веерной рассы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EC48-DE49-40D2-AB0F-FB2A6B2252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rotocol Independent Multicast) – два протокола групповой маршрутизации (для плотного и разреженного расположения членов групп, соответственно dense mode и sparse mode), не зависящие от используемого протокола "обычной" маршрутиз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 D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IM Dense Mode) используется в системах сетей с большой плотностью получа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C780-E292-45D8-91EC-0CA4340BF7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 S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rotocol Independent Multicast, Sparse mode, RFC-2362) применяется для маршрутизации дейтаграмм для малочисленных групп, члены которых находятся далеко друг от друга (в этом случае недостатки метода RPF с усечением становятся существенным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Функционирование протокола можно кратко описать как метод CBT, переходящий в RP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B201-6B9A-4942-9D23-5CD4CB85DF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рименение того или иного протокола групповой маршрутизации существенно зависит от того, плотно или разреженно расположены получатели группового трафика. Для плотного расположения годятся протоколы DVMRP, MOSPF и PIM DM; для разреженного подходят PIM SM и CB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бсу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8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Мультикастин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Укажите основную проблему в задаче передачи мульти­кастингового траф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состоит отличие случаев редкого и плотного расположения получателей мультикастинговых дейтаграмм с точки зрения методов их маршрут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ой протокол используется для отправки IP-дейтаграмм множеству хостов в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ие адреса, назначены для использования мультикастинг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ой основной недостаток использования групповой рассылки на транспортном уров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веерная рассыл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PIM 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Williamson B. "Developing IP Multicast Networks, Volume I".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Основные сведения о мультикастинг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Протокол IGM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Маршрутизация групповых дейтаграм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Протоколы маршрутизации групповых дейта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359B-3E66-4224-9695-CCCB78A2ED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Мультикастинго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multicasting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называется рассылка дейтаграмм группе получателей. Для идентификации групп используются специальные адреса получателя; эти адреса назначаются из класса D в диапазоне 224.0.0.0 – 239.255.255.25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ейтаграмма, направленная на групповой адрес, должна быть доставлена всем участникам группы. В дальнейшем в этой главе такие дейтаграммы мы будем называть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групповыми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. Основные с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C9B0-124D-4263-9111-3432F93B74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1 – все узлы в данной се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2 – все маршрутизаторы в данной се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5 – все OSPF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6 – выделенные OSPF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9 – маршрутизаторы RIP-2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10 – IGRP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1.1 – получатели информации по протоколу точного времени NT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Зарезервированные групповые адре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489D-9E8D-4606-B3BA-671AA6B7D1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Для организации IP-сети с поддержкой мультикастинга необходимо следующее (RFC-1112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оддержка мультикастинга в стеке TCP/IP расположенных в сети хост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оддержка групповой или широковещательной рассылки на уровне доступа к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1487-308D-4E96-92BE-76C09DAC50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IG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Internet Group Memebership Protocol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редназначен для регистрации на маршрутизаторе членов групп, находящихся в непосредственно присоединенных к нему сетях. Имея эту информацию, маршрутизатор может сообщать другим маршрутизаторам (с помощью протоколов групповой маршрутизации) о необходимости пересылки ему дейтаграмм для тех или иных груп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. Протокол IG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E6C0-FDB0-479F-B6DD-A6FC715614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GMP работает непосредственно поверх протокола IP, и идентифицируется значением 2 в поле "Protocol" заголовка IP-дейта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7F63-D667-4FE5-9AF0-3A3D52D782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2133720"/>
            <a:ext cx="8424720" cy="406692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yp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8 бит) – тип сооб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ax Response 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8 бит) – максимальное время отклика, задествовано только в сообщениях типа Membership Qu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Checksum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(16 бит) – контрольная сум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Group Addres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32 бита) – групповой IP-адре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ообщение IG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58920" y="907920"/>
            <a:ext cx="846108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27Z</dcterms:modified>
  <cp:revision>167</cp:revision>
  <dc:subject/>
  <dc:title>Lecture Template </dc:title>
</cp:coreProperties>
</file>