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62F-6667-4414-B038-3729D3E6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DA5-39FA-462E-B760-2D74DB63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23F-76BF-47B9-9CF0-28A011BD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8B0-ECCB-42D1-9E69-9325D4F3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260-8EED-4D3D-A5F5-8B880377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714-ED4F-41CE-8564-FD9730B1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499-A7A9-43CC-9E94-2D124346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0E0-98B5-4B10-8767-77726667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BEC-7560-44D5-B23D-02DEA2F5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D5E-3D8B-4973-8033-CEF61BAE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FD9-CB9D-4B81-8626-4254AAE7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027-52B2-4D1C-B9D1-80DB885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F37A-74EF-4992-B1F6-D8355D0F9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A5BE-4F05-48F5-B98B-8FFFE35D62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052640"/>
            <a:ext cx="8101080" cy="489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и процессы, с другой стороны, могут находиться не на самом верхнем уровне 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 этом сущность этих данных и их интерпретация для рассматриваемых процессов совершенно не важ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392A-A7FE-4E0A-8C88-5823BC1583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828000"/>
            <a:ext cx="842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иложения (Applic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интерфейс с приклад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едставления (Present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согласование представления (форматов, кодировок) данных приклад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ансовый уровень (Sess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установление, поддержка и закрытие логического сеанса связи между удален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247400"/>
            <a:ext cx="788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Транспортный уровень (Transport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обеспечение безошибочного сквозного обмена потоками данных между процессами во время сеан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тевой уровень (Network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фрагментация и сборка передаваемых транспортным уровнем данных, маршрутизация и продвижение их по сети от компьютера-отправителя к компьютеру-получате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696C-314B-450D-8028-964BC9A9F6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341360"/>
            <a:ext cx="78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анальный уровень (Data Link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управление каналом передачи данных, управление доступом к среде передачи, передача данных по каналу, обнаружение ошибок в канале и их корре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Физический уровень (Physical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физический интерфейс с каналом передачи данных, представление данных в виде физических сигналов и их кодирование (модуляция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DB6D-E6F1-4AE3-ADF2-4CD2121EBB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09680"/>
            <a:ext cx="817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. Инкапсуляция и обработка пак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При продвижении пакета данных по уровням сверху вниз каждый новый уровень добавляет к пакету свою служебную информацию в виде заголовка и, возможно, трейлера. Эта операция называется инкапсуляцией данных верхнего уровня в пакете нижнего уровня. Служебная информация предназначается для объекта того же уровня на удаленном компьютере, ее формат и интерпретация определяются протоколом данного уров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CC5E-FBE0-4C95-8F7D-3F8614839D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82808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Модель OSI предложена достаточно давно, однако протоколы, на ней основанные, используются редко, во-первых, в силу своей не всегда оправданной сложности, во-вторых , из-за существования хотя и не соответствующих строго модели OSI, но уже хорошо зарекомендовавших себя стеков протоколов (например, TCP/I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C2D1-E266-41DE-8434-F175A442DF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00" y="210060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. Стек протоколов TCP/IP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это собирательное название для набора (стека) сетевых протоколов разных уровней, используемых в Интер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9615-4130-49AB-8C9D-5C6D840DA3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873000"/>
            <a:ext cx="78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Особенности TCP/I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открытые стандарты протоколов, разрабатываемые независимо от программного и аппаратного обеспе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независимость от физической среды передач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система уникальной адрес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стандартизованные протоколы высокого уровня для распространенных пользовательских серви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B570-2361-4153-AB5A-390C639323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268280"/>
            <a:ext cx="8243640" cy="43927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Стек протоколов TCP/IP делится на 4 уров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прикладной (applicatio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транспортный (transpor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межсетевой (interne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уровень доступа к среде передачи (network acc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07D2-A151-4363-829F-A3B3BBE205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657360"/>
            <a:ext cx="8317080" cy="543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Уровень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Приложения, работающие со стеком TCP/IP, могут также выполнять функции уровней представления и частично сеансового модели OSI; например, преобразование данных к внешнему представлению, группировка данных для передачи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Распространенными примерами приложений являются программы telnet, ftp, HTTP-серверы и клиенты (WWW-броузеры), программы работы с электронной поч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Стеки сетевых протоколов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BDBF-49A7-4DB7-8773-6A6F7642C6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1916280"/>
            <a:ext cx="8209080" cy="3563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Транспортный уров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Протоколы транспортного уровня обеспечивают прозрачную (сквозную) доставку данных (end-to-end delivery service) между двумя прикладными процес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0266-4545-4355-979C-D59AEAE1A1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640" y="1881360"/>
            <a:ext cx="7993080" cy="42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30280" indent="-25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Процесс, получающий или отправляющий данные с помощью транспортного уровня, идентифицируется на этом уровне номером, который называется номером 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1676-A14B-4481-BDCA-FD7BE37A20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6360" y="1160640"/>
            <a:ext cx="8064360" cy="4789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На транспортном уровне работают два основных протоко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и TC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TCP (Transmission Control Protocol - протокол контроля передачи) -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надежный протокол с установлением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608F-DE18-4975-BD73-C9139B284E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015920"/>
            <a:ext cx="7777080" cy="486108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4.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(User Datagram Protocol, протокол пользовательских дейтаграмм) фактически не выполняет каких-либо особых функций дополнительно к функциям межсетевого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46E4-DA56-4105-8A55-17F4405EF0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1015920"/>
            <a:ext cx="8317080" cy="48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при пересылке коротких сообщений, когда накладные расходы на установление сеанса и проверку успешной доставки данных оказываются выше расходов на повторную (в случае неудачи) пересылку сообщ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в том случае, когда сама организация процесса-приложения обеспечивает установление соединения и проверку доставки пакетов (например, NFS).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D218-AA07-484D-AA99-DFE2ECFE00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744840"/>
            <a:ext cx="81727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Значения пол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Source Port - номер порта процесса-отправ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Destination Port - номер порта процесса-получ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Length - длина UDP-пакета вместе с заголовком в окте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Checksum - контрольная сумма. Контрольная сумма вычисляется таким же образом, как и в TCP-заголовке (см. п. 3.2); если UDP-пакет имеет нечетную длину, то при вычислении контрольной суммы к нему добавляется нулевой ок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427A-0562-46BB-9DB1-59F7856BBE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703160"/>
            <a:ext cx="85327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не имеет никаких средств подтверждения безошибочного приема данных или сообщения об ошибке, не обеспечивает приход сообщений в порядке отправки, не производит предварительного установления сеанса связи между прикладными процессами, поэтому он является ненадежным протоколом без установле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40428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Межсетевой уровень и протокол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040" y="2060280"/>
            <a:ext cx="793116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be0e3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IP доставляет блоки данных, называемых дейтаграммами, от одного IP-адреса к другому. IP-адрес является уикальным 32-битным идентификатором компьютера (точнее, его сетевого интерфей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280" y="1233000"/>
            <a:ext cx="7777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анные для дейтаграммы передаются IP-модулю транспортным уровнем. IP-модуль предваряет эти данные заголовком, содержащим IP-адреса отправителя и получателя и другую служебную информацию, и сформированная таким образом дейтаграмма передается на уровень доступа к среде передачи (например, одному из физических интерфейсов) для отправки по каналу передач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956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Модуль IP может отправить компьютеру-источнику этой дейтаграммы уведомление об ошибке; такие уведомления отправляются с помощью протокола ICMP, являющегося неотъемлемой частью модуля.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280" y="1520640"/>
            <a:ext cx="8121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)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2) Инкапсуляция и обработка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) Стек протоколов TCP/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4) Протокол IP и функции этого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5)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) Вопросы для само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7) Рекомендуемая литератур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5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C538-CE6C-4DA0-B872-25F56123A7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125360"/>
            <a:ext cx="7993080" cy="5004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1.1  Семиуровневая модель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ель OSI (Open System Interconnect Reference Model, Эталонная модель взаимодействия открытых систем) представляет собой универсальный стандарт на взаимодействие двух систем (компьютеров) через вычислительную се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8359-9EFC-42A1-82CB-8642C06835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413000"/>
            <a:ext cx="8064360" cy="4572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ый уровень определяется сервисом, который он предоставляет вышестоящему уровню, и протоколом - набором правил и форматов данных для взаимодействия между собой объектов одного уровня, работающих на разных компьютерах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2338-0117-4DAF-9825-76FECD6D7F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7921440" cy="39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Модель построена так, что объекты одного уровня двух взаимодействующих компьютеров сообщаются непосредственно друг с другом с помощью соответствующих протоколов, не зная, какие уровни лежат под ними и какие функции они выполня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CA3E-D731-4C65-959E-36C261F681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162864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Задача объектов - предоставить через стандартизованный интерфейс определенный сервис вышестоящему уровню, воспользовавшись, если нужно, сервисом, который предоставляет данному объекту нижележащий уровен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0E67-6EA0-47A5-B940-EADB8D9331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413000"/>
            <a:ext cx="820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1448280"/>
            <a:ext cx="78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Через стандартизованный интерфейс процесс-отправитель передает данные нижнему уровню, который предоставляет процессу сервис по пересылке данных, а процесс-получатель через такой же стандартизованный интерфейс получает эти данные от нижнего уров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9F62-955B-4508-A21E-23AAAF493E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73664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При этом ни один из процессов не знает и не имеет необходимости знать, как именно осуществляет передачу данных протокол нижнего уровня, сколько еще уровней находится под ним, какова физическая среда передачи данных и каким путем они движу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Maxim</cp:lastModifiedBy>
  <dcterms:modified xsi:type="dcterms:W3CDTF">2009-01-12T10:26:52Z</dcterms:modified>
  <cp:revision>135</cp:revision>
  <dc:subject/>
  <dc:title>Lecture Template </dc:title>
</cp:coreProperties>
</file>