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8BC-DE52-47D0-BB5D-52A6361E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915B-3E9A-4CE1-A644-37BB4C4A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249-49C3-4087-927F-F2102F79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0E2-4C08-4F10-A18E-D22FC93D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AF5-1617-4A19-A4AB-03045B10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AD9-8A21-42FD-B7A4-E6A57887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DDB-99E1-4B37-A5D7-15031853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62B-3ACA-4B00-AC04-41C86975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EE0-618F-4F45-B48E-8C2A60DD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60C-C19C-4FD0-BF07-C63CE605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D8E-22F1-4CD7-AE64-CA099E45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FDE-4C86-4941-B60D-BFB7F0F0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C461-7293-406B-A363-3B627348D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6FD7-598F-4503-96E1-8D6A769EB1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embership Quer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17) – запрос о наличии в сети членов групп. Запросы обо всех имеющихся группах – общие запросы – отправляются по адресу 224.0.0.1 ("всем узлам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embership Repor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22) – уведомление о наличии в сети члена группы (отправляется хостом – членом группы по адресу групп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Leave Grou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23) – уведомление об отсоединении хоста от группы (отправляется отсоединившимся хостом по адресу 224.0.0.2 – "всем маршрутизаторам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Типы IG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35A9-345B-4FBC-9DDE-B58D7A0ABB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еерная рассылк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– наиболее простой метод маршрутизации групповых дейтаграмм, при котором дейтаграмма рассылается во все сети системы независимо от наличия в той или иной сети членов группы. При поступлении групповой дейтаграммы маршрутизатор проверяет, впервые ли он получает эту дейтаграмму. Если да, то маршрутизатор рассылает дейтаграмму через все свои интерфейсы, кроме того, с которого она была получена. Иначе дейтаграмма игнориру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Веерная рассылка (Floo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668D-CB93-4221-A663-3900ADED97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Остовые деревья (Spanning Tr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8785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747C-413D-4742-90C2-E892DA0346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RPF (Reverse Path Forwar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8560" y="728640"/>
            <a:ext cx="54025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41A3-019E-49F3-822E-D9EFB78498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CBT (Core Based Tr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302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1EA3-14B2-41E9-B05B-FF26FEC262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DVMR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Distance Vector Multicast Routing Protocol) – самый старый протокол групповой маршрутизации, он используется в ядре экспериментальной сети MBONE. Протокол работает по технологии RPF с усечением, но для построения деревьев используется собственный дистанционно-векторный протокол, аналогичный протоколу 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4. 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0CB1-B732-4475-9401-826F74E282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MOSP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Multicast OSPF) является расширением протокола OSPF. Маршрутизатор, поддерживающий это расширение, устанавливает бит "М" в поле "Options" сообщения "Hello". В базе данных состояния связей вводится дополнительный тип записи: для указанной сети перечисляются все группы, члены которых есть в этой сети. Эти записи, как и все прочие записи базы данных состояния связей, распространяются по системе сетей с помощью протокола веерной рас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D0A6-2358-4EC3-8630-DACFA782BF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rotocol Independent Multicast) – два протокола групповой маршрутизации (для плотного и разреженного расположения членов групп, соответственно dense mode и sparse mode), не зависящие от используемого протокола "обычной" маршрут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 D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IM Dense Mode) используется в системах сетей с большой плотностью получ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C93F-E116-42F4-9629-73A2079B27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 S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rotocol Independent Multicast, Sparse mode, RFC-2362) применяется для маршрутизации дейтаграмм для малочисленных групп, члены которых находятся далеко друг от друга (в этом случае недостатки метода RPF с усечением становятся существенным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ункционирование протокола можно кратко описать как метод CBT, переходящий в RP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CD96-4A9B-45CC-900B-E4685D434F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рименение того или иного протокола групповой маршрутизации существенно зависит от того, плотно или разреженно расположены получатели группового трафика. Для плотного расположения годятся протоколы DVMRP, MOSPF и PIM DM; для разреженного подходят PIM SM и CB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бсу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Мультикаст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Укажите основную проблему в задаче передачи мульти­кастингового траф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ит отличие случаев редкого и плотного расположения получателей мультикастинговых дейтаграмм с точки зрения методов их 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ой протокол используется для отправки IP-дейтаграмм множеству хостов в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ие адреса, назначены для использования мультикастинг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ой основной недостаток использования групповой рассылки на транспортн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веерная рассыл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PIM 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Williamson B. "Developing IP Multicast Networks, Volume I".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Основные сведения о мультикастинг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Протокол IGM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Маршрутизация групповых дейтаграм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Протоколы маршрутизации групповых дейта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A570-88C1-4955-895B-061ABED7EA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Мультикастинг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multicasting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называется рассылка дейтаграмм группе получателей. Для идентификации групп используются специальные адреса получателя; эти адреса назначаются из класса D в диапазоне 224.0.0.0 – 239.255.255.2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ейтаграмма, направленная на групповой адрес, должна быть доставлена всем участникам группы. В дальнейшем в этой главе такие дейтаграммы мы будем называть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групповым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. Основны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8297-4181-40D0-84D4-B1D415F10F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1 – все узлы в данной се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2 – все маршрутизаторы в данной се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5 – все OSPF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6 – выделенные OSPF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9 – маршрутизаторы RIP-2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10 – IGRP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1.1 – получатели информации по протоколу точного времени NT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резервированные групповые адре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2DA9-CDEF-41EC-A270-4297A6E239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ля организации IP-сети с поддержкой мультикастинга необходимо следующее (RFC-1112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ддержка мультикастинга в стеке TCP/IP расположенных в сети хост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ддержка групповой или широковещательной рассылки на уровне доступа к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98C8-0296-40F2-816D-DE02C9FED1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IG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Internet Group Memebership Protocol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едназначен для регистрации на маршрутизаторе членов групп, находящихся в непосредственно присоединенных к нему сетях. Имея эту информацию, маршрутизатор может сообщать другим маршрутизаторам (с помощью протоколов групповой маршрутизации) о необходимости пересылки ему дейтаграмм для тех или иных гру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. Протокол I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4B60-0798-45E8-9F2D-91470CDDDF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GMP работает непосредственно поверх протокола IP, и идентифицируется значением 2 в поле "Protocol" заголовка IP-дейт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2D37-47D9-4846-A7AD-62F67A7A8B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133720"/>
            <a:ext cx="8424720" cy="40669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yp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 бит) – тип со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ax Response 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 бит) – максимальное время отклика, задествовано только в сообщениях типа Membership Qu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hecksum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(16 бит) – контрольная сум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roup Addres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32 бита) – групповой IP-адр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ообщение I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8920" y="907920"/>
            <a:ext cx="84610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27Z</dcterms:modified>
  <cp:revision>167</cp:revision>
  <dc:subject/>
  <dc:title>Lecture Template </dc:title>
</cp:coreProperties>
</file>