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59A-F3BE-4FF1-8330-8DCED496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FA7-FE07-4A52-9609-21A011E3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D2E-2E4C-431B-B345-3DDF94EE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008-322A-416D-AF8B-F6CC543F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B65-C0DB-450B-830A-580904C3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6C2-96EB-4195-B423-0B0EAAD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407-AD62-43FD-AA3E-4791456B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E24-7584-45D3-B031-F2385AD3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C89-9748-4F99-B83F-0CA3D406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ED7-D1DC-4C5A-9264-3799065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4F2-6F15-447A-8A1E-055831B3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2C2-BF85-4BB1-8A89-77CAFCBD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EB3E-CD1D-4920-91A9-12676072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71BA-DEC4-4CEF-A669-06E887BE14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8101080" cy="489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и процессы, с другой стороны, могут находиться не на самом верхнем уровне 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 этом сущность этих данных и их интерпретация для рассматриваемых процессов совершенно не важ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F754-4918-438F-BD20-3B3A8D7831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828000"/>
            <a:ext cx="84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иложения (Applic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интерфейс с приклад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едставления (Present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согласование представления (форматов, кодировок) данных приклад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ансовый уровень (Sess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установление, поддержка и закрытие логического сеанса связи между удален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247400"/>
            <a:ext cx="788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Транспортный уровень (Transport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обеспечение безошибочного сквозного обмена потоками данных между процессами во время сеан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тевой уровень (Network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фрагментация и сборка передаваемых транспортным уровнем данных, маршрутизация и продвижение их по сети от компьютера-отправителя к компьютеру-получате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B6E5-7F2A-4119-B5D4-7DE79B1960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341360"/>
            <a:ext cx="78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нальный уровень (Data Link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управление каналом передачи данных, управление доступом к среде передачи, передача данных по каналу, обнаружение ошибок в канале и их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Физический уровень (Physical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физический интерфейс с каналом передачи данных, представление данных в виде физических сигналов и их кодирование (модуляци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F0E8-28B3-4ED3-8E79-0DFBEB6CF0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968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. Инкапсуляция и обработка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При продвижении пакета данных по уровням сверху вниз каждый новый уровень добавляет к пакету свою служебную информацию в виде заголовка и, возможно, трейлера. Эта операция называется инкапсуляцией данных верхнего уровня в пакете нижнего уровня. Служебная информация предназначается для объекта того же уровня на удаленном компьютере, ее формат и интерпретация определяются протоколом данно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07C-1B2B-40CE-A2C7-1C59E2F388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82808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Модель OSI предложена достаточно давно, однако протоколы, на ней основанные, используются редко, во-первых, в силу своей не всегда оправданной сложности, во-вторых , из-за существования хотя и не соответствующих строго модели OSI, но уже хорошо зарекомендовавших себя стеков протоколов (например, TCP/I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58D9-6274-42E9-884E-D551721A50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21006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 Стек протоколов TCP/IP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это собирательное название для набора (стека) сетевых протоколов разных уровней, используемых в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EFB3-20EF-4C86-820E-8E32DEF3F0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873000"/>
            <a:ext cx="78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Особенности TCP/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открытые стандарты протоколов, разрабатываемые независимо от программного и аппаратного обеспе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независимость от физической среды переда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система уникальной адрес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тандартизованные протоколы высокого уровня для распространенных пользовательских серви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0016-699D-43EC-8259-9086C88F19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268280"/>
            <a:ext cx="8243640" cy="43927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Стек протоколов TCP/IP делится на 4 уров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прикладной (applicatio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транспортный (transpor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межсетевой (interne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уровень доступа к среде передачи (network acc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0C64-5E0F-4E27-9481-9C64521D73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657360"/>
            <a:ext cx="8317080" cy="543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Уровень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риложения, работающие со стеком TCP/IP, могут также выполнять функции уровней представления и частично сеансового модели OSI; например, преобразование данных к внешнему представлению, группировка данных для передач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Распространенными примерами приложений являются программы telnet, ftp, HTTP-серверы и клиенты (WWW-броузеры), программы работы с электронной поч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Стеки сетевых протоколов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4CE3-5D1C-430D-8238-902325EE10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916280"/>
            <a:ext cx="8209080" cy="3563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Транспортный уров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ротоколы транспортного уровня обеспечивают прозрачную (сквозную) доставку данных (end-to-end delivery service) между двумя прикладными процес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F75E-17D6-4BA0-993D-071FCE5BB8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640" y="1881360"/>
            <a:ext cx="7993080" cy="42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3028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Процесс, получающий или отправляющий данные с помощью транспортного уровня, идентифицируется на этом уровне номером, который называется номером 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4368-80F4-4AD8-B05B-1762CAE9E6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1160640"/>
            <a:ext cx="8064360" cy="4789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На транспортном уровне работают два основных прото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и TC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TCP (Transmission Control Protocol - протокол контроля передачи) -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надежный протокол с установлением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FE31-1512-4AEF-8CA8-DDD78BFC87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15920"/>
            <a:ext cx="7777080" cy="486108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4.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(User Datagram Protocol, протокол пользовательских дейтаграмм) фактически не выполняет каких-либо особых функций дополнительно к функциям межсетево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B6C0-65A2-4FF1-877F-D3F8EF88BD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1015920"/>
            <a:ext cx="8317080" cy="48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при пересылке коротких сообщений, когда накладные расходы на установление сеанса и проверку успешной доставки данных оказываются выше расходов на повторную (в случае неудачи) пересылку сообщ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в том случае, когда сама организация процесса-приложения обеспечивает установление соединения и проверку доставки пакетов (например, NFS).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5EF1-9C71-4061-B530-63D9C67750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744840"/>
            <a:ext cx="81727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Значения пол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Source Port - номер порта процесса-отправ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Destination Port - номер порта процесса-получ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Length - длина UDP-пакета вместе с заголовком в окт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Checksum - контрольная сумма. Контрольная сумма вычисляется таким же образом, как и в TCP-заголовке (см. п. 3.2); если UDP-пакет имеет нечетную длину, то при вычислении контрольной суммы к нему добавляется нулевой ок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C885-6600-4CBE-B126-1638F67CEB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703160"/>
            <a:ext cx="85327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не имеет никаких средств подтверждения безошибочного приема данных или сообщения об ошибке, не обеспечивает приход сообщений в порядке отправки, не производит предварительного установления сеанса связи между прикладными процессами, поэтому он является ненадежным протоколом без установле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Межсетевой уровень и протокол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2060280"/>
            <a:ext cx="79311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be0e3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IP доставляет блоки данных, называемых дейтаграммами, от одного IP-адреса к другому. IP-адрес является уикальным 32-битным идентификатором компьютера (точнее, его сетевого интерфей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1233000"/>
            <a:ext cx="7777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анные для дейтаграммы передаются IP-модулю транспортным уровнем. IP-модуль предваряет эти данные заголовком, содержащим IP-адреса отправителя и получателя и другую служебную информацию, и сформированная таким образом дейтаграмма передается на уровень доступа к среде передачи (например, одному из физических интерфейсов) для отправки по каналу передач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956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Модуль IP может отправить компьютеру-источнику этой дейтаграммы уведомление об ошибке; такие уведомления отправляются с помощью протокола ICMP, являющегося неотъемлемой частью модуля.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280" y="1520640"/>
            <a:ext cx="812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)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) Инкапсуляция и обработк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) Стек протоколов TCP/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4) Протокол IP и функции этого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5)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) Вопросы для само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7) Рекомендуемая литератур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5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C7A7-07DD-4DEB-9735-6BA6AA8ED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125360"/>
            <a:ext cx="7993080" cy="5004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1.1  Семиуровневая модель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ель OSI (Open System Interconnect Reference Model, Эталонная модель взаимодействия открытых систем) представляет собой универсальный стандарт на взаимодействие двух систем (компьютеров) через вычислительную с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7246-5782-49F8-B590-454DA3B91B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413000"/>
            <a:ext cx="8064360" cy="4572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ый уровень определяется сервисом, который он предоставляет вышестоящему уровню, и протоколом - набором правил и форматов данных для взаимодействия между собой объектов одного уровня, работающих на разных компьютерах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48A6-E598-4E0C-A5C5-C2E2C90479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7921440" cy="39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Модель построена так, что объекты одного уровня двух взаимодействующих компьютеров сообщаются непосредственно друг с другом с помощью соответствующих протоколов, не зная, какие уровни лежат под ними и какие функции они выполня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19EA-F6E5-40EC-A5E9-47F2F8B3D5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162864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Задача объектов - предоставить через стандартизованный интерфейс определенный сервис вышестоящему уровню, воспользовавшись, если нужно, сервисом, который предоставляет данному объекту нижележащий уровен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CE68-30FC-4DBB-8663-7F1FC29554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413000"/>
            <a:ext cx="820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1448280"/>
            <a:ext cx="78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Через стандартизованный интерфейс процесс-отправитель передает данные нижнему уровню, который предоставляет процессу сервис по пересылке данных, а процесс-получатель через такой же стандартизованный интерфейс получает эти данные от нижне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AD0C-DECF-4656-A861-42C87E3EDC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736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При этом ни один из процессов не знает и не имеет необходимости знать, как именно осуществляет передачу данных протокол нижнего уровня, сколько еще уровней находится под ним, какова физическая среда передачи данных и каким путем они движу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Maxim</cp:lastModifiedBy>
  <dcterms:modified xsi:type="dcterms:W3CDTF">2009-01-12T10:26:52Z</dcterms:modified>
  <cp:revision>135</cp:revision>
  <dc:subject/>
  <dc:title>Lecture Template </dc:title>
</cp:coreProperties>
</file>