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BCE-41FF-4F21-9653-2E449487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1A5-73D9-4A88-8660-69AB4D1D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47D-2E61-4258-93CB-6D00C24F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2BE-1A0A-467E-AA5A-DF096AB7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6A1-6E19-431D-93E2-84774198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169-B44B-4BD1-BC41-AEB9AF15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5ED-1354-42B7-8B90-1B7BF310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3D1-D3D2-4103-BCCE-5689D7E5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4DB-79D2-46EB-B11C-F11A2B4B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AB1-C6FA-42B3-AE42-123A74DE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04F-640C-4559-BB48-C6B9F76C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D12-9978-450D-BA7F-059FE607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B71F-0485-4A6D-A0CC-F921F4F7D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A0D5-5ACB-45CD-9D2E-7C2066AEF7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9280" y="6915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  <a:ea typeface="宋体"/>
              </a:rPr>
              <a:t>Установка TCP-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3211560" y="475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1305000"/>
            <a:ext cx="8534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85AE-D055-4BAF-9070-71D4AB779B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55440"/>
            <a:ext cx="73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Управление пот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етод скользящего ок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63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7640" y="1773360"/>
            <a:ext cx="8101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-36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2. Заголовок TCP-се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TCP-сегмент состоит из заголовка 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TCP Header"/>
          <p:cNvPicPr/>
          <p:nvPr/>
        </p:nvPicPr>
        <p:blipFill>
          <a:blip r:embed="rId1"/>
          <a:stretch/>
        </p:blipFill>
        <p:spPr>
          <a:xfrm>
            <a:off x="358920" y="1628640"/>
            <a:ext cx="8534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17D3-C35A-4157-93AA-280A52753B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237320"/>
            <a:ext cx="79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межуточные состояния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TCP-соединение во время функционирования проходит через ряд промежуточных состояний. Это состояния LISTEN, SYN-SENT, SYN-RECEIVED, ESTABLISHED, FIN-WAIT-1, FIN-WAIT-2, CLOSE-WAIT, CLOSING, LAST-ACK, TIME-WAIT, а также фиктивное состояние CLOSED. (Состояние CLOSED является фиктивным, поскольку оно представляет отсутствие соединени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BCD9-44F8-4D6A-8748-6B6275A037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62064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3280" y="-7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Фаза установления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3280" y="800280"/>
            <a:ext cx="8261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4E74-DFFB-4F5B-9751-792E391CBB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000" y="-72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Фаза закрытия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F931-6B09-44C2-A73A-6B7837037A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954360"/>
            <a:ext cx="810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ены следующие запросы процесса-клиента модулю TCP (с каждым запросом, кроме OPEN, передается имя соединения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ACTIVE-OPEN - активное открытие со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PASSIVE-OPEN - пассивное открытие соеди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476E-4476-43BA-8AC9-924C2B54D2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62880"/>
            <a:ext cx="81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END - отправка данных (передается указатель на буфер данных, размер буфера, значения флагов URG и PS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RECEIVE - получение данных (передается указатель на буфер данных, размер буфера; возвращается счетчик полученных октетов, значения флагов URG и PS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TATUS - запрос состояния со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326A-CA22-40EF-B6D8-4E679166B1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9280" y="1125360"/>
            <a:ext cx="77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E - закрытие соединения (производится досылка всех неотправленных данных и обмен сегментами с битом FIN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ABORT - ликвидация соединения (уничтожаются блок TCB и все неотправленные данные, посылается сегмент с битом RST)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60CD-5BC2-4B5B-BCCA-31C34E96FF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640" y="8060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ояния соеди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LISTEN - процесс пассивно ждет запроса со стороны чужих сок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YN-SENT - процесс отправил свой SYN и ждет чужого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YN-RECEIVED - процесс получил чужой SYN, отправил (раньше или только что) свой SYN и ждет ACK на свой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3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Протокол T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0ECD-2B31-46AF-B04B-086C55D894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188720"/>
            <a:ext cx="759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STABLISHED - процесс отправил ACK на чужой SYN, получил ACK на свой SYN; соединение установ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FIN-WAIT-1 - процесс первый отправил свой FIN и ждет реакцию той стороны; при этом он, возможно, продолжает получать д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5076-FA47-4E6E-A418-B0B89FC9CA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42920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ESTABLISHED - процесс отправил ACK на чужой SYN, получил ACK на свой SYN; соединение установ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FIN-WAIT-1 - процесс первый отправил свой FIN и ждет реакцию той стороны; при этом он, возможно, продолжает получать д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E552-B9D0-4706-9037-526797A2A2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640" y="1296360"/>
            <a:ext cx="802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FIN-WAIT-2 - процесс получил ACK на свой ранее отправленный FIN, но не получил чужой FIN; ждет чужой FIN; при этом, возможно, продолжает получать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CLOSE-WAIT - процесс, не отправив свой FIN (возможно, не собираясь прекращать соединение), получает чужой FIN; он отправляет ACK на чужой FIN, но при этом, возможно, продолжает отправлять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281880"/>
            <a:ext cx="846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LAST-ACK - процесс отправил свой FIN, но ранее он уже получил FIN с той стороны и отправил на него ACK; поэтому процесс ожидает чужой ACK на свой FIN для окончательного закрытия соеди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ING - процесс ранее отправил свой FIN и еще не получил не него подтверждение, но получил чужой FIN (и отправил на него ACK); ждет ACK на свой F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564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TIME-WAIT - процесс ранее отправил свой FIN и получил на него подтверждение, получил чужой FIN и только что отправил на него ACK; теперь процесс ждет некоторое время (два времени жизни сегмента, обычно 4 минуты) для гарантии того, что та сторона получит его ACK на свой FIN, после чего соединение будет окончательно закры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ED - соединение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овы недостатки протокола TCP? Подходы к их реш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приложение взаимодействует со стеком TCP/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а каком уровне стека TCP/IP находится протокол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чем состоит принцип асинхронной и синхронной передачи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ем идентифицируется прикладной процесс в протоколе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то такое метод скользящего ок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oyle J. "Routing TCP/IP. Volume I"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7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645560"/>
            <a:ext cx="79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宋体"/>
              </a:rPr>
              <a:t>1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Функции протокола T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Заголовок TCP-се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межуточные состояния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A44C-75E9-4656-8AEB-49063E819E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679400"/>
            <a:ext cx="78487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1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. Функции протокола T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Базовая передача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еспечение достовер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деление кана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правление соедине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правление пото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3170-0456-4769-AE8F-E2F4EE3A17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41336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TCP (Transmission Control Protocol, Протокол контроля передачи) обеспечивает сквозную доставку данных между прикладными процессами, запущенными на узлах, взаимодействующих по сети. Стандартное описание TCP содержится в RFC-79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94DD-F296-48CC-9B63-8027F218E6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698040"/>
            <a:ext cx="795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зовая передача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уль TCP выполняет передачу непрерывных потоков данных между своими клиентами в обоих направлениях. Клиентами TCP являются прикладные процессы, вызывающие модуль TCP при необходимости получить или отправить данные процессу-клиенту на другом уз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451F-FF1C-44BF-B1AF-56B6A334CB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9280" y="2133720"/>
            <a:ext cx="77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беспечение достовер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уль TCP обеспечивает защиту от повреждения, потери, дублирования и нарушения очередности получения дан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7456-85A5-471B-8BFE-91B6745FE6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6360" y="1178640"/>
            <a:ext cx="7920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азделение кан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токол TCP обеспечивает работу одновременно нескольких соединений. Заголовок TCP-сегмента содержит номера портов процесса-отправителя и процесса-получателя. При получении сегмента модуль TCP анализирует номер порта получателя и отправляет данные соответствующему прикладному проце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ED6A-B89A-4772-914E-8A052F6D0A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727200"/>
            <a:ext cx="71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Управление соедин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единение - это совокупность информации о состоянии потока данных, включающая сокеты, номера посланных, принятых и подтвержденных октетов, размеры ок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аждое соединение уникально идентифицируется в Интернет парой сок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23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3:39Z</dcterms:modified>
  <cp:revision>149</cp:revision>
  <dc:subject/>
  <dc:title>Lecture Template </dc:title>
</cp:coreProperties>
</file>