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09E-FAD3-4B86-8A7C-445AC22B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926-C147-4305-839C-3ABE5B31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EED-6232-4454-8DEC-06CC8077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D7BB-3422-48B7-B315-557B4D8D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C33-6883-4064-A82E-52E24D27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B6D-6CBE-45F8-A93D-AC122192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331-25C8-4178-A259-AE03FF89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262-1049-4CE1-BF4F-76DC79E1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F64-E7DA-4D07-8298-96929580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F31-EE8A-43CD-B511-F80CDAAB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5DE-8704-40CA-BB36-906C115C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6E1-395E-48F7-894E-51FE9012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750A-166B-421B-93AF-9071592DB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1C34-DCA4-4D7F-8F87-7D4778EE7A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11472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7640" y="79920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Точка обмена трафиком (Internet Exchange Poi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Точка обмена трафиком"/>
          <p:cNvPicPr/>
          <p:nvPr/>
        </p:nvPicPr>
        <p:blipFill>
          <a:blip r:embed="rId1"/>
          <a:stretch/>
        </p:blipFill>
        <p:spPr>
          <a:xfrm>
            <a:off x="826920" y="1700280"/>
            <a:ext cx="7417080" cy="3274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5445000"/>
            <a:ext cx="817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A-E – пограничные BGP-маршрутизаторы, АС1-АС5 – сети автономных систем, RS – сервер маршрутно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9280" y="322884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7640" y="946080"/>
            <a:ext cx="77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Исключение маршрутного сервера из маршрута производится путем установки значения атрибута NEXT_HOP: анонсируя маршруты в сеть АС1, сервер RS указывает NEXT_HOP=A. Таким образом, маршрутизатор (например, Е), получивший и принявший к использованию такой маршрут, будет пересылать данные, предназначенные для АС1, непосредственно маршрутизатору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77B5-EA58-4474-9164-5AAD5A0CFF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299232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585360"/>
            <a:ext cx="7885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 Атрибуты пути (Path Attribut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3.1.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ORIGIN (тип 1) – обязательный атрибут, указывающий источник информации о маршру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0 – IGP (информация о достижимости сети получена от протокола внутренней маршрутизации или введена администратором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2223-8C61-4DF8-BF96-6CCB17E1C2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640" y="3075120"/>
            <a:ext cx="781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19744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 – EGP (информация о достижимости сети импортирована из устаревшего протокола EGP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 – INCOMPLETE (информация получена другим образом, например, RIP-&gt;OSPF-&gt;BGP или BGP-&gt;OSPF-&gt;BGP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B237-53A7-44C5-AA7E-C7AC63931B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6360" y="3230640"/>
            <a:ext cx="802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1671840"/>
            <a:ext cx="802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Атрибут ORIGIN вставляется маршрутизатором, который генерирует информацию о маршруте, и при последующем анонсировании маршрута другими маршрутизаторами не изменяется. Атрибут фактически определяет надежность источника информации о маршруте (наиболее надежный ORIGIN=0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1953-C595-4263-8FF6-0DB14D97A4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19104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110240"/>
            <a:ext cx="78850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2. AS_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AS_PATH (тип 2) – обязательный атрибут, содержащий список автономных систем, через которые должна пройти дейтаграмма на пути в указанную в маршруте сеть. AS_PATH представляет собой чередование сегментов двух типов: AS_SEQUENCE – упорядоченный список АС, и AS_SET – множество 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0087-F297-4A74-BBBC-A38032BD62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6360" y="320508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640" y="1570680"/>
            <a:ext cx="774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3.3. NEXT_H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NEXT_HOP (тип 3) – обязательный атрибут, указывающий адрес следующего BGP-маршрутизатора на пути в заявленную сеть (см. обсуждение в п. 7.2); может совпадать или не совпадать с адресом BGP-узла, анонсирующего маршр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2C85-8C45-45EF-87B6-C22079B9E3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141720"/>
            <a:ext cx="795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427400"/>
            <a:ext cx="81010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4. MULTI_EXIT_DI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MULTI_EXIT_DISC (тип 4) – необязательный атрибут, представляющий собой приоритет использования объявляющего маршрутизатора для достижения через него анонсируемой сети, то есть фактически это метрика маршрута с точки зрения анонсирующего маршрут BGP-уз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6772-BE1A-4BFC-86ED-664B40D3AF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640" y="3259080"/>
            <a:ext cx="78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00" y="1868400"/>
            <a:ext cx="77407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5. LOCAL_PR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LOCAL_PREF (тип 5) – необязательный атрибут, устанавливающий для данной АС приоритет данного маршрута среди всех маршрутов к заявленной сети, известных внутри 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5EFC-448A-4009-8169-E27FB12558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3170160"/>
            <a:ext cx="817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9280" y="1485720"/>
            <a:ext cx="781344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6. Атрибуты агрег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ATOMIC_AGGREGATE (тип 6) и AGGREGATOR (тип 7) – необязательные атрибуты, связанные с операциями агрегирования (объединения) нескольких маршрутов в один. Для более детального ознакомления с ними отсылаем читателей к документу RFC-177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Тема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Протокол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C413-6668-4CDE-BBFD-105D29F2B0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3139920"/>
            <a:ext cx="79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2072160"/>
            <a:ext cx="77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4. Обработка маршрутной информации (Decision Process) и маршрутные поли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1. Decision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610B-5E51-4607-ACB3-58F1CEF662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Tahoma"/>
              </a:rPr>
              <a:t>Обработка маршрутной информации модулем BG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305000"/>
            <a:ext cx="87854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08A5-D966-4A06-BC26-B9EE5422C4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Конфликты маршрутных поли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8920" y="2060640"/>
            <a:ext cx="838836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2D16-7B80-4BA8-9E1C-F1B2B483A5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регулярное выражение для значения AS_PATH (частные случаи: номер конечной АС маршрута, АС соседа, от которого получен маршру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ети, в которую ведет маршру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оседа, приславшего информацию о маршрут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исхождение маршрута (атрибут ORIG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бор маршрутов из базы Adj-RIB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AFA1-1ED8-4AF6-B33B-F887C764B8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е принимать маршрут – удалить из Adj-RIBsIn (фильтрац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административный вес маршру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значение атрибута LOCAL_PREF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маршрут в качестве маршрута по умолч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литика к удовлетворяющему критер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8921-D603-451B-ADA0-800BA2D9AD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регулярное выражение для значения AS_PATH (частные случаи: номер конечной АС маршрута, АС соседа, от которого получен маршру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ети, в которую ведет маршру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оседа, которому этот маршрут объявля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исхождение маршрута (атрибут ORIG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бор маршрутов в базу Adj-RIBs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11D3-11DE-436F-8241-D3251969C1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е объявлять маршрут (фильтрац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MULTI_EXIT_DISC: не устанавливать, установить указанное значение, взять в качестве значения метрику маршрута из IG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извести агрегирование сетей в общий префик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одифицировать AS_PATH указанным образо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менить маршрут на defau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литика к удовлетворяющему критер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E645-6475-4621-A719-601BE073A2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ара BGP-соседей устанавливает между собой соединение по протоколу TCP, порт 179. Соседи, принадлежащие разным АС, должны быть доступны друг другу непосредственно; для соседей из одной АС такого ограничения нет, поскольку протокол внутренней маршрутизации обеспечит наличие всех необходимых маршрутов между узлами одной автоном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5.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Реализация B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5FB6-B393-43D8-958F-F6A91C8A75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OPEN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– посылается после установления TCP-соединения. Ответом на OPEN является сообщение KEEPALIVE, если вторая сторона согласна стать BGP-соседом; иначе посылается сообщение NOTIFICATION с кодом, поясняющим причину отказа, и соединение разры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KEEPALIVE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– сообщение предназначено для подтверждения согласия установить соседские отношения, а также для мониторинга активности открытого соединения: для этого BGP-соседи обмениваются KEEPALIVE-сообщениями через определенные интервалы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5E19-B83B-4BDF-AA37-6261930C90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UPDATE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– сообщение предназначено для анонсирования и отзыва маршрутов. После установления соединения с помощью сообщений UPDATE пересылаются все маршруты, которые маршрутизатор хочет объявить соседу (full update), после чего пересылаются только данные о добавленных или удаленных маршрутах по мере их появления (partial upda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7640" y="3263760"/>
            <a:ext cx="813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413640"/>
            <a:ext cx="777708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Задача внешней маршру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нутренний BGP, маршрутные серверы и атрибут NEXT_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Атрибуты пути (Path Attributes)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бработка маршрутной информации (Decision Process) и маршрутные поли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Реализация BGP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84BA-F334-43FF-BE7C-584A7EC823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NOTIFICATION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– сообщение этого типа используется для информирования соседа о причине закрытия соединения. После отправления этого сообщения BGP-соединение закры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8F6F-2BD6-4EC0-943C-D87F4C2FEF9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16 октетов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маркер: в сообщении OPEN всегда, и при раб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㔾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Ґе без аутентификации - в других собщениях, заполнен единицами. Иначе содержит аутентификационную информацию. Сопутствующая функция маркера - повышение надежности выделения границы сообщения в потоке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2 октет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длина сообщения в октетах, включая заголов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1 октет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тип со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Формат BGP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Назовите тип протокола маршрутизации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 называется связующая сеть BGP-системы не принадлежит ни к одной автономн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 помощью чего соединяются автономные BGP-сист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тупиковая автономная система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многопортовая автономная система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ят положительные и отрицательные особенности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Хелеби С., Мак-Ферсон Д. Принципы маршрутизации в Internet, 3-е издание. – М.: "Вильямс"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35CE-B3D2-474A-A5B3-68CC20E875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147840"/>
            <a:ext cx="817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6360" y="1494000"/>
            <a:ext cx="79200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Задача внешней маршру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строение маршрутов между сетями, принадлежащими разным автономным систем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529B-5D43-45F6-9853-338095F7F4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3154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836280"/>
            <a:ext cx="77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нутреннее строение автономных систем скрыто, известны только адреса IP-сетей, составляющих 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Автономные системы"/>
          <p:cNvPicPr/>
          <p:nvPr/>
        </p:nvPicPr>
        <p:blipFill>
          <a:blip r:embed="rId1"/>
          <a:stretch/>
        </p:blipFill>
        <p:spPr>
          <a:xfrm>
            <a:off x="934920" y="2384280"/>
            <a:ext cx="7201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9986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7426-3258-4D6A-A7DE-1341036018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3098880"/>
            <a:ext cx="828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920" y="793800"/>
            <a:ext cx="8245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2. Внутренний BGP, маршрутные серверы и атрибут NEXT_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BGP-маршрутизаторы, находящиеся в одной АС, также должны обмениваться между собой маршрутной информацией. Это необходимо для согласованного отбора внешних маршрутов в соответствии с политикой данной АС и для передачи транзитных маршрутов через автономную 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C141-0208-452F-AF07-4FCE99BAE3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640" y="3152880"/>
            <a:ext cx="777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9280" y="1879560"/>
            <a:ext cx="770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Такой обмен производится также по протоколу BGP, который в этом случае часто называется IBGP (Internal BGP), (соответственно, протокол обмена маршрутами между маршрутзаторами разных АС обозначается EBGP –External BG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29E2-28D9-4586-8965-598CE75A74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9280" y="1700280"/>
            <a:ext cx="78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184212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им образом, участникам группы нет необходимости устанавливать BGP-соединения попарно; вместо этого каждый участник устанавливает одно соединение с сервером. из различных 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4827-BB7A-42C3-9E46-80857C3A3B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1521000"/>
            <a:ext cx="759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6360" y="983160"/>
            <a:ext cx="792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Группой маршрутизаторов могут быть, например, все BGP-маршрутизаторы данной АС, однако маршрутные серверы могут применяться для уменьшения числа соединений также и на внешних BGP-соединениях – в случае, когда в одной физической сети находится много BGP-маршрутизаторов из различных 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19Z</dcterms:modified>
  <cp:revision>155</cp:revision>
  <dc:subject/>
  <dc:title>Lecture Template </dc:title>
</cp:coreProperties>
</file>