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45F-8313-45BB-A6F7-B5B41DCE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DEA-93E9-43C3-BEED-96127531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C15-8893-4122-BCC4-405418F1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CB7-A1C9-413A-A437-88CB6B9B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9BC-6060-4CD8-880C-B3861118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153-CA8C-4B15-A973-EE97D018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703-FE47-4002-BE83-32FB303F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B01-19E7-446D-A915-E2E3488A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11B-E1F9-4073-A710-CCF71021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213-071B-4FF2-B0FE-EB07CF18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B2E-B576-421E-A5C2-78910C24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BCB-0A41-4D2F-BAC8-DE1DC9CF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7285-4F4A-437B-AC7B-67B94DF70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633C-6DC6-481C-9F21-B36C967741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1472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640" y="79920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Точка обмена трафиком (Internet Exchange Poi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Точка обмена трафиком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327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5445000"/>
            <a:ext cx="81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A-E – пограничные BGP-маршрутизаторы, АС1-АС5 – сети автономных систем, RS – сервер маршрутн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9280" y="322884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946080"/>
            <a:ext cx="77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сключение маршрутного сервера из маршрута производится путем установки значения атрибута NEXT_HOP: анонсируя маршруты в сеть АС1, сервер RS указывает NEXT_HOP=A. Таким образом, маршрутизатор (например, Е), получивший и принявший к использованию такой маршрут, будет пересылать данные, предназначенные для АС1, непосредственно маршрутизатору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DD9F-80B3-4721-B3B5-D290645BA2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99232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8536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 Атрибуты пути (Path Attribu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1.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ORIGIN (тип 1) – обязательный атрибут, указывающий источник информации о маршру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0 – IGP (информация о достижимости сети получена от протокола внутренней маршрутизации или введена администратором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938D-E4A7-40EE-99BC-4356638F9C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640" y="3075120"/>
            <a:ext cx="781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1974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 – EGP (информация о достижимости сети импортирована из устаревшего протокола EGP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 – INCOMPLETE (информация получена другим образом, например, RIP-&gt;OSPF-&gt;BGP или BGP-&gt;OSPF-&gt;BGP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2C71-5F89-4B16-A05D-581FE09905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3230640"/>
            <a:ext cx="80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671840"/>
            <a:ext cx="802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трибут ORIGIN вставляется маршрутизатором, который генерирует информацию о маршруте, и при последующем анонсировании маршрута другими маршрутизаторами не изменяется. Атрибут фактически определяет надежность источника информации о маршруте (наиболее надежный ORIGIN=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7149-EA16-44D0-B973-CE746E5919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19104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10240"/>
            <a:ext cx="7885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2. AS_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S_PATH (тип 2) – обязательный атрибут, содержащий список автономных систем, через которые должна пройти дейтаграмма на пути в указанную в маршруте сеть. AS_PATH представляет собой чередование сегментов двух типов: AS_SEQUENCE – упорядоченный список АС, и AS_SET – множество 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1747-E862-4FB8-B6E4-E7D08AAF2C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360" y="32050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640" y="1570680"/>
            <a:ext cx="774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3. NEXT_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NEXT_HOP (тип 3) – обязательный атрибут, указывающий адрес следующего BGP-маршрутизатора на пути в заявленную сеть (см. обсуждение в п. 7.2); может совпадать или не совпадать с адресом BGP-узла, анонсирующего маршр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79FB-BB8D-4C3A-B300-E327845382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141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427400"/>
            <a:ext cx="8101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4. MULTI_EXIT_DI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 (тип 4) – необязательный атрибут, представляющий собой приоритет использования объявляющего маршрутизатора для достижения через него анонсируемой сети, то есть фактически это метрика маршрута с точки зрения анонсирующего маршрут BGP-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A153-9622-4696-B4E9-7104866080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640" y="325908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00" y="1868400"/>
            <a:ext cx="77407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5. LOCAL_PR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LOCAL_PREF (тип 5) – необязательный атрибут, устанавливающий для данной АС приоритет данного маршрута среди всех маршрутов к заявленной сети, известных внутри 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C033-5E87-4DC1-BDFE-95C2F5C88C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317016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9280" y="1485720"/>
            <a:ext cx="78134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6. Атрибуты агрег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TOMIC_AGGREGATE (тип 6) и AGGREGATOR (тип 7) – необязательные атрибуты, связанные с операциями агрегирования (объединения) нескольких маршрутов в один. Для более детального ознакомления с ними отсылаем читателей к документу RFC-177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Тем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Протокол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3EE6-3251-4802-B524-5DDC971B29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13992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072160"/>
            <a:ext cx="77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4. Обработка маршрутной информации (Decision Process) и маршрутные пол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1. Decis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F961-B141-400A-9366-1E57D43227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модулем BG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305000"/>
            <a:ext cx="87854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DCDF-8131-498D-B00C-A7CD1060DF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Конфликты маршрутных поли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920" y="2060640"/>
            <a:ext cx="838836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60E5-5100-4A75-9184-5F218DB7AF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приславшего информацию о маршрут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из базы Adj-RIB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60D5-0C5F-4102-A979-04BFE1845D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принимать маршрут – удалить из Adj-RIBsIn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административный вес маршру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значение атрибута LOCAL_PREF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маршрут в качестве маршрута по умолч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E0F0-E5AB-421F-90B5-FCBA885D9B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которому этот маршрут объявля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в базу Adj-RIBs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9345-724C-4DE6-B88C-6A9F958969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объявлять маршрут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: не устанавливать, установить указанное значение, взять в качестве значения метрику маршрута из IG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извести агрегирование сетей в общий префик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одифицировать AS_PATH указанным образ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менить маршрут на defa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7141-146B-4E09-AB93-87DBC481B4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ара BGP-соседей устанавливает между собой соединение по протоколу TCP, порт 179. Соседи, принадлежащие разным АС, должны быть доступны друг другу непосредственно; для соседей из одной АС такого ограничения нет, поскольку протокол внутренней маршрутизации обеспечит наличие всех необходимых маршрутов между узлами одной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5.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еализация B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30F3-08DF-44BE-828A-CB525B203D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OPEN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посылается после установления TCP-соединения. Ответом на OPEN является сообщение KEEPALIVE, если вторая сторона согласна стать BGP-соседом; иначе посылается сообщение NOTIFICATION с кодом, поясняющим причину отказа, и соединение раз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KEEPALIVE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подтверждения согласия установить соседские отношения, а также для мониторинга активности открытого соединения: для этого BGP-соседи обмениваются KEEPALIVE-сообщениями через определенные интервалы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D7F7-BA4B-43B0-ABFC-4336C68D3E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UPDATE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анонсирования и отзыва маршрутов. После установления соединения с помощью сообщений UPDATE пересылаются все маршруты, которые маршрутизатор хочет объявить соседу (full update), после чего пересылаются только данные о добавленных или удаленных маршрутах по мере их появления (partial upd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3263760"/>
            <a:ext cx="81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13640"/>
            <a:ext cx="77770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Атрибуты пути (Path Attributes)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(Decision Process) и маршрутные поли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Реализация BG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7E86-9D14-4375-950A-393B17A362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NOTIFICATION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– сообщение этого типа используется для информирования соседа о причине закрытия соединения. После отправления этого сообщения BGP-соединение зак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664A-9CA8-4FDD-8557-122D139F298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6 октетов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маркер: в сообщении OPEN всегда, и при раб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㔾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Ґе без аутентификации - в других собщениях, заполнен единицами. Иначе содержит аутентификационную информацию. Сопутствующая функция маркера - повышение надежности выделения границы сообщения в поток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 октет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длина сообщения в октетах, включая заголо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 октет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тип со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BGP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Назовите тип протокола маршрутизации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 называется связующая сеть BGP-системы не принадлежит ни к одной автономн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 помощью чего соединяются автономные BGP-сист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тупик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многопорт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ят положительные и отрицательные особенности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Хелеби С., Мак-Ферсон Д. Принципы маршрутизации в Internet, 3-е издание. – М.: "Вильямс"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126E-DE23-4EE2-BEFC-783462EC7E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14784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6360" y="1494000"/>
            <a:ext cx="7920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троение маршрутов между сетями, принадлежащими разным автономным систем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94F2-F144-4E41-99A8-175C68C7CF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154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83628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нутреннее строение автономных систем скрыто, известны только адреса IP-сетей, составляющих 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Автономные системы"/>
          <p:cNvPicPr/>
          <p:nvPr/>
        </p:nvPicPr>
        <p:blipFill>
          <a:blip r:embed="rId1"/>
          <a:stretch/>
        </p:blipFill>
        <p:spPr>
          <a:xfrm>
            <a:off x="934920" y="2384280"/>
            <a:ext cx="7201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986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53B6-30FA-432C-BDE6-5AA99FA95B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098880"/>
            <a:ext cx="828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793800"/>
            <a:ext cx="8245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2. 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BGP-маршрутизаторы, находящиеся в одной АС, также должны обмениваться между собой маршрутной информацией. Это необходимо для согласованного отбора внешних маршрутов в соответствии с политикой данной АС и для передачи транзитных маршрутов через автономн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2924-C668-4F86-B26F-60BB164A28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640" y="3152880"/>
            <a:ext cx="777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9280" y="1879560"/>
            <a:ext cx="770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ой обмен производится также по протоколу BGP, который в этом случае часто называется IBGP (Internal BGP), (соответственно, протокол обмена маршрутами между маршрутзаторами разных АС обозначается EBGP –External BG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CBF2-FA06-4A3C-9799-DD7D225C65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9280" y="1700280"/>
            <a:ext cx="78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84212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, участникам группы нет необходимости устанавливать BGP-соединения попарно; вместо этого каждый участник устанавливает одно соединение с сервером.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1AB3-2A03-45CA-A4AF-532AF2416E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521000"/>
            <a:ext cx="759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6360" y="983160"/>
            <a:ext cx="792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Группой маршрутизаторов могут быть, например, все BGP-маршрутизаторы данной АС, однако маршрутные серверы могут применяться для уменьшения числа соединений также и на внешних BGP-соединениях – в случае, когда в одной физической сети находится много BGP-маршрутизаторов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9Z</dcterms:modified>
  <cp:revision>155</cp:revision>
  <dc:subject/>
  <dc:title>Lecture Template </dc:title>
</cp:coreProperties>
</file>