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7DA-F1F3-42A9-93DD-580F8465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2C4-6D71-4FE5-AE04-A7AB6B56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0FD-057A-4F7B-A3DD-0319C362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714-00D9-4E78-8317-DA05B57D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553-B401-4DBC-851F-1BF01508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E9B-96B5-49F0-9C2B-1E0EFFA5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DF2-417F-434D-B9BC-60361E20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5C8-AAC2-4E1F-9024-09515112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F7B-E56C-4AA0-82EB-07A617A9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147-C9F9-4886-B96E-6DB88FD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91C-6C89-4548-A9E0-D8A682A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1F7-BEF9-4F46-87AC-5178EE55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691A-460B-43D3-8770-E4DF92FF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8FB0-0D65-4679-A583-CEBE445691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052640"/>
            <a:ext cx="8101080" cy="489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и процессы, с другой стороны, могут находиться не на самом верхнем уровне мо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 этом сущность этих данных и их интерпретация для рассматриваемых процессов совершенно не важ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B47F-16B2-4E64-8C18-6539512822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828000"/>
            <a:ext cx="842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иложения (Applic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интерфейс с приклад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едставления (Present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согласование представления (форматов, кодировок) данных прикладных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ансовый уровень (Sess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установление, поддержка и закрытие логического сеанса связи между удален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247400"/>
            <a:ext cx="788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Транспортный уровень (Transport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обеспечение безошибочного сквозного обмена потоками данных между процессами во время сеан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тевой уровень (Network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фрагментация и сборка передаваемых транспортным уровнем данных, маршрутизация и продвижение их по сети от компьютера-отправителя к компьютеру-получате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4AEA-8B5C-48E8-BA30-7713FA31D2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341360"/>
            <a:ext cx="78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Канальный уровень (Data Link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управление каналом передачи данных, управление доступом к среде передачи, передача данных по каналу, обнаружение ошибок в канале и их коррек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Физический уровень (Physical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физический интерфейс с каналом передачи данных, представление данных в виде физических сигналов и их кодирование (модуляция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5040-D798-48E9-B6D6-B780E938CF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09680"/>
            <a:ext cx="817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. Инкапсуляция и обработка пак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При продвижении пакета данных по уровням сверху вниз каждый новый уровень добавляет к пакету свою служебную информацию в виде заголовка и, возможно, трейлера. Эта операция называется инкапсуляцией данных верхнего уровня в пакете нижнего уровня. Служебная информация предназначается для объекта того же уровня на удаленном компьютере, ее формат и интерпретация определяются протоколом данного уров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816E-2EEE-4E7F-9D94-025693C385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828080"/>
            <a:ext cx="82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Модель OSI предложена достаточно давно, однако протоколы, на ней основанные, используются редко, во-первых, в силу своей не всегда оправданной сложности, во-вторых , из-за существования хотя и не соответствующих строго модели OSI, но уже хорошо зарекомендовавших себя стеков протоколов (например, TCP/I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8A4C-92CB-43F5-95AC-000DF87518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000" y="210060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. Стек протоколов TCP/IP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это собирательное название для набора (стека) сетевых протоколов разных уровней, используемых в Интерн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7488-DC9F-4A9F-9D1F-8F207228C8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873000"/>
            <a:ext cx="788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Особенности TCP/I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открытые стандарты протоколов, разрабатываемые независимо от программного и аппаратного обеспе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независимость от физической среды передач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система уникальной адрес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стандартизованные протоколы высокого уровня для распространенных пользовательских серви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9152-704E-4B37-8196-BE45D63E9F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268280"/>
            <a:ext cx="8243640" cy="43927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Стек протоколов TCP/IP делится на 4 уров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прикладной (applicatio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транспортный (transpor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межсетевой (interne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уровень доступа к среде передачи (network acce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710C-33B7-4AD3-85D0-660F60D695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657360"/>
            <a:ext cx="8317080" cy="543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Уровень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Приложения, работающие со стеком TCP/IP, могут также выполнять функции уровней представления и частично сеансового модели OSI; например, преобразование данных к внешнему представлению, группировка данных для передачи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Распространенными примерами приложений являются программы telnet, ftp, HTTP-серверы и клиенты (WWW-броузеры), программы работы с электронной поч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Стеки сетевых протоколов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6BA5-23E4-4906-B199-4E49CC5DFE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280" y="1916280"/>
            <a:ext cx="8209080" cy="3563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Транспортный уров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Протоколы транспортного уровня обеспечивают прозрачную (сквозную) доставку данных (end-to-end delivery service) между двумя прикладными процесс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F08F-F1A3-475A-B8FF-1906552577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640" y="1881360"/>
            <a:ext cx="7993080" cy="42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30280" indent="-254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Процесс, получающий или отправляющий данные с помощью транспортного уровня, идентифицируется на этом уровне номером, который называется номером 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6B87-B125-4298-A9D6-512483CBE2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6360" y="1160640"/>
            <a:ext cx="8064360" cy="4789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На транспортном уровне работают два основных протоко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и TC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TCP (Transmission Control Protocol - протокол контроля передачи) -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надежный протокол с установлением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9A04-8548-43EB-AB9A-73D419678B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015920"/>
            <a:ext cx="7777080" cy="486108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4.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(User Datagram Protocol, протокол пользовательских дейтаграмм) фактически не выполняет каких-либо особых функций дополнительно к функциям межсетевого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6897-485F-4307-957F-352E985FE5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1015920"/>
            <a:ext cx="8317080" cy="48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исполь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при пересылке коротких сообщений, когда накладные расходы на установление сеанса и проверку успешной доставки данных оказываются выше расходов на повторную (в случае неудачи) пересылку сообщ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в том случае, когда сама организация процесса-приложения обеспечивает установление соединения и проверку доставки пакетов (например, NFS).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34D7-B0CF-4C91-84C0-6C456CA992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744840"/>
            <a:ext cx="81727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ahoma"/>
              </a:rPr>
              <a:t>Значения пол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Source Port - номер порта процесса-отправ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Destination Port - номер порта процесса-получ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Length - длина UDP-пакета вместе с заголовком в окте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Checksum - контрольная сумма. Контрольная сумма вычисляется таким же образом, как и в TCP-заголовке (см. п. 3.2); если UDP-пакет имеет нечетную длину, то при вычислении контрольной суммы к нему добавляется нулевой окт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98E0-47A7-402A-9197-0918F6EB5A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1703160"/>
            <a:ext cx="853272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не имеет никаких средств подтверждения безошибочного приема данных или сообщения об ошибке, не обеспечивает приход сообщений в порядке отправки, не производит предварительного установления сеанса связи между прикладными процессами, поэтому он является ненадежным протоколом без установле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40428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Межсетевой уровень и протокол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040" y="2060280"/>
            <a:ext cx="793116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be0e3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IP доставляет блоки данных, называемых дейтаграммами, от одного IP-адреса к другому. IP-адрес является уикальным 32-битным идентификатором компьютера (точнее, его сетевого интерфей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280" y="1233000"/>
            <a:ext cx="7777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анные для дейтаграммы передаются IP-модулю транспортным уровнем. IP-модуль предваряет эти данные заголовком, содержащим IP-адреса отправителя и получателя и другую служебную информацию, и сформированная таким образом дейтаграмма передается на уровень доступа к среде передачи (например, одному из физических интерфейсов) для отправки по каналу передач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956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Модуль IP может отправить компьютеру-источнику этой дейтаграммы уведомление об ошибке; такие уведомления отправляются с помощью протокола ICMP, являющегося неотъемлемой частью модуля.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1280" y="1520640"/>
            <a:ext cx="8121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1)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2) Инкапсуляция и обработка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) Стек протоколов TCP/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4) Протокол IP и функции этого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5)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) Вопросы для само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7) Рекомендуемая литератур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5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0C4C-12CA-426C-8D81-74633AE60A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6360" y="1125360"/>
            <a:ext cx="7993080" cy="5004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1.1  Семиуровневая модель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ель OSI (Open System Interconnect Reference Model, Эталонная модель взаимодействия открытых систем) представляет собой универсальный стандарт на взаимодействие двух систем (компьютеров) через вычислительную се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419D-ACCC-4C95-8227-D124E37F88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413000"/>
            <a:ext cx="8064360" cy="4572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ый уровень определяется сервисом, который он предоставляет вышестоящему уровню, и протоколом - набором правил и форматов данных для взаимодействия между собой объектов одного уровня, работающих на разных компьютерах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CD38-305D-4272-AE63-F2CD5E6866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84280"/>
            <a:ext cx="7921440" cy="39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Модель построена так, что объекты одного уровня двух взаимодействующих компьютеров сообщаются непосредственно друг с другом с помощью соответствующих протоколов, не зная, какие уровни лежат под ними и какие функции они выполня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43D3-4FC0-42AA-BEA1-FA89817209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9280" y="162864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Задача объектов - предоставить через стандартизованный интерфейс определенный сервис вышестоящему уровню, воспользовавшись, если нужно, сервисом, который предоставляет данному объекту нижележащий уровень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CE25-3049-4068-A749-E6B24FE6FC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413000"/>
            <a:ext cx="820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1448280"/>
            <a:ext cx="78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Через стандартизованный интерфейс процесс-отправитель передает данные нижнему уровню, который предоставляет процессу сервис по пересылке данных, а процесс-получатель через такой же стандартизованный интерфейс получает эти данные от нижнего уров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99CA-E83F-4C8D-BD43-C7A4858976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73664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При этом ни один из процессов не знает и не имеет необходимости знать, как именно осуществляет передачу данных протокол нижнего уровня, сколько еще уровней находится под ним, какова физическая среда передачи данных и каким путем они движу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Maxim</cp:lastModifiedBy>
  <dcterms:modified xsi:type="dcterms:W3CDTF">2009-01-12T10:26:52Z</dcterms:modified>
  <cp:revision>135</cp:revision>
  <dc:subject/>
  <dc:title>Lecture Template </dc:title>
</cp:coreProperties>
</file>