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22C-D1A5-4488-A4BE-862DB361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8E9-754C-45ED-B5AD-ACA0D27B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E34-9D15-4865-9BCC-2AE54C57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6E4-6043-4966-B1AE-912DAFFA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BEF-ACF1-401B-8A01-BD770C5B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E10B-91FD-41E1-89FE-603262FB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60BA-E7F3-4764-B659-E38E756F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8B1D-BE4F-4863-89CE-5441286D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2CE-25B7-4867-97ED-00769357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640-2E15-4283-8412-BF01B52F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63F-BE75-4091-A423-22572ED1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FB8-D78F-4344-9F4F-5C75822B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C804-77C1-41FF-A82D-CEA225B0C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CB32-7334-4783-AD63-AC34190E02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66852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начальный момент времени (например, после подачи питания на маршрутизаторы) таблица маршрутов в узле  выглядит следующим образом (т.к. узел  знает только о тех сетях, к которым подключен непосредственно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Следовательно, узел  рассылает в сети А и В вектор расстояний (А=1,В=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01DC-0FA2-462A-9F30-221074BEDF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67500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скольку сети C и D вовсе не фигурируют в его таблице маршрутов, они туда вносятся. В узле  имее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D=2à 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9280" y="1093320"/>
            <a:ext cx="7993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Сеть Е в таблице узла  отсутству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3à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96DC-5CF9-4DF1-913F-D357A35208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674640"/>
            <a:ext cx="806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Итоговая таблица маршрутов маршрутизатора 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411B-5B41-40FF-BBDB-933F7DCD1F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88560"/>
            <a:ext cx="78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Изменение состояния RIP-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Выясним, что происходит в случае, когда состояние системы неожиданно изменяется, например, маршрутизатор  отключается от сети 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11280" y="3033720"/>
            <a:ext cx="64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C2F0-B660-4030-ADCA-854FE52FE4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6360" y="694800"/>
            <a:ext cx="802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6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6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16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ектор расстояний, построенный на основании этой таблицы, рассылается в сеть В, чтобы маршрутизаторы, направлявшие свои данные через  в ставшие недоступными сети, если таковые маршрутизаторы существуют, соответственно изменили свои маршрутные табл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E7B1-C306-4119-BC48-3B90D3E547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873000"/>
            <a:ext cx="79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узле ƒ имелась следующая таблица маршрут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1à 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CB57-CA7F-4E2B-9651-9C454C684A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6360" y="885960"/>
            <a:ext cx="79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Таким образом, узел  построил маршруты в обход поврежденного участка и восстановил достижимость всех сет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971F-2536-433C-98F2-D2FB2EE793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680120"/>
            <a:ext cx="79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2. Особые случа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ацикл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. Счет до бес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53E4-BE88-4DE0-AA6E-FC4BE312A0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2000" y="403920"/>
            <a:ext cx="78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Изменение состояния RIP-систем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50920" y="2060640"/>
            <a:ext cx="716616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4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ahoma"/>
              </a:rPr>
              <a:t>Протокол R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2579-6EDE-452B-A0B4-2AB2AB4D96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1640" y="327600"/>
            <a:ext cx="871236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ƒ отправлял дейтаграммы в сеть А через  , то есть таблица в узле ƒ имела ви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=2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осле отсоединения  от сети А узел ƒ получает от  вектор (A=16,B=1,C=16,D=16,E=2). Проанализировав этот вектор, ƒ делает вывод, что все указанные в нем расстояния больше значений, содержащихся в его маршрутной таблице, на основании чего этот вектор узлом ƒ игнориру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D78F-400D-4849-8542-B285BB66EE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792000"/>
            <a:ext cx="7921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Очевидно, после этого содержимое таблиц узлов  и ƒ стабилизируется.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749B-ABEC-4312-B393-10175A8EFD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640" y="-7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Счет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1449360"/>
            <a:ext cx="694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D4F7-73E2-4ECF-B76B-D72A3BB08B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9280" y="40680"/>
            <a:ext cx="774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ервоначально сеть А была подсоединена к узлу‚ но в какой-то момент времени произошла авария и сеть А оказалась изолирова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До момента аварии маршрутизаторы имели следующие записи относительно сети 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‚ А=1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ƒ А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„ А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Немедленно после аварии запись в таблице маршрутов узла А изменяется на А=16à ‚ , это говорит о том, что сеть А недостижима, а точнее, что сеть А через узел ‚ недостижим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FFC7-3AAC-4851-97E7-C805096363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640" y="1736640"/>
            <a:ext cx="80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ектор расстояний, рассылаемый из ‚ , с элементом A=16 достигает узла ƒ , но по какой-то причине задерживается на пути в „ . Согласно дополнениям к алгоритму рассылки векторов расстояний, приведенным в предыдущем пункте, узел ƒ вносит в свою таблицу запись А=16à ‚ и рассылает вектор с элементом А=1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2E3D-8D7E-4E8E-8499-98EAE8FCC1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9280" y="2546280"/>
            <a:ext cx="78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этот момент узел „ , до которого сообщение от узла ‚ о недостижимости сети А еще не дошло, рассылает в сети Е свой вектор с элементом А=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B22C-97A1-45A4-AED2-5832BF4343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7400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Узел ‚ , руководствуясь теми же соображениями, что и узел ƒ ранее, модифицирует свою таблицу: А=4à ƒ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1773720"/>
            <a:ext cx="799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ƒ получает этот вектор, прибавляет к расстоянию 1 и замечает, что оно меньше записанного в таблице (бесконечность), следовательно, в таблице маршрутов узла ƒ появляется запись А=3à „ . Вектор расстояний с элементом А=3 рассылается узлом ƒ в сети С и достигает узла ‚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4360" y="1480680"/>
            <a:ext cx="79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имерно в это время узел „ получает наконец-то вектор А=16, отправленный после аварии узлом ‚ , но вслед за этим из узла ‚ приходит вектор А=4, который узел ‚ рассылает в сети D. Поскольку „ отправляет дейтаграммы в сеть А через ‚ , он обязан реагировать на любые объявления узлом ‚ расстояния до сети А. Поэтому в таблице узла „ появляется А=5à ‚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47640" y="740160"/>
            <a:ext cx="7956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3. Реализация протокола 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Существуют две версии протокола RIP: RIP-1 и RIP-2. Версия 2 имеет некоторые усовершенствования, как то: возможность маршрутизации сетей по модели CIDR (кроме адреса сети передается и маска), поддержка мультикастинга, возможность использования аутентификации RIP-сообщений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47640" y="1770840"/>
            <a:ext cx="8137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Алгоритм построения таблицы маршру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обые случа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Реализация протокола 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475920"/>
            <a:ext cx="795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Типы и формат сооб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протоколе RIP имеются два типа сообщений, которыми обмениваются маршрутизато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твет (response) - рассылка вектора расстоя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прос (request) - маршрутизатор (например, после своей загрузки) запрашивает у соседей их маршрутные таблицы или данные об определенном маршру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мен сообщениями происходит по порту 520 UD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58920" y="1587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Формат сообщений обоих типов одинаков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030680" y="2239200"/>
            <a:ext cx="11080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RIP packet format"/>
          <p:cNvPicPr/>
          <p:nvPr/>
        </p:nvPicPr>
        <p:blipFill>
          <a:blip r:embed="rId1"/>
          <a:stretch/>
        </p:blipFill>
        <p:spPr>
          <a:xfrm>
            <a:off x="503280" y="1449360"/>
            <a:ext cx="831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76360" y="72576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ле "Command" определяет тип сообщения: 1 - request, 2 - response; поле "Version" - версию протокола (1 или 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ле "Address Family Identifier" содержит значение 2, которое обозначает семейство адресов IP; другие значения не определены. Поля "IP address" и "Metric" содержат адрес сети и расстояние до н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31640" y="1089000"/>
            <a:ext cx="82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и получении сообщения типа "ответ" для каждого содержащегося в нем элемента вектора расстояний модуль RIP выполняет следующие действ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веряет корректность адреса сети и маски, указанных в сообщен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веряет, не превышает ли метрика (расстояние до сети) бесконе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некорректный элемент игнориру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201744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- если метрика меньше бесконечности, она увеличивается на 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оизводится поиск сети, указанной в рассматриваемом элементе вектора расстояний, в таблице маршрут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1413000"/>
            <a:ext cx="795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если запись о такой сети в таблице маршрутов отсутствует и метрика в полученном элементе вектора меньше бесконечности, сеть вносится в таблицу маршрутов с указанной метрикой; в поле "Следующий маршрутизатор" заносится адрес маршрутизатора, приславшего сообщение; запускается таймер для этой записи в таблиц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19280" y="1917720"/>
            <a:ext cx="795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если искомая запись присутствует в таблице с метрикой больше, чем объявленная в полученном векторе, в таблицу вносятся новые метрика и, соответственно, адрес следующего маршрутизатора; таймер для этой записи перезапуска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9280" y="1197000"/>
            <a:ext cx="7920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сли искомая запись присутствует в таблице и отправителем полученного вектора был маршрутизатор, указанный в поле "Следующий маршрутизатор" этой записи, то таймер для этой записи перезапускается; более того, если при этом метрика в таблице отличается от метрики в полученном векторе расстояний, в таблицу вносится значение метрики из полученного векто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 во всех прочих случаях рассматриваемый элемент вектора расстояний игнориру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7280" y="298440"/>
            <a:ext cx="8353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щий порядок действий при конфигурировании модуля RIP следующ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, какие сети, подключенные к маршрутизатору, будут включены в RIP-сист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 "nonbroadcast networks", т.е. сети со статической маршрутизацией (например, тупиковые сети, подсоединенные к внешнему миру через единственный шлюз), куда не нужно рассылать векторы расстоя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 "permanent routes" - статические маршруты, например, маршрут по умолчанию за пределы автоном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6360" y="1341360"/>
            <a:ext cx="777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айте сравнительную характеристику протоколов RIP и OSPF. Определите область применения каждого из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 какому типу протокола маршрутизации относиться R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часто распространяется вектор расстояний в RIP системе по умолча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Исключительные ситуации в RIP системе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чем отличие версии протокола RIP-1 от RIP-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22EF-DA54-416B-A94D-30C1901E2B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683360"/>
            <a:ext cx="817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отокол RIP является дистанционно-векторным протоколом внутренней маршрутизации. Процесс работы протокола состоит в рассылке, получении и обработке векторов расстояний до IP-сетей, находящихся в области действия прото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011A-5216-4405-86F7-51AECE5E83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933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Результатом работы протокола на конкретном маршрутизаторе является таблица, где для каждой сети данной RIP-системы указано расстояние до этой сети (в хопах) и адрес следующего маршрутиз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5AD2-DBF8-4FEA-8070-5E56CBC678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90432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. Алгоритм построения таблицы маршру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А=2à 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означает, что расстояние от данного маршрутизатора до сети А равно 2, а дейтаграммы, следующие в сеть А, надо пересылать маршрутизатору ƒ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8101-2690-4599-9C83-E56DE743CA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640" y="193320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Вектором расстояний называется набор пар ("Сеть", "Расстояние до этой сети"), извлеченный из таблицы маршру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Это элементом вектора расстоя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1DC5-1725-48AC-A01A-F8D71FFB75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1700280"/>
            <a:ext cx="788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Каждый маршрутизатор, на котором запущен модуль RIP, периодически широковещательно распространяет свой вектор расстояний. Вектор распространяется через все интерфейсы маршрутизатора, подключенные к сетям, входящим в RIP-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Каждый маршрутизатор также периодически получает векторы расстояний от других маршрутизаторов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95DA-2AD6-4A21-9C61-4613F06F04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60280"/>
            <a:ext cx="81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Пример построения таблицы маршр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десь  , ‚ , ƒ , „  - маршрутизаторы, A, B, C, D, E - сети. Хосты в сетях не показаны за ненадобностью. Мы будем следить за формированием таблицы маршрутов в узле 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7093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3:48Z</dcterms:modified>
  <cp:revision>148</cp:revision>
  <dc:subject/>
  <dc:title>Lecture Template </dc:title>
</cp:coreProperties>
</file>