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6F91-D08E-47DD-8887-1E5D5781F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6344-081B-43FE-B792-4B02BBF2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D1D3-1B71-4FC8-9111-325204529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9255-1E7E-494C-8551-EDD6A349E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5F6D-8F0E-451C-93B8-B843040F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4B7F-6A6C-47A0-9AB6-CFA5A540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AE74-FAC2-479D-B110-F9AE1642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B0D8-9820-4A0C-8D96-6E0F6F78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8DE1-1B30-427B-8883-671A2B0B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97BF-45BF-478E-982E-72C28061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0334-83C2-4595-BD63-C3F0B620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79AC-B6DA-4F3E-BE39-76E98337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2D65-E7C0-4B84-8048-14E3CADCE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5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Институт информатики, инноваций и бизнес систем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федра информационных систем и компьютерны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Предм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«Телекоммуникационные технологии»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Руководитель: Сачко Максим Анатольевич, ст. препод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BA2A-E9B4-4E76-85B0-FBBB04AAB89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Membership Query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Type=17) – запрос о наличии в сети членов групп. Запросы обо всех имеющихся группах – общие запросы – отправляются по адресу 224.0.0.1 ("всем узлам"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Membership Repor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Type=22) – уведомление о наличии в сети члена группы (отправляется хостом – членом группы по адресу группы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Leave Grou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Type=23) – уведомление об отсоединении хоста от группы (отправляется отсоединившимся хостом по адресу 224.0.0.2 – "всем маршрутизаторам"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Типы IG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ообщ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52CA-C350-4F0B-884D-C4E4311102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Веерная рассылка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– наиболее простой метод маршрутизации групповых дейтаграмм, при котором дейтаграмма рассылается во все сети системы независимо от наличия в той или иной сети членов группы. При поступлении групповой дейтаграммы маршрутизатор проверяет, впервые ли он получает эту дейтаграмму. Если да, то маршрутизатор рассылает дейтаграмму через все свои интерфейсы, кроме того, с которого она была получена. Иначе дейтаграмма игнориру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Веерная рассылка (Flood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7648-9A21-4A80-8EFC-B5A1F486172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Остовые деревья (Spanning Tre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878508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C89A-F774-4E4D-AF43-0187A74A27B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RPF (Reverse Path Forward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98560" y="728640"/>
            <a:ext cx="540252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3426-A94F-45F3-A542-4DC3D16C1DA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CBT (Core Based Tre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763640" y="765000"/>
            <a:ext cx="530244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D51F-B858-4CCA-9487-4E8A15E12F1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ротокол DVMR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Distance Vector Multicast Routing Protocol) – самый старый протокол групповой маршрутизации, он используется в ядре экспериментальной сети MBONE. Протокол работает по технологии RPF с усечением, но для построения деревьев используется собственный дистанционно-векторный протокол, аналогичный протоколу R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4. Протоколы маршрутизации групповых дейта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23B1-4E88-426B-BD21-58BA87A7DE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ротокол MOSPF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Multicast OSPF) является расширением протокола OSPF. Маршрутизатор, поддерживающий это расширение, устанавливает бит "М" в поле "Options" сообщения "Hello". В базе данных состояния связей вводится дополнительный тип записи: для указанной сети перечисляются все группы, члены которых есть в этой сети. Эти записи, как и все прочие записи базы данных состояния связей, распространяются по системе сетей с помощью протокола веерной рассы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Протоколы маршрутизации групповых дейта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93F9-BC98-4B3C-BAD7-8C994670A61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PIM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Protocol Independent Multicast) – два протокола групповой маршрутизации (для плотного и разреженного расположения членов групп, соответственно dense mode и sparse mode), не зависящие от используемого протокола "обычной" маршрутиз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PIM DM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PIM Dense Mode) используется в системах сетей с большой плотностью получа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Протоколы маршрутизации групповых дейта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3BB0-C15E-4A53-A3D6-4396CD2CFD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PIM SM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Protocol Independent Multicast, Sparse mode, RFC-2362) применяется для маршрутизации дейтаграмм для малочисленных групп, члены которых находятся далеко друг от друга (в этом случае недостатки метода RPF с усечением становятся существенными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Функционирование протокола можно кратко описать как метод CBT, переходящий в RP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Протоколы маршрутизации групповых дейта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71D8-3C3B-41C1-9A73-3AA5B4D40D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Применение того или иного протокола групповой маршрутизации существенно зависит от того, плотно или разреженно расположены получатели группового трафика. Для плотного расположения годятся протоколы DVMRP, MOSPF и PIM DM; для разреженного подходят PIM SM и CB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Обсу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ru-RU" sz="41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8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Мультикастин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ff"/>
                </a:solidFill>
                <a:latin typeface="Tahoma"/>
              </a:rPr>
              <a:t>Вопросы для самопроверки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Укажите основную проблему в задаче передачи мульти­кастингового траф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 чем состоит отличие случаев редкого и плотного расположения получателей мультикастинговых дейтаграмм с точки зрения методов их маршрутиз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кой протокол используется для отправки IP-дейтаграмм множеству хостов в се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кие адреса, назначены для использования мультикастинг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кой основной недостаток использования групповой рассылки на транспортном уров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Что такое веерная рассыл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Что такое PIM S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А. Телекоммуникационные технологии (Сети TCP/IP). – Владивосток: Изд-во ВГУЭС, 20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Леинванд А., Пински Б. Конфигурирование маршрутизаторов Cisco. 3-е издание. – М.: "Вильямс", 200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Williamson B. "Developing IP Multicast Networks, Volume I". – Cisco Press,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2003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1) Основные сведения о мультикастинг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2) Протокол IGM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3) Маршрутизация групповых дейтаграм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4) Протоколы маршрутизации групповых дейтагра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7394-3DCA-4B19-9917-6FD38834EB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Мультикастингом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multicasting)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называется рассылка дейтаграмм группе получателей. Для идентификации групп используются специальные адреса получателя; эти адреса назначаются из класса D в диапазоне 224.0.0.0 – 239.255.255.25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ейтаграмма, направленная на групповой адрес, должна быть доставлена всем участникам группы. В дальнейшем в этой главе такие дейтаграммы мы будем называть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групповыми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. Основные с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DF9F-32D6-4A7B-B2C5-D1680AF56D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224.0.0.1 – все узлы в данной сет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224.0.0.2 – все маршрутизаторы в данной сет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224.0.0.5 – все OSPF-маршрутизатор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224.0.0.6 – выделенные OSPF-маршрутизатор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224.0.0.9 – маршрутизаторы RIP-2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224.0.0.10 – IGRP-маршрутизатор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224.0.1.1 – получатели информации по протоколу точного времени NT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Зарезервированные групповые адре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9758-80F9-4879-A762-89D3D7AA4B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Для организации IP-сети с поддержкой мультикастинга необходимо следующее (RFC-1112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поддержка мультикастинга в стеке TCP/IP расположенных в сети хосто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поддержка групповой или широковещательной рассылки на уровне доступа к се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5594-4996-4CEA-ACE0-0935423F47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ротокол IGM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Internet Group Memebership Protocol)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предназначен для регистрации на маршрутизаторе членов групп, находящихся в непосредственно присоединенных к нему сетях. Имея эту информацию, маршрутизатор может сообщать другим маршрутизаторам (с помощью протоколов групповой маршрутизации) о необходимости пересылки ему дейтаграмм для тех или иных груп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2. Протокол IG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1890-88F4-44EC-8CAD-EDA42A529C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IGMP работает непосредственно поверх протокола IP, и идентифицируется значением 2 в поле "Protocol" заголовка IP-дейта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832B-E5ED-4CA1-A3FB-9733383512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2133720"/>
            <a:ext cx="8424720" cy="406692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Typ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8 бит) – тип сообщ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Max Response Ti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8 бит) – максимальное время отклика, задествовано только в сообщениях типа Membership Que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Checksum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(16 бит) – контрольная сум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Group Addres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32 бита) – групповой IP-адре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ообщение IG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58920" y="907920"/>
            <a:ext cx="8461080" cy="11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54:27Z</dcterms:modified>
  <cp:revision>167</cp:revision>
  <dc:subject/>
  <dc:title>Lecture Template </dc:title>
</cp:coreProperties>
</file>