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CD3E-91AD-4AE2-BA36-640BC50C4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17CB-F3BA-4E67-B30C-77E16866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B922-959C-458B-910D-DB20980E5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E6DC-2C15-4080-8B48-B003038F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6F3B-3C4E-493B-B07D-E35FC94B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2C8-1A21-49E7-ADF8-F127F61F2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9F92-4125-48CF-A40B-79499296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13FC-A342-4979-AAD5-0C79F10C5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727-9138-4BA2-BEC9-157E7309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B86-F644-438E-826F-798892F3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8315-BC90-4AA5-80F4-D2230CB1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1CDC-374B-4C1A-A4E1-C2416750B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EA4D-A926-4132-95A9-98B98F00D46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 программ "1С:Предприятие" предназначена для решения широкого спектра задач автоматизации учета и управления, стоящих перед динамично развивающимися современными предприятиям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"1С:Предприятие" представляет собой систему прикладных решений, построенных по единым принципам и на единой технологической платформе. Руководитель может выбрать решение, которое соответствует актуальным потребностям предприятия и будет в дальнейшем развиваться по мере роста предприятия или расширения задач автоматиз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помним факториа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1 * 2 * 3 * … * (N-1) *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!=N * (N-1)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!=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писать программу вычисления факториал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 языка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цедура &lt;?&gt;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цедура &lt;Имя_проц&gt;([[Знач] &lt;Парам1&gt;[=&lt;ДефЗнач&gt;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 ,[Знач] &lt;ПарамN&gt;[=&lt;ДефЗнач&gt;]])[Экспорт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[Возврат;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//Операторы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ункция &lt;?&gt;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врат ??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ункция &lt;Имя_функции&gt;([[Знач] &lt;Парам1&gt;[=&lt;ДефЗнач&gt;], ... ,[Знач] &lt;ПарамN&gt;[=&lt;ДефЗнач&gt;]])[Экспорт]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Объявления локальных переменных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зврат &lt;ВозвращаемоеЗначение&gt;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// Операторы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&lt;?&gt; 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&lt;Логическое_выражение&gt;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Функция Факт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сли N&gt;1 Тог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(N*Факт(N-1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ач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озврат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Функц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общить(Факт(Параметр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писать программу для вывода на экран всех документов, подчиненных данному документ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предел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окумент2 считается подчиненным документу1, если в документе2 имеется реквизит, значение которого является ссылкой на документ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чиненные 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498680" y="1981080"/>
          <a:ext cx="61466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8680" y="1981080"/>
                    <a:ext cx="61466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ть конструкци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ка &lt;?&gt; 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Синтаксис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ка &lt;Логическое_выражение&gt; Цик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&lt;операторы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становка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Докум.ПолучитьДокумент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//Документ – реквизит формы, содержащий документ, для которого нужно найти подчиненные докумен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Решение задачи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ерем Дерево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ПолучитьПодчиненные(ТекДок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окум=СоздатьОбъект("Документ"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Докум.ВыбратьПодчиненныеДокументы(Документ.ДатаДок,ТекущаяДата(),ТекДок)=1 Тог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Дерево+"/"+ТекДок.Вид(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Дерево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ка Докум.ПолучитьДокумент()=1 Цик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общить("   "+Докум.Вид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.ТекущийДокумент()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Цикла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Если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цедура Сформировать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ерево=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ПолучитьПодчиненные(Документ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онецПроцедур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:Предприятие 7.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 актуальных задач учета и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ндартные, специализированные и индивидуальные реше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прерывное развитие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отдельных задач и комплексная автоматизац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хнологическая платфор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ость систе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держка и сервис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1С:Предприятие 8.0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1С:Предприятие 8.0 имеет в своей основе ряд механизмов, определяющих концепцию создания прикладных решений. Наличие этих механизмов позволяет максимально соотнести технологические возможности с бизнес-схемой разработки и внедрения прикладных реш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Общи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качестве ключевых моментов можно выделить изоляцию разработчика от технологических подробностей, алгоритмическое программирование только бизнес-логики приложения, использование собственной модели базы данных и масштабируемость прикладных решений без их доработ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Приклад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став прикладных механизмов 1С:Предприятия ориентирован на решение задач автоматизации учета и управления предприятием. Использование проблеммно-ориентированных объектов позволяет разработчику решать самый широкий круг задач складского, бухгалтерского, управленческого учета, расчета зарплаты, анализа данных и управления на уровне бизнес-процес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рфейсные механиз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1С:Предприятии 8.0 реализован современный дизайн интерфейса и повышена комфортность работы пользователей при работе с системой в течение длительного времен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Масштабируе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хнологическая платформа обеспечивает различные варианты работы прикладного решения: от персонального однопользовательского, до работы в масштабах больших рабочих групп и предприятий. Ключевым моментом масштабируемости является то, что повышение производительности достигается средствами платформы, и прикладные решения не требуют доработки при увеличении количества одновременно работающих пользовател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Интегр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истема 1С:Предприятие 8.0 является открытой системой. Предоставляется возможность для интеграции практически с любыми внешними программами и оборудованием на основе общепризнанных открытых стандартов и протоколов передачи дан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системе 1С:Предприятие 8.0 имеется целый набор средств, с помощью которых мож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, обрабатывать и обмениваться данными различных форматов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существлять доступ ко всем объектам системы 1С:Предприятие 8.0, реализующим ее функциональные возможност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различные протоколы обмен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держивать стандарты взаимодействия с другими подсистемами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здавать собственные интернет-решен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3611f"/>
                </a:solidFill>
                <a:latin typeface="Tahoma"/>
              </a:rPr>
              <a:t>Web-расшир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Web–расширение, хотя и входит с состав технологической платформы, поставляется в виде отдельного программного продукта и позволяет встраивать доступ к данным 1С:Предприятия в существующие Web-сайты и Web-приложения, а так же создавать готовые Web-приложения, использующие информационную базу 1С:Предприятия 8.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еменов</cp:lastModifiedBy>
  <dcterms:modified xsi:type="dcterms:W3CDTF">2005-12-26T01:05:21Z</dcterms:modified>
  <cp:revision>15</cp:revision>
  <dc:subject/>
  <dc:title>PowerPoint Presentation</dc:title>
</cp:coreProperties>
</file>