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ACF-385C-4206-8CCC-769BB864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D23-906D-41A7-98A6-B74188A3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38E-56ED-497F-88D3-92885194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284-B268-4F57-8001-A657A308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E4C-D2D6-4730-B851-036FCAF0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057-2605-4BDA-8783-A848AD31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F64-E795-4EAE-940D-D3FFE529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1D2-A69F-494E-9A14-934ADF96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B2B-80E5-4197-831C-D3C16CEB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C20-8C78-489A-B664-29AB80B9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461-9908-47DB-A6DC-7DB30834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2F1-788E-4317-8785-CDC48C02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E80B-E4C3-4FE5-A26D-CF7133CE88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два отче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книг данного авто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соавторов данной кни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чание: у каждого автора может быть несколько книг и у каждой книги может быть несколько соав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ечатьКниг(ТабДок, Ссылка) Эк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Книг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Ссылка = &amp;Ссылка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ВладелецПредставление=ВыборкаДета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делец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КнигаПредставление=ВыборкаДетали.Книга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 ВыборкаДетали.Уровень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 ДействияФормыПечатьАвторов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Авторов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ПечатьАвторов(ТабДок, Ссылка) Эк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Авторов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 И Книги.Владелец = Авторы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СписокКниг КАК СписокКни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Книга = 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 = &amp;Ссылка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.Уровень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187280" y="1197000"/>
          <a:ext cx="6985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985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печати ав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чат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2133720"/>
          <a:ext cx="770400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7040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справочни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ги (реквизит «Книга», тип значения – «Справочник.СписокКниг»), подчинен справочнику 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писокКниг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уктура баз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38200" y="1981080"/>
          <a:ext cx="6265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1981080"/>
                    <a:ext cx="6265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рмах отчетов создать реквизиты «ВыбАвтор» и «ВыбКниг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ыбОбъект.Выбран()=0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упреждение(«Текст1»+РазделительСтрок+«Текст2»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запрос по пример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Товар=Справочник.Товары.ТекущийЭле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Цена=Справочник.Товары.Це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Группировка Товар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Условие (Товар=ВыбОбъект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Запрос.Цен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Книга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а книга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Авто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Книга=ВыбКнига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Автор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Автор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 автор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Автор=ВыбАвтор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Книг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яФормыПечатьКниг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Книг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7:54Z</dcterms:modified>
  <cp:revision>15</cp:revision>
  <dc:subject/>
  <dc:title>PowerPoint Presentation</dc:title>
</cp:coreProperties>
</file>