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B0B5-A913-4499-A1C2-3F791A9E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98B6-E669-468F-91C5-981738F25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8D07-C88B-4FC6-8491-894C5340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DA3E-C735-4527-938A-F485A1D97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0CCB-DBD5-402F-B2D7-A52C2C02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F30E-B5B6-48AD-8F6C-7224697E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7553-03BD-4361-A0B8-E02FC6DD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2666-ACF6-4479-8CB7-F12B5ED4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4B78-9044-490F-8DA7-4EE34ED3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7361-D98A-4725-B62A-D2F0A479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2564-4EC3-4E86-BF6F-B861F6A14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CD47-DC66-4FA7-AB22-03EDACB3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CDCA-F67B-4507-B88D-0B3C3D1F085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763640" y="2133720"/>
          <a:ext cx="5329440" cy="33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2133720"/>
                    <a:ext cx="5329440" cy="33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062000" y="1981080"/>
          <a:ext cx="7018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1981080"/>
                    <a:ext cx="7018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835280" y="2205000"/>
          <a:ext cx="5257800" cy="29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5000"/>
                    <a:ext cx="5257800" cy="29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rivate Sub CommandButton1_Click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cols = Cells(3, 1).CurrentRegion.Columns.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Selection.Auto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Selection.AutoFilter Field:=ncols, Criteria1:="&lt;&gt;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nrows = Cells(3, 1).CurrentRegion.Rows.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or i = 3 To n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If Not (Rows(i).Hidden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 =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бор позиций заказ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Rows("3:" &amp; Format(n)).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ction.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Workbooks.A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ctiveSheet.Pa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ction.ClearOut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ctiveSheet.Columns(1).Delete Shift:=xlTo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or i = 1 To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ctiveSheet.Columns(5).Delete Shift:=xlTo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ылка мак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Sheet.Cells(1, 1).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pplication.CutCopyMode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ÏóòüÈìÿ = ThisWorkbook.Path &amp; "\TovarÇàêàç.xls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Workbook.SaveAs Filename:=ÏóòüÈìÿ, FileFormat:=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xlNormal, Password:="", WriteResPassword:="", ReadOnlyRecommended:=False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CreateBackup:=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Workbook.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Cells(1, 1).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lection.AutoFil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ылка мак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ub ОткрытьПрасЛист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On Error GoTo e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ÏóòüÈìÿ = ThisWorkbook.Path &amp; "\Tovar0.xl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Workbooks.Open Filename:=ÏóòüÈì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ells.Sel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election.Co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hDir ThisWorkbook.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sgBox "Íàæìèòå ÎÊ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Workbooks.Open Filename:=ThisWorkbook.Path &amp; "\Шаблон.xl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ылка макро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Cells.Sel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Sheet.Pa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pplication.CutCopyMode = 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Workbooks("Tovar0.xls").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ActiveWorkbook.SaveAs Filename:=ThisWorkbook.Path &amp; "\Tovar.xls", FileFormat:=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xlNormal, Password:="", WriteResPassword:="", ReadOnlyRecommended:=False 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CreateBackup:=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tru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xit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rr: MsgBox ("Tovar.xls"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рузка инвой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716040" y="1981080"/>
          <a:ext cx="7711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1981080"/>
                    <a:ext cx="7711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рузка инвой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90680" y="2066760"/>
          <a:ext cx="4562640" cy="394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2066760"/>
                    <a:ext cx="4562640" cy="39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закуп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81320" y="2004840"/>
          <a:ext cx="458136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1320" y="2004840"/>
                    <a:ext cx="458136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=СоздатьОбъект("Документ.Перемещение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ПомещаетсяНаПолке=ПолучитьПомещаетсяНаПолке(Товар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МинимальныйОстатокРасчетный=ПолучитьМинимальныйОстаток(Товар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ДолжноБыть=Макс(МинимальныйОстатокРасчетный,ПомещаетсяНаПолке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ТребуетсяПереместитьВШтуках=ДолжноБыть-ОстатокКу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закуп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4360" y="1773360"/>
          <a:ext cx="748800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773360"/>
                    <a:ext cx="748800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закуп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386080" y="1981080"/>
          <a:ext cx="43718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6080" y="1981080"/>
                    <a:ext cx="43718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ланирование на филиа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290680" y="2023920"/>
          <a:ext cx="456264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2023920"/>
                    <a:ext cx="456264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ТребуетсяПереместитьВШтуках&gt;0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требностьВУпаковках=Цел((ТребуетсяПереместитьВШтуках-1)/КолВоВУпаковке)+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требностьВШтуках=ПотребностьВУпаковках * КолВоВУпаковк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ОстатокКуда&lt;МинимальныйОстатокРасчетный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к.Затребовано=ПотребностьВШтука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ОстатокОткуда&gt;=Док.Затребовано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к.Количество=Док.Затребовано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Док.Количество=ОстатокОткуд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отребностьВШтуках + ОстатокКуда&lt;=ПомещаетсяНаПолке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бодныйОстаток=ПомещаетсяНаПолке-МинимальныйОстатокРасчетны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вободныйОстаток&gt;0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отребностьВШтуках / СвободныйОстаток &gt; 0.5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.Затребовано=ПотребностьВШтук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статокОткуда&gt;=Док.Затребовано Тог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.Количество=Док.Затребова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.Количество=ОстатокОткуд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каз на недел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373040" y="1981080"/>
          <a:ext cx="63979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3040" y="1981080"/>
                    <a:ext cx="63979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403280" y="1844640"/>
          <a:ext cx="6048360" cy="388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44640"/>
                    <a:ext cx="6048360" cy="38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692360" y="1844640"/>
          <a:ext cx="5472000" cy="387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844640"/>
                    <a:ext cx="5472000" cy="38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03480" y="1981080"/>
          <a:ext cx="6735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3480" y="1981080"/>
                    <a:ext cx="6735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остатков товар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685800" y="1981080"/>
            <a:ext cx="7772400" cy="4114800"/>
            <a:chOff x="685800" y="1981080"/>
            <a:chExt cx="7772400" cy="41148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685800" y="1981080"/>
              <a:ext cx="7772400" cy="41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 txBox="1"/>
            <p:nvPr/>
          </p:nvSpPr>
          <p:spPr>
            <a:xfrm>
              <a:off x="685800" y="19810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27:09Z</dcterms:modified>
  <cp:revision>7</cp:revision>
  <dc:subject/>
  <dc:title>PowerPoint Presentation</dc:title>
</cp:coreProperties>
</file>