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459B-456C-4D7B-9A67-AE686E98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246E-15B5-4C68-ACA6-8179FE6FC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B74E-AB4B-4A1F-B162-178DAD75F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C0C9-CE4F-4C5C-A0EE-D70FF210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9645-E26D-4B56-A5B2-1C9CD310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35E-8ACB-4C48-8027-9E78E2AF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8F1-8EF5-4FE0-BC75-8EEB9292F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5FC2-5685-438C-994E-EFF10D84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301E-A5D2-4AE3-8173-A298DAEE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43FA-4300-4E3C-9968-41C7FB7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825-DE82-4D00-AE94-FE65E4BA4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1D8-AF69-437A-B34E-5AA6A8B4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DBAD-9539-423B-B0E6-5F4EBC028EB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два отчет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книг данного автора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исок соавторов данной книг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чание: у каждого автора может быть несколько книг и у каждой книги может быть несколько соав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ечатьКниг(ТабДок, Ссылка) Экспор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Книг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Авторы.Ссылка = &amp;Ссылка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ВладелецПредставление=ВыборкаДетал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ладелец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КнигаПредставление=ВыборкаДетали.Книга.Наименовани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 ВыборкаДетали.Уровень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 ДействияФормыПечатьАвторов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Авторов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ПечатьАвторов(ТабДок, Ссылка) Экспор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акет = ОтчетОбъект.ПолучитьМакет("ПечатьАвторов"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 = Новый Запрос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рос.Текст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"ВЫБР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Книга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Книги.Владелец.Представл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Авторы.Наименова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И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равочник.Книги КАК Кни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Авторы КАК Авто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Владелец = Авторы.Ссылка И Книги.Владелец = Авторы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ЛЕВОЕ СОЕДИНЕНИЕ Справочник.СписокКниг КАК СписокКни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ПО Книги.Книга = СписокКниг.Ссыл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ГД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|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СписокКниг.Ссылка = &amp;Ссылка"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рос.УстановитьПараметр("Ссылка", Ссылк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езультат = Запрос.Выполн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Заголовок = Макет.ПолучитьОбласть("Заголовок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 = Макет.ПолучитьОбласть("Подвал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ШапкаТаблицы = Макет.ПолучитьОбласть("Шапка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ПодвалТаблицы = Макет.ПолучитьОбласть("ПодвалТаблицы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ластьДетальныхЗаписей = Макет.ПолучитьОбласть("Детали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Очистить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Заголовок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Вывести(ОбластьШапкаТаблицы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бДок.НачатьАвтогруппировкуСтрок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 = Результат.Выбрать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ВыборкаДетали.Следующий()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ДетальныхЗаписей.Параметры.Заполнить(ВыборкаДетали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ДетальныхЗаписей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боркаДетали.Уровень(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ЗакончитьАвтогруппировкуСтрок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Таблицы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бДок.Вывести(ОбластьПодвал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1187280" y="1197000"/>
          <a:ext cx="6985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197000"/>
                    <a:ext cx="6985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539640" y="18900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ечати автор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ечат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684360" y="2133720"/>
          <a:ext cx="7704000" cy="33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133720"/>
                    <a:ext cx="7704000" cy="33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ь справочни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ниги (реквизит «Книга», тип значения – «Справочник.СписокКниг»), подчинен справочнику «Авторы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«СписокКниг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уктура баз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438200" y="1981080"/>
          <a:ext cx="62658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1981080"/>
                    <a:ext cx="62658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формах отчетов создать реквизиты «ВыбАвтор» и «ВыбКниг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ВыбОбъект.Выбран()=0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упреждение(«Текст1»+РазделительСтрок+«Текст2»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строить запрос по примеру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Товар=Справочник.Товары.ТекущийЭлемент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Цена=Справочник.Товары.Цен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Группировка Това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|Условие (Товар=ВыбОбъект);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Запрос.Цена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Авторы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Книга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а книга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Автор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Книга=ВыбКнига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Автор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ли ВыбАвтор.Выбран()=0 Тогд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едупреждение("Не выбран автор"+РазделительСтрок+"Запрос невыполнен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=СоздатьОбъект("Запрос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екстЗапроса=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Книга=Справочник.Книги.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Автор=Справочник.Книги.ТекущийЭлемент.Владелец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Группировка Книг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3333cc"/>
                </a:solidFill>
                <a:latin typeface="Times New Roman"/>
              </a:rPr>
              <a:t>|Условие (Автор=ВыбАвтор);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прос.Выполнить(ТекстЗапрос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ка Запрос.Группировка(1)=1 Цик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общить(Запрос.Книга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чет «Книги» в 1С-8.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цеду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яФормыПечатьКнигСформировать(Кнопк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Док = ЭлементыФормы.ПолеТабличногоДокумен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чатьКниг(ТабДок, Ссылка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7:54Z</dcterms:modified>
  <cp:revision>15</cp:revision>
  <dc:subject/>
  <dc:title>PowerPoint Presentation</dc:title>
</cp:coreProperties>
</file>