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6B72F-CFAB-4EE9-9614-7306843D1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09C22-831F-4B7C-A385-1EA03B389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AB5BB-8892-4996-A2DE-6A2E7CA24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3CACC-50B0-4FAA-B43E-771D87CCC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C12F0-0D1F-44AE-BE87-64128C82F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E1814-CCA6-42DA-A2BB-854CFD52F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C01C1-00A3-4AE1-8FA0-10955F4AD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3E488-30AA-44E5-9B3B-925D91AA5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B0C71-9E00-4393-8404-0C76C6D8C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D6800-09A2-46D6-BFA1-DFD692E84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189BB-7CA7-4440-801B-870BC42B6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6FFB1-28C3-4AE2-8741-C31243C94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3F747-22ED-4EB3-A293-9BFE850D1D6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остроение графиков в 1С 8.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2417760" y="1981080"/>
          <a:ext cx="430704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17760" y="1981080"/>
                    <a:ext cx="430704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График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"ВЫБРАТЬ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|</a:t>
            </a: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ОстаткиМатериаловОстаткиИОбороты.Материал КАК Материал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|</a:t>
            </a: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ОстаткиМатериаловОстаткиИОбороты.Период КАК Период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|</a:t>
            </a: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ОстаткиМатериаловОстаткиИОбороты.КоличествоРасход КАК КоличествоРасход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|</a:t>
            </a: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ОстаткиМатериаловОстаткиИОбороты.КоличествоКонечныйОстаток КАК КоличествоКонечныйОстаток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|ИЗ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|</a:t>
            </a: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РегистрНакопления.ОстаткиМатериалов.ОстаткиИОбороты(, , День, , ) КАК ОстаткиМатериаловОстаткиИОбороты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|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|ИТОГИ СУММА(КоличествоРасход), СУММА(КоличествоКонечныйОстаток) ПО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|</a:t>
            </a: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Материал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|</a:t>
            </a: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Период ПЕРИОДАМИ(ДЕНЬ, , )"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График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езультат = Запрос.Выполнить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воднаяТаблица.РазмещениеИзмеренийВСтроках = ТипРазмещенияИзмерений.Отдельно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воднаяТаблица.РазмещениеРеквизитовИзмеренийВСтроках = ТипРазмещенияРеквизитовИзмерений.Отдельно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воднаяТаблица.РазмещениеРеквизитовИзмеренийВКолонках = ТипРазмещенияРеквизитовИзмерений.Отдельно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воднаяТаблица.ПоложениеИтоговСтрок = ПоложениеИтоговСтрокСводнойТаблицы.Верх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воднаяТаблица.МакетОформления = СтандартноеОформление.БезОформления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воднаяТаблица.ИсточникДанных = Результат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График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воднаяТаблица.Строки.Добавить(СводнаяТаблица.Поля.Материал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воднаяТаблица.Колонки.Добавить(СводнаяТаблица.Поля.Период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воднаяТаблица.Данные.Добавить(СводнаяТаблица.Поля.КоличествоРасход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воднаяТаблица.Данные.Добавить(СводнаяТаблица.Поля.КоличествоКонечныйОстаток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ыборкаМатериал = Результат.Выбрать(ОбходРезультатаЗапроса.ПоГруппировкам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//}}КОНСТРУКТОР_ВЫХОДНЫХ_ФОР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онецПроцедур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воднаяТаблицаВыбо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1374840" y="2324160"/>
          <a:ext cx="6392880" cy="342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4840" y="2324160"/>
                    <a:ext cx="6392880" cy="342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Вопрос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Что такое сводная таблица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вести примеры сводных табли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Вопрос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Что такое диаграмма, серия диаграммы, точка диаграммы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вести примеры диаграм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остроение графиков в 1С 8.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432160" y="1981080"/>
          <a:ext cx="427824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2160" y="1981080"/>
                    <a:ext cx="427824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остроение графиков в 1С 8.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701720" y="1981080"/>
          <a:ext cx="573876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01720" y="1981080"/>
                    <a:ext cx="573876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воднаяТаблицаВыбо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ерем Результат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ерем Диаграмма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ерем ВыборкаМатериал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цедура СводнаяТаблицаВыбор(Элемент, Область, СтандартнаяОбработка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ЭлементНоменклатуры=Элемент.ТекущаяОбласть.Текст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иаграмма.Обновление = Ложь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иаграмма.Очистить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иаграмма.АвтоТранспонирование = Ложь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воднаяТаблицаВыбо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ыборкаМатериал.Сбросить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ыборкаМатериал = Результат.Выбрать(ОбходРезультатаЗапроса.ПоГруппировкам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ка ВыборкаМатериал.Следующий() Цик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3333cc"/>
                </a:solidFill>
                <a:latin typeface="Times New Roman"/>
              </a:rPr>
              <a:t>Если ЭлементНоменклатуры&lt;&gt;ВыборкаМатериал.Материал.Наименование Тогд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одолжить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онецЕсли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ерия = Диаграмма.УстановитьСерию("Продажи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ерия.Текст = "Продажи"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ерия.Расшифровка = ВыборкаМатериал.Материал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ерия1 = Диаграмма.УстановитьСерию("Остаток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ерия1.Текст = "Остаток"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ерия1.Расшифровка = ВыборкаМатериал.Материал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воднаяТаблицаВыбо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ыборкаПериод = ВыборкаМатериал.Выбрать(ОбходРезультатаЗапроса.ПоГруппировкам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ка ВыборкаПериод.Следующий() Цик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очка = Диаграмма.УстановитьТочку(ВыборкаПериод.Период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очка.Текст = ВыборкаПериод.Период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очка.Расшифровка = ВыборкаПериод.Период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иаграмма.УстановитьЗначение(Точка, Серия, ВыборкаПериод.КоличествоРасход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воднаяТаблицаВыбо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очка1 = Диаграмма.УстановитьТочку(ВыборкаПериод.Период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очка1.Текст = ВыборкаПериод.Период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очка1.Расшифровка = ВыборкаПериод.Период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иаграмма.УстановитьЗначение(Точка1, Серия1, ВыборкаПериод.КоличествоКонечныйОстаток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онецЦикла;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онецЦикла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иаграмма.АвтоТранспонирование = Истина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иаграмма.Обновление = Истина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онецПроцедур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ДействияФормыГрафикиСформироват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цедура ДействияФормыГрафикиСформировать(Кнопка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воднаяТаблица = ЭлементыФормы.СводнаяТаблица.ВстроенныеТаблицы[0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иаграмма = ЭлементыФормы.Диаграмма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рафики(СводнаяТаблица, Диаграмма, Дата1, Дата2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нецПроцедур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График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цедура Графики(СводнаяТаблица, Диаграмма, Дата1, Дата2) Экспор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//{{КОНСТРУКТОР_ВЫХОДНЫХ_ФОРМ(Графики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// Данный фрагмент построен конструкторо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// При повторном использовании конструктора, внесенные вручную изменения будут утеряны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прос = Новый Запрос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прос.Текст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Семенов</cp:lastModifiedBy>
  <dcterms:modified xsi:type="dcterms:W3CDTF">2005-12-26T01:23:14Z</dcterms:modified>
  <cp:revision>12</cp:revision>
  <dc:subject/>
  <dc:title>PowerPoint Presentation</dc:title>
</cp:coreProperties>
</file>