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E454-AAC8-4B31-A4AF-34FD9370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C486-A84E-4BFF-9850-E94BBDF8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F2CF-6C31-4B1E-9D9A-ABBF5A2B5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9769-B818-4510-AB3F-DFA669335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DEFD-DC3A-4B52-A098-E3F2FD75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2EB-7607-4EF0-933B-9228D37C4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F419-0435-47AD-9403-601663B2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F8C1-E36D-491B-9E01-9C8B17BCA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336F-B635-481E-8821-FAD06B1D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604-31E2-40FC-AFD2-051458BC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5882-3227-4D1F-A30B-8BAE71B1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17AA-4635-43D6-8F2A-7E0609E34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2D91-7250-4D36-8CC7-C80163EB906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вижение това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328920" y="1981080"/>
          <a:ext cx="24843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28920" y="1981080"/>
                    <a:ext cx="24843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При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цедура ОбработкаПроведения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братьСтроки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ка ПолучитьСтроку()=1 Цик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вязыватьСтроку(НомерСтрок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Материал=Материа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Партия=ТекущийДокумент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Количество=Количеств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СуммаРуб=Количество*Це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ФлагУчета=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ДвижениеПриход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цедура ОбработкаПроведения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=СоздатьОбъект("Регистр.Остатки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ратьСтроки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ПолучитьСтроку()=1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Количест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.УстановитьФильтр(Материал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гОст.ВыбратьДвижения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РегОст.ПолучитьДвижение()=1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РегОст.ФлагУчета=2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=РегОст.Парт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к.ПолучитьСтрокуПоНомеру(РегОст.НомерСтроки(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л=Регистр.Остатки.Остаток(Материал,Док,"Количество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Кол=0 Тог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должить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КолВо&gt;Кол То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исатьКоличество=Ко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КолВо-Кол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писатьКоличество=КолВо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Во=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одуль документа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Материал=Материа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Партия=Д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Количество=СписатьКоличеств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СуммаРуб=СписатьКоличество*Док.Цен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ФлагУчета=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гистр.Остатки.ДвижениеРасход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Если КолВо=0 Тогда Прервать; КонецЕсл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явно указать нужную дату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'20050308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2005, 1,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1, 1,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ата(2005, 1, 1, 10, 29, 50) ДАТАВРЕМЯ(2005, 01, 01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проверить дату на пустое значени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ДатаПроверяемая = Дата(1, 1, 1) Тогда Сообщить("Пустая дата!"); 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сравнить две даты (дни)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НачалоДня(Дата1) = НачалоДня(Дата2) Тогда Сообщить("Дни совпадают!"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прибавить к дате день, месяц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ледующийДень = ТекущаяДата() + 60 * 60 * 24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бавитьМесяц(Дата(2005, 1, 31), 1) ДобавитьМесяц(Дата(2005, 2, 28), -1) КонецМесяца(ДобавитьМесяц(Дата(2005, 2, 28), -1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Функции работы с датой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ПолучитьДень(ИсходнаяДата, КоличествоПрибавляемыхДней) Запрос = НовыйЗапрос(" |ВЫБРАТЬ | 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ДОБАВИТЬКДАТЕ(&amp;ИсходнаяДата, ДЕНЬ, &amp;Количество) как Дата"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ИсходнаяДата", ИсходнаяДата); Запрос.УстановитьПараметр("Количество", КоличествоПрибавляемыхДней); ВозвратЗапрос.Выполнить().Выгрузить()[0].Дата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артии това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376360" y="1981080"/>
          <a:ext cx="43912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6360" y="1981080"/>
                    <a:ext cx="43912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роверка типа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можно проверить тип значения переменной на равенство нужному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яНужногоТипа = "ДокументСсылка.РеализацияТоваров"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ТипЗнч(ОбрабатываемыйДокумент) = Тип(ИмяНужногоТипа) Т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/ Строки кода, выполняемые при истинности услов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Есл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устая ссылка в 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очистить реквизит формы, имеющий ссылочный тип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вар = Справочники.Номенклатура.ПустаяСсылка()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 очистить значение, имеющее тип "Хранилище значения"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квизитХранилище = Неопределено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ар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тупление тов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артия 1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мониторов по цене 30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артия 2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мониторов по цене 31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того 10 мониторов на сумму 1500+1550=3050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арт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сход това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дано 7 мониторов по розничной цене 35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$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за штук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сумму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45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ебестоим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оданного това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5 * 300 + 2 * 310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12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быль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450 – 2120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330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писание по средн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редняя це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05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 10 =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305 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ебестоимость проданного товар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05 * 7 =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2135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рибыль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450 – 2135 =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315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$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обходимо определить справочн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Материал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Единицы измерения»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кументы «Приход», «Расход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регистр остатков «Остатк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гистр «Остатк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116000" y="1916280"/>
          <a:ext cx="7128000" cy="44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916280"/>
                    <a:ext cx="712800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кумент «При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16000" y="1773360"/>
          <a:ext cx="6840720" cy="446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773360"/>
                    <a:ext cx="6840720" cy="44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кумент «Расхо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042920" y="1773360"/>
          <a:ext cx="6842160" cy="46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73360"/>
                    <a:ext cx="684216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9:29Z</dcterms:modified>
  <cp:revision>19</cp:revision>
  <dc:subject/>
  <dc:title>PowerPoint Presentation</dc:title>
</cp:coreProperties>
</file>