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B1B-2EAD-4B3E-8A3D-D761235D4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7B01-9B22-408C-B637-C34E6F2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EBD-0D9C-4418-9277-C8DBD9FC2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D26A-4086-4D2B-96FD-9FC4D9CAA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6B05-47AE-4B2B-BFA7-9F31ED523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1B99-72E1-4540-9CD9-32503ED6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954-DB10-437D-B7D2-7371FF4E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9BE-F78B-426E-B908-1E87E70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864-7396-4660-B268-404873BD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B6EE-12F6-4453-9B4A-65C03E2D9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B1E-089F-4BAE-AD3B-26C1B7DB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D754-286D-457E-BE1C-729E2BE8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39A9-BF67-43A7-98D9-54D311B73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сходные данны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равочник 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кумент «Расходная» с табличной частью: «Материал», «Количеств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бороты(&amp;НачПериода, &amp;КонПериода, Неделя, ) КАК ОстаткиМатериаловОбо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ИТОГИ СУММА(КоличествоРасход)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атериал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Период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КонПериода", Кон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НачПериода", НачПериод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ИзмеренийВСтроках = ТипРазмещения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Стро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РазмещениеРеквизитовИзмеренийВКолонках = ТипРазмещенияРеквизитовИзмерений.Отдельн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ПоложениеИтоговСтрок = ПоложениеИтоговСтрокСводнойТаблицы.Верх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МакетОформления = СтандартноеОформление.БезОформлен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воднаяТаблица.ИсточникДанных = Результ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числить результа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ТекущаяДат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Т=ДобавитьМесяц(ДТ,2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колонку в таблицу значений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добавить новую строку в таблицу значений и установить значение колонки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к связать сводную таблицу и результат запрос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ебуется получит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чет «Продаж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иод: «НачДата», «КонДат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43000" y="4038480"/>
          <a:ext cx="647712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038480"/>
                    <a:ext cx="647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функци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 «ДобавитьМесяц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ДобавитьМесяц(ДТ,1), где ДТ-да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Таблицу значений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=СоздатьОбъект(«ТаблицаЗначений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ДобавитьКолонку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НоваяСтрока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ПолучитьЗначение(НомСтр,НомКол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НомКол,Знач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НомерМесяца(НачПериода,КонПериода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Т=НачПериод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ДТ&lt;=КонПериода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Т=ДобавитьМесяц(ДТ,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ерМесяца=НомерМесяца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НомерМесяц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Мес=НомерМесяца(НачДата,КонДата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СоздатьОбъект("ТаблицаЗначений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.НоваяКолонка("Материал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инд=1 По КолМес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Табл.НоваяКолонка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Период С НачДата По КонДат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ОбрабатыватьДокументы Проведенные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Материал=Документ.Расход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атаДок=Документ.Расход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Количество=Документ.Расход.Количество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Док=Документ.Расход.ТекущийДоку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Материал Без Групп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Группировка 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Функция РасхКол=Сумма(Количество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Материал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НоваяСтрока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Стр=НомСтр+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Материал=Запрос.Материал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инд=2 По КолМес+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УстановитьЗначение(НомСтр,инд,0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"Док"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таДок=Запрос.ДатаДок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НомКол=НомерМесяца(НачДата,ДатаДок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Табл.УстановитьЗначение(НомСтр,НомКол+1,Табл.ПолучитьЗначение(НомСтр,НомКол+1)+Запрос.РасхКо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л.ВыбратьСтроку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тчет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Продажи(СводнаяТаблица, КонПериода, НачПериода) Эк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"ВЫБР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Материал КАК Материал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КоличествоРасход КАК КоличествоРасход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ОстаткиМатериаловОбороты.Период КАК Пери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05:48:31Z</dcterms:created>
  <dc:creator>guest</dc:creator>
  <dc:description/>
  <dc:language>en-US</dc:language>
  <cp:lastModifiedBy>Семенов</cp:lastModifiedBy>
  <dcterms:modified xsi:type="dcterms:W3CDTF">2005-12-26T01:20:41Z</dcterms:modified>
  <cp:revision>17</cp:revision>
  <dc:subject/>
  <dc:title>Постановка задачи</dc:title>
</cp:coreProperties>
</file>