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DBE0-687E-4303-92F0-A4B46B44C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117F-58ED-4320-ADCA-8F3B5763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7904-F028-4914-9E38-770BC10FA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39F3-2DA1-4D1F-B351-E7A70F7A1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D747-5398-4E23-A489-4D2637E7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3934-5872-4C8D-901D-530F1204E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7318-2D6A-42C6-90B1-FC01EC34D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DB54-4BFE-4EE0-8A22-101527F2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67F4-41A3-45F3-9DBE-EDE827FF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61EB-D540-42E1-8DBB-9CEE4754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20F2-3F26-4E4D-B99C-328D3D69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263E-8E25-4F04-B667-43BF5AC4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FB205-2CAB-4E35-8DB0-B7C6548D03E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еренос данных из 7.7 в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490840" y="1981080"/>
          <a:ext cx="41608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90840" y="1981080"/>
                    <a:ext cx="41608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щение к 1С из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Attribute VB_Name = "Module1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Sub v8com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Dim cc As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Dim con As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Dim ЗапросВДБФ As Obj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Set cc = CreateObject("V8.COMConnector"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Set con = cc.Connect("File=D:\Bases\Radchenko;Usr=Администратор"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щение к 1С из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кстЗапроса = "ВЫБРАТЬ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ОстаткиМатериаловОстаткиИОбороты.Материал.Код КАК Kod,ОстаткиМатериаловОстаткиИОбороты.Материал.Наименование КАК Material,ОстаткиМатериаловОстаткиИОбороты.Склад КАК Sklad,ОстаткиМатериаловОстаткиИОбороты.КоличествоКонечныйОстаток КАК Ostatok ИЗ РегистрНакопления.ОстаткиМатериалов.ОстаткиИОбороты КАК ОстаткиМатериаловОстаткиИОбороты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уть = "C:\1C.dbf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et ЗапросВДБФ = con.Обработки.ВыгрузкаДанных.Создать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росВДБФ.ВыгрузитьДанные ТекстЗапроса, Пу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End Su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щение к 1С через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!DOCTYPE HTML PUBLIC "-//W3C//DTD HTML 4.01 Transitional//EN"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html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head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title&gt;v8com&lt;/title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meta http-equiv="Content-Type" content="text/html; charset=windows-1251"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script language="JavaScript"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function v8com(TextOfQuery,Pat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{var cc,con,text,path,Quer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щение к 1С через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cc = new ActiveXObject("V8.COMConnector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con = cc.Connect("File=D:/Bases/Radchenko;Usr=Администратор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text="Выбрать Остатки.Материал.Код как kod,Остатки.Материал.Наименование как Material,Остатки.Склад как sklad,Остатки.КоличествоКонечныйОстаток как ostatok из РегистрНакопления.ОстаткиМатериалов.ОстаткиИОбороты как Остатки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path = "C:/1C.dbf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Query=con.Обработки.ВыгрузкаДанных.Созда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Query.ВыгрузитьДанные(text,path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бращение к 1С через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scrip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head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iv onMouseDown="v8com('','')"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iv align="center"&gt;&lt;font color="#FF0000"&gt;&lt;strong&gt;Click Me!!!&lt;/strong&gt;&lt;/font&gt;&lt;/div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div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/htm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.as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%@language=vbscript %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!DOCTYPE HTML PUBLIC "-//W3C//DTD HTML 4.01 Transitional//EN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hea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title&gt;v8com&lt;/titl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meta http-equiv="Content-Type" content="text/html; charset=windows-1251"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/head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.as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Dim 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Dim c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Dim z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Set cc = CreateObject("V8.COMConnector"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Set con = cc.Connect("File=C:\Bases\Radchenko;Usr=Администратор"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tz = "ВЫБРАТЬ ОстаткиМатериаловОстаткиИОбороты.Материал.Код КАК Kod,ОстаткиМатериаловОстаткиИОбороты.Материал.Наименование КАК Material,ОстаткиМатериаловОстаткиИОбороты.Склад КАК Sklad,ОстаткиМатериаловОстаткиИОбороты.КоличествоКонечныйОстаток КАК Ostatok ИЗ РегистрНакопления.ОстаткиМатериалов.ОстаткиИОбороты КАК ОстаткиМатериаловОстаткиИОбороты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p = "C:\1C.dbf"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Set z = con.Processings.UnloadData.Creat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z.UnloadData tz, 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var xml="&lt;&gt;&lt;&gt;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Response.Write(xml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.as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=createobject("msxml.xmlhttp"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.open(ur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=x.response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br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body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/html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шение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дура КнопкаВыполнитьНажатие(Элемент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V7=Новый COMОбъект("v77.Application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уть="D:\Bases\DB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пыт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крыта=v7.Initialize(v7.RMTrade,"/d"+Путь+" /M /N"+"","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ключ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упреждение("Ошибка открытия информационной базы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вра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Попытк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шение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м=Справочники.Автозапчаст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порт=V7.CreateObject("Справочник.Номенклатура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порт.НайтиПоКоду("120-00000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мортизаторы=Импорт.ТекущийЭлемент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порт.ИспользоватьРодителя(Амортизаторы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порт.ВыбратьЭлементы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ка Импорт.ПолучитьЭлемент()=1 Цик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р=Ном.СоздатьЭлемент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р.Код=Импорт.Код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р.Наименование=Импорт.Наименован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р.Тип=Импорт.__Тип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пр.Записать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зов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цедура КнопкаВыполнитьНажатие(Элемент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xcel=Новый COMОбъект("Excel.Application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xcel.Workbooks.Open("D:\Bases\AddIns\Graphics.xls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xcel.Application.Run("Graphics.xls!Auto_Open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Excel.Application.Quit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грузка данных в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b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цедура КнопкаВыполнитьНажатие(Элемент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кстЗапроса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"ВЫБРА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ОстаткиМатериаловОстаткиИОбороты.Материал КАК Material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ОстаткиМатериаловОстаткиИОбороты.Склад КАК Sklad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СУММА(ОстаткиМатериаловОстаткиИОбороты.КоличествоКонечныйОстаток) КАК Ostato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|И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РегистрНакопления.ОстаткиМатериалов.ОстаткиИОбороты КАК ОстаткиМатериаловОстаткиИОборо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ыгрузка данных в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b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СГРУППИРОВАТЬ П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таткиМатериаловОстаткиИОбороты.Материал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статкиМатериаловОстаткиИОбороты.Скла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УПОРЯДОЧИТЬ П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Materia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Skl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|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грузитьДанные(ТекстЗапроса,"C:\ost.dbf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цедура ВыгрузитьДанные(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цедура ВыгрузитьДанные(ТекстЗапроса,Путь) Экспор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прос = Новый Запрос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прос.Текст = ТекстЗапрос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зультат = Запрос.Выполнить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бл=Новый ТаблицаЗначений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бл=Результат.Выгрузить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бф=Новый Xbas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цедура ВыгрузитьДанные(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Каждого Кол Из Табл.Колонки Цик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Строка(Кол.ТипЗначения.Типы().Получить(1))="Число" Тог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рядность=Кол.ТипЗначения.КвалификаторыЧисла.Разрядность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рядностьДробнойЧасти=Кол.ТипЗначения.КвалификаторыЧисла.РазрядностьДробнойЧаст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бф.Поля.Добавить(Кол.Имя,"N",Разрядность,РазрядностьДробнойЧасти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ач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бф.Поля.Добавить(Кол.Имя,"S",Кол.Ширина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цедура ВыгрузитьДанные(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бф.Кодировка=КодировкаXBase.OE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бф.СоздатьФайл(Путь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Каждого СтрокаТабл Из Табл Цик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бф.Добави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Каждого Кол Из Табл.Колонки Цик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бф[Кол.Имя]=СтрокаТабл[Кол.Имя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бф.Записа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бф.ЗакрытьФайл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енов</cp:lastModifiedBy>
  <dcterms:modified xsi:type="dcterms:W3CDTF">2005-12-26T01:17:46Z</dcterms:modified>
  <cp:revision>6</cp:revision>
  <dc:subject/>
  <dc:title>PowerPoint Presentation</dc:title>
</cp:coreProperties>
</file>