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C3E-E977-4C5A-AC87-2DF1F784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367-DB55-4048-911E-8D812CEA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687-630D-4418-A897-780C58DB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90C-6C71-41C0-AD06-0C32AD1E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99A-94A7-4DF1-83A6-3DA3B027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473-291B-487C-A8D9-54D9D9A5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A89-C4A6-46C6-BC25-F240C4BA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DFC-5266-4321-B21A-D6D99662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5ED-8AC1-4E44-8EE0-8F6B4108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C6E-EF97-4839-9B56-104F7860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1BE-9044-4490-B0E6-2889D385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E85-E112-4E4C-8808-58086FD8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8336-72D5-4E55-B955-78A45B5BBE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63640" y="2133720"/>
          <a:ext cx="532944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133720"/>
                    <a:ext cx="532944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2000" y="1981080"/>
          <a:ext cx="7018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981080"/>
                    <a:ext cx="7018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35280" y="2205000"/>
          <a:ext cx="5257800" cy="29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5000"/>
                    <a:ext cx="5257800" cy="29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ivate Sub CommandButton1_Cli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cols = Cells(3, 1).CurrentRegion.Columns.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Selection.Auto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Selection.AutoFilter Field:=ncols, Criteria1:="&lt;&gt;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nrows = Cells(3, 1).CurrentRegion.Rows.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i = 3 To n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f Not (Rows(i).Hidden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=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ws("3:" &amp; Format(n)).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P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lear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Columns(1).Delete Shift:=xlTo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i = 1 T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Columns(5).Delete Shift:=xlTo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Sheet.Cells(1, 1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pplication.CutCopyMode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ÏóòüÈìÿ = ThisWorkbook.Path &amp; "\TovarÇàêàç.xl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SaveAs Filename:=ÏóòüÈìÿ, FileFormat:=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lNormal, Password:="", WriteResPassword:="", ReadOnlyRecommended:=False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CreateBackup:=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ells(1, 1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lection.Auto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ub ОткрытьПрасЛист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On Error GoTo e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ÏóòüÈìÿ = ThisWorkbook.Path &amp; "\Tovar0.x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Open Filename:=ÏóòüÈì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ells.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hDir ThisWorkbook.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sgBox "Íàæìèòå ÎÊ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Open Filename:=ThisWorkbook.Path &amp; "\Шаблон.x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ells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Sheet.P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pplication.CutCopyMode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orkbooks("Tovar0.xls").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SaveAs Filename:=ThisWorkbook.Path &amp; "\Tovar.xls", FileFormat:=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lNormal, Password:="", WriteResPassword:="", ReadOnlyRecommended:=False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CreateBackup:=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xit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rr: MsgBox ("Tovar.xls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рузка инвой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16040" y="1981080"/>
          <a:ext cx="7711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1981080"/>
                    <a:ext cx="7711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рузка инвой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90680" y="2066760"/>
          <a:ext cx="456264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066760"/>
                    <a:ext cx="456264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1320" y="2004840"/>
          <a:ext cx="45813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2004840"/>
                    <a:ext cx="45813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=СоздатьОбъект("Документ.Перемещение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омещаетсяНаПолке=ПолучитьПомещаетсяНаПолке(Това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инимальныйОстатокРасчетный=ПолучитьМинимальныйОстаток(Това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ДолжноБыть=Макс(МинимальныйОстатокРасчетный,ПомещаетсяНаПолке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ребуетсяПереместитьВШтуках=ДолжноБыть-ОстатокК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1773360"/>
          <a:ext cx="748800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4880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386080" y="1981080"/>
          <a:ext cx="4371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1981080"/>
                    <a:ext cx="4371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на филиа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90680" y="2023920"/>
          <a:ext cx="456264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023920"/>
                    <a:ext cx="456264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ТребуетсяПереместитьВШтуках&gt;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ностьВУпаковках=Цел((ТребуетсяПереместитьВШтуках-1)/КолВоВУпаковке)+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ностьВШтуках=ПотребностьВУпаковках * КолВоВУпаковк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статокКуда&lt;МинимальныйОстатокРасчетный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Затребовано=ПотребностьВШтука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статокОткуда&gt;=Док.Затребовано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Количество=Док.Затребован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Количество=ОстатокОткуд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требностьВШтуках + ОстатокКуда&lt;=ПомещаетсяНаПолке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ныйОстаток=ПомещаетсяНаПолке-МинимальныйОстатокРасчетны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вободныйОстаток&gt;0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требностьВШтуках / СвободныйОстаток &gt; 0.5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Затребовано=ПотребностьВШту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статокОткуда&gt;=Док.Затребовано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Количество=Док.Затребова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Количество=ОстатокОтку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373040" y="1981080"/>
          <a:ext cx="6397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981080"/>
                    <a:ext cx="6397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03280" y="1844640"/>
          <a:ext cx="6048360" cy="38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44640"/>
                    <a:ext cx="6048360" cy="38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92360" y="1844640"/>
          <a:ext cx="5472000" cy="38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4640"/>
                    <a:ext cx="547200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03480" y="1981080"/>
          <a:ext cx="6735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1981080"/>
                    <a:ext cx="6735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772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27:09Z</dcterms:modified>
  <cp:revision>7</cp:revision>
  <dc:subject/>
  <dc:title>PowerPoint Presentation</dc:title>
</cp:coreProperties>
</file>