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3D25-78D7-4163-B622-F1170C485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8CF6-1234-40EB-AD44-1F30D73A3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DB01-A6D6-4861-8748-286AFF781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43CE-6BD1-41AD-844C-50295E8F4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4C31-17CB-470A-8DA9-29F99A0EA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7E8B-8E51-4162-B5E1-2550F9D89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BEF4-93EF-458F-A5C3-5C126B493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A2CA-D1A6-4642-80D1-279B31D23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CFB8-76DB-48E4-AA36-5AF1511FE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C641-6CF9-4361-A5D2-989A7B0DE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0916-40F7-457F-9488-E06E22BAB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7513-2229-4DDB-9409-414CE2E78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67F93-C278-4E10-8DA7-09B764537B4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Times New Roman"/>
              </a:rPr>
              <a:t>Система стандартов в 8.0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оящие стандарты разработки ставят своей целью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гласование разработки типовых конфигураций для платформы «1С:Предприятие 8.0»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нификаци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ческих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технических решений, реализуемых в разных конфигурациях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егчение изучения и освоения типовых конфигураций партнерами и пользователями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егчение модификации и внедрения типовых конфигураций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ощение процесса разработки партнерских решений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  <a:ea typeface="Times New Roman"/>
              </a:rPr>
              <a:t>FAQ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ыбра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оит ли добавлять в поля запроса представления объектов или достаточно ссылки?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сылки не достаточно. Если объект планируется выводить визуально (в отчетах, в табличных полях и т.п.) то необходимо в запросе получать представление объекта и его показывать. Показывать ссылку получится неэффективно, т.к. в этом случае система все равно по каждой ссылке лезет в базу за ее представлением, что существенно замедляет работ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  <a:ea typeface="Times New Roman"/>
              </a:rPr>
              <a:t>FAQ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опрос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Чем отличается использование внутреннего соединения с условием в операторе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По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от использования двух таблиц с условием в предложении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Гд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?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твет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Ничем не отличается. В типовых конфигурациях необходимо использовать внутреннее соединение (см. стандарт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оит ли ограничивать выборки из виртуальных таблиц условиями в параметрах таблиц?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а, стоит. Виртуальная таблица работает аналогично вложенному запросу, т.е. в результат вложенной таблицы попадут либо все записи, либо уже отобранные по условию в параметре таблицы. Второе оптимальнее. См. также раздел </a:t>
            </a:r>
            <a:r>
              <a:rPr b="0" lang="ru-RU" sz="2000" spc="-1" strike="noStrike" u="sng">
                <a:solidFill>
                  <a:srgbClr val="0033cc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Гд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  <a:ea typeface="Times New Roman"/>
              </a:rPr>
              <a:t>FAQ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опрос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Как накладывать условия по полям таблиц регистров, чтобы наилучшим образом использовать индексы?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твет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Регистры накопления и регистры сведений имеют общий индекс по всем измерениям, в порядке их расположения в метаданных. Условие лучше накладывать так, чтобы оно охватывало любое количество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первы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измерений регистра без пропусков. В этом случае используется индекс и отбор работает быстро. Либо условие стоит накладывать на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одн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измерение, имеющее индекс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  <a:ea typeface="Times New Roman"/>
              </a:rPr>
              <a:t>FAQ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опрос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Как синхронизируются поля результатов при объединении запросов?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твет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При объединении различных запросов поля синхронизируются по порядковому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номеру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поля в результате запроса. Совпадение полей по прикладному смыслу необходимо отслеживать самостоятельно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  <a:ea typeface="Times New Roman"/>
              </a:rPr>
              <a:t>FAQ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опрос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Как указать итоги и по элементу и по иерархии поля типа ссылка на справочник?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твет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Итоги по полю и по иерархии надо указывать отдельно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Times New Roman"/>
                <a:ea typeface="Times New Roman"/>
              </a:rPr>
              <a:t>Именование переменных и процедур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спользование префикс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фиксируются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менн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дуры, функ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префиксируются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кты метаданных. Правила образования имен объектов метаданных описаны в отдельном стандарте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визиты форм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лементы управления фор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Times New Roman"/>
                <a:ea typeface="Times New Roman"/>
              </a:rPr>
              <a:t>Именование переменных и процедур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ефиксация переменных по типу значе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имен переменных префиксы по типу значения не используются. В название переменной включается указание на тип значения для значений следующих типов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рос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исокЗначен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Значен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ревоЗначен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аграмм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урналДокумент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равочник (СправочникМенеджер, СправочникСписок, СправочникОбъект, СправочникСсылка, СправочникВыборка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ответстви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Times New Roman"/>
                <a:ea typeface="Times New Roman"/>
              </a:rPr>
              <a:t>Именование переменных и процедур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авила образования имен переменны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на переменных (параметров) следует образовывать от терминов предметной области. При именовании переменных следует использовать только документированные термины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имени переменной должно быть понятно ее назначени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на следует образовывать путем «склеивания» слов - удаления пробелов между словами. Каждое от дельное слово в «склеенном» имени пишется с прописной буквы. Предлоги и местоимения из одной буквы также пишутся прописными буквами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имер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с каталогом -  РаботаСКаталого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ество пачек в коробке - КоличествоПачекВКоробк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Times New Roman"/>
                <a:ea typeface="Times New Roman"/>
              </a:rPr>
              <a:t>Именование переменных и процедур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авила образования имен процедур (функицй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на процедур в общем случае, следует образовывать от глаголов неопределенного вида, например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ьно ПроверитьДублиСтрок(), неправильно ПроверкаДублейСтрок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ьно ЗагрузитьКонтрагента(), неправильно ЗагрузкаКонтрагента(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на процедур и функции должны давать представление о характере выполняемых процедурой (функцией) действий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ы хороших имен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каДублейСтрок(), ПодборВидаРасчета(), ИнформацияОПроводке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ы плохих имен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K(), Есть(), ЕщеФлажки(), НамПодходит(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Times New Roman"/>
              </a:rPr>
              <a:t>Система стандартов в 8.0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основе стандартов разработки конфигураций вырабатываются требования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совместным решениям (конфигурациям, разработанным сторонними разработчиками, но распространяемым от имени формы «1С»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совместимым решениям (конфигурациям, претендующим на получение сертификата «Совместимо! 1С:Предприятие» или аналогичного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Times New Roman"/>
                <a:ea typeface="Times New Roman"/>
              </a:rPr>
              <a:t>Предмет стандартизации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дарт содержит описание использования конструкций встроенного языка в сложны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ли противоречивых случаях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Times New Roman"/>
                <a:ea typeface="Times New Roman"/>
              </a:rPr>
              <a:t>Применение конструкций Если...КонецЕсли</a:t>
            </a:r>
            <a:r>
              <a:rPr b="0" lang="ru-RU" sz="4400" spc="-1" strike="noStrike">
                <a:solidFill>
                  <a:srgbClr val="808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ех случаях, когда в условиях Если… проверяется возвращаемое значение функции/метода, следует использовать точное равенство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Приме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льзя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 CYR"/>
                <a:ea typeface="Times New Roman"/>
              </a:rPr>
              <a:t>Если Выбран() &lt;&gt; 0 Тог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 CYR"/>
                <a:ea typeface="Times New Roman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  <a:ea typeface="Times New Roman"/>
              </a:rPr>
              <a:t>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н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 CYR"/>
                <a:ea typeface="Times New Roman"/>
              </a:rPr>
              <a:t>Если Выбран() = 1 Тог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Times New Roman"/>
                <a:ea typeface="Times New Roman"/>
              </a:rPr>
              <a:t>Применение конструкций Если...КонецЕсли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рещается использование вместо вложенных конструкций Если...КонецЕсли конструкций типа Если...ИначеЕсли...ИначеЕсли... с «обратными» условиями, как сложные для анализа, модификации и отладк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имер, конструкция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Если (А=1) Тогд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ИначеЕсли (Б=2) Тогд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ИначеЕсли (В=3) Тогд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С=4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КонецЕсли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КонецЕсли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КонецЕсли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Times New Roman"/>
                <a:ea typeface="Times New Roman"/>
              </a:rPr>
              <a:t>Применение конструкций Если...КонецЕсли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жна быть заменена на конструкцию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Если (А&lt;&gt;1) Тог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Если (Б&lt;&gt;2) Тог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Если (В=3) Тог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С=4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КонецЕсли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ИначеЕсл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КонецЕсли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Times New Roman"/>
              </a:rPr>
              <a:t>Проверка логических значений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 функции, возвращающей логическое значение, не следует проверять путем сравнения с логической константо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равильно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ЭтоНовый() = Истина Тогд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ьно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ЭтоНовый() Тогд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Times New Roman"/>
                <a:ea typeface="Times New Roman"/>
              </a:rPr>
              <a:t>Работа с запросами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Написание текстов запросо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ключевые слова языка запросов пишутся заглавными буквами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язательные конструкции запроса в типовых конфигурациях указывать обязательно. Это повышает наглядность текста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ключение составляет указание имени таблицы перед именами полей в предложении Выбрать, когда используется только одна таблица. В этом случае имя таблицы можно не указывать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текста запроса должна быть иерархической, т.е. не следует писать запрос в одну строку, даже короткий. Это повышает наглядность текста запроса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ех случаях, когда текст запроса составляется из нескольких частей в модуле так же рекомендуется придерживаться этого правила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о использовать синонимы полей запросов, в тех случаях, когда имя поля запроса не следует явно из имени поля таблицы. Другими словами не допускается автоматическая генерация имени поля, кроме явных случаев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же не допускается автоматическая генерация имени поля типа «Номенклатура1», т.е. когда имя поля запроса не уникально, ему тоже обязательно присвоить синоним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Times New Roman"/>
                <a:ea typeface="Times New Roman"/>
              </a:rPr>
              <a:t>Работа с запросами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Конструирование запрос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допускается использования в запросе выборки из нескольких таблиц, разделенных запятыми, кроме случаев, когда другими средствами получить результат не удаетс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необходимости соединения двух таблиц слева или справа, в текстах запросов типовых конфигураций необходимо преимущественно использовать ЛЕВОЕ ВНЕШНЕЕ СОЕДИНЕНИЕ. Использование правого соединения допускается только в тех случаях, когда левое соединение использовать невозможно или затруднительно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emenov</cp:lastModifiedBy>
  <dcterms:modified xsi:type="dcterms:W3CDTF">2005-11-30T00:09:59Z</dcterms:modified>
  <cp:revision>10</cp:revision>
  <dc:subject/>
  <dc:title>PowerPoint Presentation</dc:title>
</cp:coreProperties>
</file>