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7971-691F-482F-977E-B410E67D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D58B-EA58-4A84-92EA-7D1922D9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1F2-D623-42D8-B528-50E295710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2DF6-E3F1-43DB-98D5-A9575E1A8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F9D6-74B2-4F62-88AB-11A297F1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5AC-E3EA-4AF5-A523-1256318F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BB8C-3FEB-4602-A14D-00E628956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803B-1FFD-43B4-B987-89824D5B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5B03-C499-4641-B684-2FF6C591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671-7C05-45FF-83AA-905A7152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360E-E1CE-4F0F-B733-B0B04C7C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16AA-0F57-4260-A74E-A042C716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05192-4C15-4037-9BD5-7F872217A27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оящие стандарты разработки ставят своей целью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ование разработки типовых конфигураций для платформы «1С:Предприятие 8.0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ификаци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х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ехнических решений, реализуемых в разных конфигурация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изучения и освоения типовых конфигураций партнерами и пользователям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егчение модификации и внедрения типовых конфигураци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ощение процесса разработки партнерских решен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добавлять в поля запроса представления объектов или достаточно ссылки?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сылки не достаточно. Если объект планируется выводить визуально (в отчетах, в табличных полях и т.п.) то необходимо в запросе получать представление объекта и его показывать. Показывать ссылку получится неэффективно, т.к. в этом случае система все равно по каждой ссылке лезет в базу за ее представлением, что существенно замедляет работу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Чем отличается использование внутреннего соединения с условием в оператор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П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 использования двух таблиц с условием в предложен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?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ичем не отличается. В типовых конфигурациях необходимо использовать внутреннее соединение (см. стандарт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оит ли ограничивать выборки из виртуальных таблиц условиями в параметрах таблиц?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, стоит. Виртуальная таблица работает аналогично вложенному запросу, т.е. в результат вложенной таблицы попадут либо все записи, либо уже отобранные по условию в параметре таблицы. Второе оптимальнее. См. также раздел </a:t>
            </a:r>
            <a:r>
              <a:rPr b="0" lang="ru-RU" sz="2000" spc="-1" strike="noStrike" u="sng">
                <a:solidFill>
                  <a:srgbClr val="0033cc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Гд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накладывать условия по полям таблиц регистров, чтобы наилучшим образом использовать индексы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Регистры накопления и регистры сведений имеют общий индекс по всем измерениям, в порядке их расположения в метаданных. Условие лучше накладывать так, чтобы оно охватывало любое количество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ервы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й регистра без пропусков. В этом случае используется индекс и отбор работает быстро. Либо условие стоит накладывать н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од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змерение, имеющее инде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Как синхронизируются поля результатов при объединении запросов?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ри объединении различных запросов поля синхронизируются по порядковому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номер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поля в результате запроса. Совпадение полей по прикладному смыслу необходимо отслеживать самостоятель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FAQ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прос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ак указать итоги и по элементу и по иерархии поля типа ссылка на справочник?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тоги по полю и по иерархии надо указывать отдельн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ние префикс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менн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ы, 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ефиксируютс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метаданных. Правила образования имен объектов метаданных описаны в отдельном стандарт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визиты фор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менты управления фор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фиксация переменных по типу знач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мен переменных префиксы по типу значения не используются. В название переменной включается указание на тип значения для значений следующих типов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о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сок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блица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оЗначен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Документ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(СправочникМенеджер, СправочникСписок, СправочникОбъект, СправочникСсылка, СправочникВыборка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ереме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еременных (параметров) следует образовывать от терминов предметной области. При именовании переменных следует использовать только документированные термин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имени переменной должно быть понятно ее назначени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следует образовывать путем «склеивания» слов - удаления пробелов между словами. Каждое от дельное слово в «склеенном» имени пишется с прописной буквы. Предлоги и местоимения из одной буквы также пишутся прописными буквами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с каталогом -  РаботаСКаталог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пачек в коробке - КоличествоПачекВКоробк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Именование переменных и процедур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авила образования имен процедур (функицй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в общем случае, следует образовывать от глаголов неопределенного вида, например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ПроверитьДублиСтрок(), неправильно ПроверкаДублей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 ЗагрузитьКонтрагента(), неправильно ЗагрузкаКонтрагента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а процедур и функции должны давать представление о характере выполняемых процедурой (функцией) действи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хорош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каДублейСтрок(), ПодборВидаРасчета(), ИнформацияОПроводке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плохих имен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(), Есть(), ЕщеФлажки(), НамПодходит(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Система стандартов в 8.0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е стандартов разработки конфигураций вырабатываются треб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ным решениям (конфигурациям, разработанным сторонними разработчиками, но распространяемым от имени формы «1С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совместимым решениям (конфигурациям, претендующим на получение сертификата «Совместимо! 1С:Предприятие» или аналогичного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едмет стандартизаци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 содержит описание использования конструкций встроенного языка в сложн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противоречивых случа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в условиях Если… проверяется возвращаемое значение функции/метода, следует использовать точное равенств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льз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&lt;&gt; 0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Если Выбран() = 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спользование вместо вложенных конструкций Если...КонецЕсли конструкций типа Если...ИначеЕсли...ИначеЕсли... с «обратными» условиями, как сложные для анализа, модификации и отладк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, конструкция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=1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Б=2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(В=3)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Применение конструкций Если...КонецЕсл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а быть заменена на конструкцию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А&lt;&gt;1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Б&lt;&gt;2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Если (В=3)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С=4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ИначеЕсл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</a:rPr>
              <a:t>Проверка логических значений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функции, возвращающей логическое значение, не следует проверять путем сравнения с логической константо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= Истина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о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ЭтоНовый()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аписание текстов запросо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ключевые слова языка запросов пишутся заглавными букв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язательные конструкции запроса в типовых конфигурациях указывать обязательно. Это повышает наглядность тек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ие составляет указание имени таблицы перед именами полей в предложении Выбрать, когда используется только одна таблица. В этом случае имя таблицы можно не указывать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текста запроса должна быть иерархической, т.е. не следует писать запрос в одну строку, даже короткий. Это повышает наглядность текста запро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х случаях, когда текст запроса составляется из нескольких частей в модуле так же рекомендуется придерживаться этого правил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использовать синонимы полей запросов, в тех случаях, когда имя поля запроса не следует явно из имени поля таблицы. Другими словами не допускается автоматическая генерация имени поля, кроме явных случа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е допускается автоматическая генерация имени поля типа «Номенклатура1», т.е. когда имя поля запроса не уникально, ему тоже обязательно присвоить синони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8000"/>
                </a:solidFill>
                <a:latin typeface="Times New Roman"/>
                <a:ea typeface="Times New Roman"/>
              </a:rPr>
              <a:t>Работа с запросами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Конструирование запрос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ется использования в запросе выборки из нескольких таблиц, разделенных запятыми, кроме случаев, когда другими средствами получить результат не удаетс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необходимости соединения двух таблиц слева или справа, в текстах запросов типовых конфигураций необходимо преимущественно использовать ЛЕВОЕ ВНЕШНЕЕ СОЕДИНЕНИЕ. Использование правого соединения допускается только в тех случаях, когда левое соединение использовать невозможно или затруднительно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enov</cp:lastModifiedBy>
  <dcterms:modified xsi:type="dcterms:W3CDTF">2005-11-30T00:09:59Z</dcterms:modified>
  <cp:revision>10</cp:revision>
  <dc:subject/>
  <dc:title>PowerPoint Presentation</dc:title>
</cp:coreProperties>
</file>