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0DC5-B2BD-43E1-8785-C2FA420F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0000-2DFF-49BE-B7CD-F7BC426F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C2D9-0FA0-4223-B2DD-BDF3E311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0CDA-3232-42FF-99F4-7273E5CFD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7131-B119-4957-8ED2-2B4EA2AE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4029-CDDB-4E68-B2FC-209CEA65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B602-8E45-4DA7-9E22-51F6DE75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9A52-1698-4C15-B092-72ED9A1F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7E35-631A-4218-9A6F-09AF37A1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B13C-80E9-436A-9DAC-20667089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6C66-7F16-4EC8-A6FF-28C4E37B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280C-78A5-4CBA-86DA-E1813DBA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39F3-E3AE-449F-BDD9-2FC29BD4D2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роение графиков в 1С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417760" y="1981080"/>
          <a:ext cx="4307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7760" y="1981080"/>
                    <a:ext cx="4307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раф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"ВЫБРА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Материал КАК Материал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Период КАК Период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КоличествоРасход КАК КоличествоРасход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КоличествоКонечныйОстаток КАК КоличествоКонечныйОстат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И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РегистрНакопления.ОстаткиМатериалов.ОстаткиИОбороты(, , День, , ) КАК ОстаткиМатериаловОстаткиИОборо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ИТОГИ СУММА(КоличествоРасход), СУММА(КоличествоКонечныйОстаток) П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Материал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Период ПЕРИОДАМИ(ДЕНЬ, , )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раф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зультат = Запрос.Выполн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ИзмеренийВСтроках = ТипРазмещенияИзмерений.Отдельн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РеквизитовИзмеренийВСтроках = ТипРазмещенияРеквизитовИзмерений.Отдельн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РеквизитовИзмеренийВКолонках = ТипРазмещенияРеквизитовИзмерений.Отдельн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ПоложениеИтоговСтрок = ПоложениеИтоговСтрокСводнойТаблицы.Вер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МакетОформления = СтандартноеОформление.БезОформл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ИсточникДанных = Результат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раф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Строки.Добавить(СводнаяТаблица.Поля.Материал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Колонки.Добавить(СводнаяТаблица.Поля.Период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Данные.Добавить(СводнаяТаблица.Поля.КоличествоРасход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Данные.Добавить(СводнаяТаблица.Поля.КоличествоКонечныйОстаток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боркаМатериал = Результат.Выбрать(ОбходРезультатаЗапроса.ПоГруппировкам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//}}КОНСТРУКТОР_ВЫХОДНЫХ_ФОР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днаяТаблицаВыб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374840" y="2324160"/>
          <a:ext cx="639288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4840" y="2324160"/>
                    <a:ext cx="63928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акое сводная таблиц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вести примеры сводных табли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акое диаграмма, серия диаграммы, точка диаграммы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вести примеры диаграм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роение графиков в 1С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432160" y="1981080"/>
          <a:ext cx="42782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2160" y="1981080"/>
                    <a:ext cx="4278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роение графиков в 1С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01720" y="1981080"/>
          <a:ext cx="5738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1720" y="1981080"/>
                    <a:ext cx="5738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днаяТаблицаВыб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м Результа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м Диаграмм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м ВыборкаМатериа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СводнаяТаблицаВыбор(Элемент, Область, СтандартнаяОбработ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ЭлементНоменклатуры=Элемент.ТекущаяОбласть.Текс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рамма.Обновление = Лож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рамма.Очистить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рамма.АвтоТранспонирование = Лож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днаяТаблицаВыб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боркаМатериал.Сбросить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боркаМатериал = Результат.Выбрать(ОбходРезультатаЗапроса.ПоГруппировкам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ка ВыборкаМатериал.Следующий() Цик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Если ЭлементНоменклатуры&lt;&gt;ВыборкаМатериал.Материал.Наименование Тог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должи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 = Диаграмма.УстановитьСерию("Продажи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.Текст = "Продажи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.Расшифровка = ВыборкаМатериал.Материа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1 = Диаграмма.УстановитьСерию("Остаток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1.Текст = "Остаток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1.Расшифровка = ВыборкаМатериал.Материа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днаяТаблицаВыб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боркаПериод = ВыборкаМатериал.Выбрать(ОбходРезультатаЗапроса.ПоГруппировкам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ка ВыборкаПериод.Следующий() Цик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 = Диаграмма.УстановитьТочку(ВыборкаПериод.Период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.Текст = ВыборкаПериод.Пери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.Расшифровка = ВыборкаПериод.Пери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рамма.УстановитьЗначение(Точка, Серия, ВыборкаПериод.КоличествоРасход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днаяТаблицаВыб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1 = Диаграмма.УстановитьТочку(ВыборкаПериод.Период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1.Текст = ВыборкаПериод.Пери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1.Расшифровка = ВыборкаПериод.Пери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рамма.УстановитьЗначение(Точка1, Серия1, ВыборкаПериод.КоличествоКонечныйОстаток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рамма.АвтоТранспонирование = Истин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рамма.Обновление = Истин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ействияФормыГрафикиСформирова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ДействияФормыГрафикиСформировать(Кноп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 = ЭлементыФормы.СводнаяТаблица.ВстроенныеТаблицы[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рамма = ЭлементыФормы.Диаграмм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фики(СводнаяТаблица, Диаграмма, Дата1, Дата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раф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Графики(СводнаяТаблица, Диаграмма, Дата1, Дата2) Экспо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//{{КОНСТРУКТОР_ВЫХОДНЫХ_ФОРМ(График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// Данный фрагмент построен конструктор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// При повторном использовании конструктора, внесенные вручную изменения будут утеряны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 = Новый Запрос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Текст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23:14Z</dcterms:modified>
  <cp:revision>12</cp:revision>
  <dc:subject/>
  <dc:title>PowerPoint Presentation</dc:title>
</cp:coreProperties>
</file>