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C36D-652C-470E-97A8-BE9E1D82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9474-2AE0-42E2-AC4E-9ABE12C8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CD8A-101B-41C2-B208-061461DAC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573D-7B6D-4229-BE75-52A5C2665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4D1D-623E-451E-80AA-3751188C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C439-3EC8-4388-B34A-E2B09A5C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FAF6-A1C4-477C-8EB1-0245F8DB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F614-E9FB-447D-96E2-CD442B32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7F73-F9DA-4E54-951D-A0EC348D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C410-30D4-4EEE-A47F-AD1B7EF8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16C1-2F09-4B97-8097-7F20BB09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837E-0C8C-4D23-B11B-1CAF4D7E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65D5-6621-443B-8454-7C4D325C32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вижение това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328920" y="1981080"/>
          <a:ext cx="24843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28920" y="1981080"/>
                    <a:ext cx="2484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уль документа «При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цедура ОбработкаПроведения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братьСтроки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ка ПолучитьСтроку()=1 Цик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языватьСтроку(НомерСтроки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Материал=Материа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Партия=ТекущийДокумент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Количество=Количеств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СуммаРуб=Количество*Це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ФлагУчета=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ДвижениеПриходВыполн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уль документа «Рас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дура ОбработкаПроведения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Ост=СоздатьОбъект("Регистр.Остатки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ратьСтроки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 ПолучитьСтроку()=1 Цик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Во=Количество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Ост.УстановитьФильтр(Материал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Ост.ВыбратьДвижения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 РегОст.ПолучитьДвижение()=1 Цик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уль документа «Рас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РегОст.ФлагУчета=2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олжи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к=РегОст.Парт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к.ПолучитьСтрокуПоНомеру(РегОст.НомерСтроки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л=Регистр.Остатки.Остаток(Материал,Док,"Количество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Кол=0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олжи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уль документа «Рас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КолВо&gt;Кол То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исатьКоличество=Кол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Во=КолВо-Кол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исатьКоличество=КолВо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Во=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уль документа «Рас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Материал=Материа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Партия=Док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Количество=СписатьКоличеств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СуммаРуб=СписатьКоличество*Док.Це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ФлагУчета=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ДвижениеРасходВыполн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КолВо=0 Тогда Прервать; 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работы с датой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явно указать нужную дат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'20050308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а(2005, 1,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а(1, 1,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а(2005, 1, 1, 10, 29, 50) ДАТАВРЕМЯ(2005, 01, 01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работы с датой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проверить дату на пустое значени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ДатаПроверяемая = Дата(1, 1, 1) Тогда Сообщить("Пустая дата!"); КонецЕс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работы с датой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сравнить две даты (дни)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НачалоДня(Дата1) = НачалоДня(Дата2) Тогда Сообщить("Дни совпадают!"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цЕсл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работы с датой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прибавить к дате день, месяц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ующийДень = ТекущаяДата() + 60 * 60 * 24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бавитьМесяц(Дата(2005, 1, 31), 1) ДобавитьМесяц(Дата(2005, 2, 28), -1) КонецМесяца(ДобавитьМесяц(Дата(2005, 2, 28), -1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работы с датой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яПолучитьДень(ИсходнаяДата, КоличествоПрибавляемыхДней) Запрос = НовыйЗапрос(" |ВЫБРАТЬ |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ДОБАВИТЬКДАТЕ(&amp;ИсходнаяДата, ДЕНЬ, &amp;Количество) как Дата";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УстановитьПараметр("ИсходнаяДата", ИсходнаяДата); Запрос.УстановитьПараметр("Количество", КоличествоПрибавляемыхДней); ВозвратЗапрос.Выполнить().Выгрузить()[0].Дат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Функ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артии това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376360" y="1981080"/>
          <a:ext cx="4391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6360" y="1981080"/>
                    <a:ext cx="4391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верка типа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можно проверить тип значения переменной на равенство нужному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мяНужногоТипа = "ДокументСсылка.РеализацияТоваров"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ТипЗнч(ОбрабатываемыйДокумент) = Тип(ИмяНужногоТипа) Тог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// Строки кода, выполняемые при истинности услов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ецЕсл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устая ссылка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очистить реквизит формы, имеющий ссылочный тип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вар = Справочники.Номенклатура.ПустаяСсылка(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очистить значение, имеющее тип "Хранилище значения"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квизитХранилище = Неопределено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исание парт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тупление това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артия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 мониторов по цене 30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за шту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артия 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 мониторов по цене 31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за шту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того 10 мониторов на сумму 1500+1550=305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исание парт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сход това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дано 7 мониторов по розничной цене 35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за штук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сумму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245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ебестоим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оданного товар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 * 300 + 2 * 310 =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212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ибыль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450 – 2120 =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33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исание по средн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редняя цен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05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 10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305 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ебестоимость проданного товар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305 * 7 =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2135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ибыл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450 – 2135 =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315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обходимо определить справочн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Материал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Единицы измерения»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кументы «Приход», «Расх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регистр остатков «Остатк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гистр «Остатки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116000" y="1916280"/>
          <a:ext cx="7128000" cy="44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16280"/>
                    <a:ext cx="7128000" cy="44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кумент «При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116000" y="1773360"/>
          <a:ext cx="684072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773360"/>
                    <a:ext cx="684072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кумент «Рас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042920" y="1773360"/>
          <a:ext cx="684216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73360"/>
                    <a:ext cx="684216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09:29Z</dcterms:modified>
  <cp:revision>19</cp:revision>
  <dc:subject/>
  <dc:title>PowerPoint Presentation</dc:title>
</cp:coreProperties>
</file>