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CE9-4430-4734-89B8-516B4A2A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AE0-C39C-4D89-8EBB-D68DA93E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96A-96CB-426C-8809-55B49A37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A80-2423-460C-8B95-20ED0665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089-19FA-42F0-BCAC-CF7D75ED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920-CC6F-4180-AFA0-E7623FC8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5D6-0B93-40E9-9097-B21BC7CB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84A-3BB5-4983-BCCD-C8F53A8B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488F-4934-4E6C-85EE-FDA017B0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6F62-67EE-400A-A220-B77836C6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4CD4-4068-449A-9693-F4B7A583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C569-04F1-4DF3-831D-61055BD0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4951-DA29-439E-94F4-F5B64EF8ED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:Предприятие 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истема программ "1С:Предприятие" предназначена для решения широкого спектра задач автоматизации учета и управления, стоящих перед динамично развивающимися современными предприяти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"1С:Предприятие" представляет собой систему прикладных решений, построенных по единым принципам и на единой технологической платформе. Руководитель может выбрать решение, которое соответствует актуальным потребностям предприятия и будет в дальнейшем развиваться по мере роста предприятия или расширения задач автомат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м фактори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!=1 * 2 * 3 * … * (N-1) *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!=N * (N-1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!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исать программу вычисления фактори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 язык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цедура &lt;?&gt;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&lt;Имя_проц&gt;([[Знач] &lt;Парам1&gt;[=&lt;ДефЗнач&gt;]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 ,[Знач] &lt;ПарамN&gt;[=&lt;ДефЗнач&gt;]])[Экспорт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бъявления локальных переменны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ператор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[Возврат;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ператор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ункция &lt;?&gt;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врат ??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кция &lt;Имя_функции&gt;([[Знач] &lt;Парам1&gt;[=&lt;ДефЗнач&gt;], ... ,[Знач] &lt;ПарамN&gt;[=&lt;ДефЗнач&gt;]])[Экспорт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Объявления локальных переменн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 Операторы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&lt;ВозвращаемоеЗначение&gt;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 Операторы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&lt;?&gt; 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&lt;Логическое_выражение&gt;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операторы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Факт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N&gt;1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(N*Факт(N-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ить(Факт(Параметр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сать программу для вывода на экран всех документов, подчиненных данному документ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окумент2 считается подчиненным документу1, если в документе2 имеется реквизит, значение которого является ссылкой на документ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чиненные доку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98680" y="1981080"/>
          <a:ext cx="6146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1981080"/>
                    <a:ext cx="6146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ка &lt;?&gt; 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&lt;Логическое_выражение&gt;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операторы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ум=СоздатьОбъект("Документ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окум.ВыбратьПодчиненныеДокументы(Документ.ДатаДок,ТекущаяДата(),ТекДо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окум.ПолучитьДокумент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щить("   "+Докум.Вид(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/Документ – реквизит формы, содержащий документ, для которого нужно найти подчиненные докумен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м Дерев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ПолучитьПодчиненные(ТекДо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кум=СоздатьОбъект("Документ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Докум.ВыбратьПодчиненныеДокументы(Документ.ДатаДок,ТекущаяДата(),ТекДок)=1 Тог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ево=Дерево+"/"+ТекДок.Вид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общить(Дерево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ка Докум.ПолучитьДокумент()=1 Цик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общить("   "+Докум.Вид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лучитьПодчиненные(Докум.ТекущийДокумент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ево=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лучитьПодчиненные(Документ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:Предприятие 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актуальных задач учета и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, специализированные и индивидуальные реш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ерывное развитие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отдельных задач и комплексная автомат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технологическая платфор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ость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и сервис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С:Предприятие 8.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Общи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1С:Предприятие 8.0 имеет в своей основе ряд механизмов, определяющих концепцию создания прикладных решений. Наличие этих механизмов позволяет максимально соотнести технологические возможности с бизнес-схемой разработки и внедрения прикладных реш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Общи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ключевых моментов можно выделить изоляцию разработчика от технологических подробностей, алгоритмическое программирование только бизнес-логики приложения, использование собственной модели базы данных и масштабируемость прикладных решений без их дорабо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Прикладны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став прикладных механизмов 1С:Предприятия ориентирован на решение задач автоматизации учета и управления предприятием. Использование проблеммно-ориентированных объектов позволяет разработчику решать самый широкий круг задач складского, бухгалтерского, управленческого учета, расчета зарплаты, анализа данных и управления на уровне бизнес-процес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Интерфейсны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1С:Предприятии 8.0 реализован современный дизайн интерфейса и повышена комфортность работы пользователей при работе с системой в течение длительного времен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Масштабируем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ологическая платформа обеспечивает различные варианты работы прикладного решения: от персонального однопользовательского, до работы в масштабах больших рабочих групп и предприятий. Ключевым моментом масштабируемости является то, что повышение производительности достигается средствами платформы, и прикладные решения не требуют доработки при увеличении количества одновременно работающих польз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Интегр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стема 1С:Предприятие 8.0 является открытой системой. Предоставляется возможность для интеграции практически с любыми внешними программами и оборудованием на основе общепризнанных открытых стандартов и протоколов передачи данн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истеме 1С:Предприятие 8.0 имеется целый набор средств, с помощью которых мож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вать, обрабатывать и обмениваться данными различных форма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уществлять доступ ко всем объектам системы 1С:Предприятие 8.0, реализующим ее функциональные возможност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держивать различные протоколы обмен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держивать стандарты взаимодействия с другими подсистемам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вать собственные интернет-реш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Web-расши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eb–расширение, хотя и входит с состав технологической платформы, поставляется в виде отдельного программного продукта и позволяет встраивать доступ к данным 1С:Предприятия в существующие Web-сайты и Web-приложения, а так же создавать готовые Web-приложения, использующие информационную базу 1С:Предприятия 8.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5:21Z</dcterms:modified>
  <cp:revision>15</cp:revision>
  <dc:subject/>
  <dc:title>PowerPoint Presentation</dc:title>
</cp:coreProperties>
</file>