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DA76-9505-4CC6-B3BD-7C02B741A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4586-4B5E-491B-B7C5-FFFCD77D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10D4-4BF9-4A3A-8535-B6EF23E07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6DDD-6BD8-4317-A4D1-E4A29B88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5DFA-A7A7-4D3C-A343-AC72A4131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F8B5-E7B7-4F77-99E0-95D1B87F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48D5-C83B-40D3-8DFD-061F34E5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D775-9723-408C-8DC2-003B5D55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C390-F996-4E22-B41A-1516108F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D097-3E0A-475C-9AF7-BEE177EA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87B7-7460-404C-A082-85FBF057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A783-DFED-4F16-9E3C-9B9D92D7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5320-65FA-48B1-99F8-A2F86163835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писать два отчет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исок книг данного автор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исок соавторов данной книг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чание: у каждого автора может быть несколько книг и у каждой книги может быть несколько соавтор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Книги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цедура ПечатьКниг(ТабДок, Ссылка) Экспор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кет = ОтчетОбъект.ПолучитьМакет("ПечатьКниг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прос = Новый Запрос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прос.Текст =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"ВЫБРА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Авторы.Наименовани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Книги.Владелец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//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Книги.Владелец.Представлени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Книги.Книг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//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Книги.Книга.Предста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И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Справочник.Книги КАК Книг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ЛЕВОЕ СОЕДИНЕНИЕ Справочник.Авторы КАК Авто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ПО Книги.Владелец = Авторы.Ссыл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ГД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Авторы.Ссылка = &amp;Ссылка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Книги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прос.УстановитьПараметр("Ссылка", Ссылка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зультат = Запрос.Выполнить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астьЗаголовок = Макет.ПолучитьОбласть("Заголовок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астьПодвал = Макет.ПолучитьОбласть("Подвал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астьШапкаТаблицы = Макет.ПолучитьОбласть("ШапкаТаблицы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астьПодвалТаблицы = Макет.ПолучитьОбласть("ПодвалТаблицы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астьДетальныхЗаписей = Макет.ПолучитьОбласть("Детали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Док.Очистить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Док.Вывести(ОбластьЗаголовок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Док.Вывести(ОбластьШапкаТаблицы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Док.НачатьАвтогруппировкуСтрок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Книги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боркаДетали = Результат.Выбрать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ка ВыборкаДетали.Следующий() Цик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ластьДетальныхЗаписей.Параметры.Заполнить(ВыборкаДетали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ластьДетальныхЗаписей.Параметры.ВладелецПредставление=ВыборкаДета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ладелец.Наименовани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ластьДетальныхЗаписей.Параметры.КнигаПредставление=ВыборкаДетали.Книга.Наименовани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бДок.Вывести(ОбластьДетальныхЗаписей, ВыборкаДетали.Уровень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бДок.ЗакончитьАвтогруппировкуСтрок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бДок.Вывести(ОбластьПодвалТаблицы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бДок.Вывести(ОбластьПодвал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Авторы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цедура ДействияФормыПечатьАвторовСформировать(Кнопк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бДок = ЭлементыФормы.ПолеТабличногоДокумен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чатьАвторов(ТабДок, Ссылка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Авторы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дура ПечатьАвторов(ТабДок, Ссылка) Экспор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ет = ОтчетОбъект.ПолучитьМакет("ПечатьАвторов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рос = Новый Запрос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рос.Текст 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ВЫБР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Книги.Книг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Книги.Книга.Представле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Книги.Владелец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Книги.Владелец.Представле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Авторы.Наименова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СписокКниг.Ссыл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И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Справочник.Книги КАК Кни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ЛЕВОЕ СОЕДИНЕНИЕ Справочник.Авторы КАК Авто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ПО Книги.Владелец = Авторы.Ссылка И Книги.Владелец = Авторы.Ссыл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ЛЕВОЕ СОЕДИНЕНИЕ Справочник.СписокКниг КАК СписокКни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ПО Книги.Книга = СписокКниг.Ссыл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ГД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СписокКниг.Ссылка = &amp;Ссылка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Авторы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рос.УстановитьПараметр("Ссылка", Ссылка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зультат = Запрос.Выполни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стьЗаголовок = Макет.ПолучитьОбласть("Заголовок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стьПодвал = Макет.ПолучитьОбласть("Подвал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стьШапкаТаблицы = Макет.ПолучитьОбласть("ШапкаТаблицы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стьПодвалТаблицы = Макет.ПолучитьОбласть("ПодвалТаблицы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стьДетальныхЗаписей = Макет.ПолучитьОбласть("Детали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бДок.Очисти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бДок.Вывести(ОбластьЗаголовок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бДок.Вывести(ОбластьШапкаТаблицы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бДок.НачатьАвтогруппировкуСтрок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Авторы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боркаДетали = Результат.Выбрать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 ВыборкаДетали.Следующий() Ци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ластьДетальныхЗаписей.Параметры.Заполнить(ВыборкаДетали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Док.Вывести(ОбластьДетальныхЗаписе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боркаДетали.Уровень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Док.ЗакончитьАвтогруппировкуСтрок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Док.Вывести(ОбластьПодвалТаблицы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Док.Вывести(ОбластьПодвал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187280" y="1197000"/>
          <a:ext cx="6985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197000"/>
                    <a:ext cx="6985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539640" y="189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 печати авто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ечатная 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4360" y="2133720"/>
          <a:ext cx="7704000" cy="33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133720"/>
                    <a:ext cx="770400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ть справочник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Автор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ниги (реквизит «Книга», тип значения – «Справочник.СписокКниг»), подчинен справочнику «Автор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СписокКниг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руктура базы 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438200" y="1981080"/>
          <a:ext cx="62658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8200" y="1981080"/>
                    <a:ext cx="6265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формах отчетов создать реквизиты «ВыбАвтор» и «ВыбКниг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овать конструкци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ВыбОбъект.Выбран()=0 Тог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упреждение(«Текст1»+РазделительСтрок+«Текст2»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ить запрос по пример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=СоздатьОбъект("Запрос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кстЗапроса=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|Товар=Справочник.Товары.ТекущийЭлемен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|Цена=Справочник.Товары.Цен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|Группировка Товар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|Условие (Товар=ВыбОбъект);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Выполнить(ТекстЗапрос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 Запрос.Группировка(1)=1 Ци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общить(Запрос.Цен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Авторы»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цедура Сформировать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ВыбКнига.Выбран()=0 Тог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упреждение("Не выбрана книга"+РазделительСтрок+"Запрос невыполнен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прос=СоздатьОбъект("Запрос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кстЗапроса=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Книга=Справочник.Книги.Книг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Автор=Справочник.Книги.ТекущийЭлемент.Владелец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Группировка Автор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Условие (Книга=ВыбКнига);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прос.Выполнить(ТекстЗапроса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ка Запрос.Группировка(1)=1 Цик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общить(Запрос.Автор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Книги»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цедура Сформировать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ВыбАвтор.Выбран()=0 Тог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упреждение("Не выбран автор"+РазделительСтрок+"Запрос невыполнен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прос=СоздатьОбъект("Запрос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кстЗапроса=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Книга=Справочник.Книги.Книг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Автор=Справочник.Книги.ТекущийЭлемент.Владелец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Группировка Книг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Условие (Автор=ВыбАвтор);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прос.Выполнить(ТекстЗапроса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ка Запрос.Группировка(1)=1 Цик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общить(Запрос.Книга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Книги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цеду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йствияФормыПечатьКнигСформировать(Кнопк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бДок = ЭлементыФормы.ПолеТабличногоДокумен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чатьКниг(ТабДок, Ссылка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07:54Z</dcterms:modified>
  <cp:revision>15</cp:revision>
  <dc:subject/>
  <dc:title>PowerPoint Presentation</dc:title>
</cp:coreProperties>
</file>