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44FC-298D-4574-9622-976BAAA3B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A547-B434-4C63-8FFC-E83D2C3CB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4E16-C8F6-403C-B92D-7B9195C27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13A8-2F43-4C58-9B62-2723BED25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99C9-A2FC-4639-8A4A-CF7F08167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C5B7-155A-499C-B351-5E58E5D03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1DEC-2FD1-4F17-B995-9FC051579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C3C8-1327-4509-9AA4-D1909C2E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47F4-3E10-4BED-A867-4726371AD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6F7A-E9E6-49D8-BCF1-CD878901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CA26-84D1-4E30-A521-08B7CD21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7AD0-A7F0-4CED-8023-EADB14B09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10836-42E1-4A96-A2F8-5496E328BE9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пирование справочник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дача копирования справочников возникает тогда, когда нужно перенести заполненный сведениями справочник из одной базы данных в другую с сохранением структуры справочни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нструкции язы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здатьОбъект(&lt;?&gt;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интакси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здатьОбъект(&lt;ИмяАгрегатногоТипа&gt;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азначени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здает объект агрегатного типа данны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вращает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сылку на созданный объект агрегатного типа данны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араметры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ИмяАгрегатногоТипа&gt; - строковое выражение, содержащее имя агрегатного типа данных объявленного в конфигуратор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ом=СоздатьОбъект(«Справочник.Номенклатура»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нструкции язы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братьЭлементы(&lt;?&gt;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интаксис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братьЭлементы(&lt;Режим&gt;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Назначение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крыть выборку элементов справочник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звращает: 1 - если действие выполнено и в выборке есть хотя бы один элемент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0 - если действие не выполнено или в выборке нет ни одного элемент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араметры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&lt;Режим&gt; - как выбирать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 - выбирать элементы с учетом иерархии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0 - выбирать элементы без учета иерархии (необязателен, по умолчанию - 1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м.ВыбратьЭлементы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нструкции язы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лучитьЭлемент(&lt;?&gt;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интаксис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лучитьЭлемент(&lt;Режим&gt;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Назначение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лучить из выборки следующий элемент справочник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звращает: 1 - если элемент выбран, 0 - если элемент не выбран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араметры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&lt;Режим&gt; - что выбирать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 - включать в выборку подчиненные элементы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0 - не включать в выборку подчиненные элементы (необязателен, по умолчанию - 1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ка Ном.ПолучитьЭлемент()=1 Цик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ператор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ецЦикл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нструкции язы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спользоватьРодителя(&lt;?&gt;,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интаксис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тьРодителя(&lt;Родитель&gt;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азначени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тановить выборку  элементов по группе справочн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звращает: значение текущей группы для справочника (на момент до исполнения метода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м.ИспользоватьРодителя(Ном.ТекущийЭлемент(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нструкции язы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оваяГруппа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Синтаксис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оваяГруппа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Назначени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бавить новую группу справочни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ом.НоваяГруппа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нструкции язы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овый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интаксис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вый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Назначение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бавить новый элемент справочник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м.Новый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тоГруппа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интаксис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оГруппа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Назначение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звращает флаг группы: 1 - если элемент является группой, 0 - если это обычный элемен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Ном.ЭтоГруппа()=1 Тог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ператор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Есл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нструкции язы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писать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интакси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писать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азначени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писать (обновить) элемент справочни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Замечани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этот метод применяется в Модуле формы элемента справочника непосредственно к элементу справочника локального контекста, то данный метод отрабатывает те же действия, что и интерактивное нажатие пользователем кнопки с формулой ''#Записать''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ом.Записать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хема решения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600280" y="1981080"/>
          <a:ext cx="39416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0280" y="1981080"/>
                    <a:ext cx="39416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ешение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цедура Выполнить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куда=СоздатьОбъект("Справочник.Номенклатура");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тестирования в одной баз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да=СоздатьОбъект("Справочник.Номенклатура1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v7=СоздатьОбъект("v77.Applicatio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уть="c:\";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//Задать путь откуда копируе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крыта=v7.Initialize(v7.RMTrade,"/d"+Путь+" /M /N"+"","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Открыта=0 Тог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едупреждение("Ошибка открытия информационной базы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зврат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куда=v7.CreateObject("Справочник.Материалы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да=СоздатьОбъект("Справочник.Материалы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ешение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куда.ВыбратьЭлементы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ка Откуда.ПолучитьЭлемент()=1 Цик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КодРодителя=Откуда.ТекущийЭлемент().Родитель.Код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Если Куда.НайтиПоКоду(КодРодителя,0)=1 Тог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Куда.ИспользоватьРодителя(Куда.ТекущийЭлемент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ач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уда.ИспользоватьРодителя("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имер справочн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684360" y="2624040"/>
            <a:ext cx="7703640" cy="2003400"/>
            <a:chOff x="684360" y="2624040"/>
            <a:chExt cx="7703640" cy="2003400"/>
          </a:xfrm>
        </p:grpSpPr>
        <p:cxnSp>
          <p:nvCxnSpPr>
            <p:cNvPr id="45" name="_s7192"/>
            <p:cNvCxnSpPr>
              <a:stCxn id="46" idx="0"/>
              <a:endCxn id="47" idx="2"/>
            </p:cNvCxnSpPr>
            <p:nvPr/>
          </p:nvCxnSpPr>
          <p:spPr>
            <a:xfrm flipV="1" rot="16200000">
              <a:off x="7192800" y="3484440"/>
              <a:ext cx="229320" cy="793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8" name="_s7190"/>
            <p:cNvCxnSpPr>
              <a:stCxn id="49" idx="0"/>
              <a:endCxn id="47" idx="2"/>
            </p:cNvCxnSpPr>
            <p:nvPr/>
          </p:nvCxnSpPr>
          <p:spPr>
            <a:xfrm flipH="1" flipV="1" rot="5400000">
              <a:off x="6400440" y="3484440"/>
              <a:ext cx="229320" cy="793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" name="_s7188"/>
            <p:cNvCxnSpPr>
              <a:stCxn id="51" idx="0"/>
              <a:endCxn id="52" idx="2"/>
            </p:cNvCxnSpPr>
            <p:nvPr/>
          </p:nvCxnSpPr>
          <p:spPr>
            <a:xfrm flipV="1" rot="16200000">
              <a:off x="3630240" y="3088800"/>
              <a:ext cx="229320" cy="1584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" name="_s7186"/>
            <p:cNvCxnSpPr>
              <a:stCxn id="54" idx="0"/>
              <a:endCxn id="52" idx="2"/>
            </p:cNvCxnSpPr>
            <p:nvPr/>
          </p:nvCxnSpPr>
          <p:spPr>
            <a:xfrm flipV="1">
              <a:off x="2953080" y="3766320"/>
              <a:ext cx="180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5" name="_s7184"/>
            <p:cNvCxnSpPr>
              <a:stCxn id="56" idx="0"/>
              <a:endCxn id="52" idx="2"/>
            </p:cNvCxnSpPr>
            <p:nvPr/>
          </p:nvCxnSpPr>
          <p:spPr>
            <a:xfrm flipH="1" flipV="1" rot="5400000">
              <a:off x="2046960" y="3089160"/>
              <a:ext cx="229320" cy="1584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" name="_s7181"/>
            <p:cNvCxnSpPr>
              <a:stCxn id="47" idx="0"/>
              <a:endCxn id="58" idx="2"/>
            </p:cNvCxnSpPr>
            <p:nvPr/>
          </p:nvCxnSpPr>
          <p:spPr>
            <a:xfrm flipV="1" rot="16200000">
              <a:off x="5609160" y="2007360"/>
              <a:ext cx="229320" cy="23752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9" name="_s7180"/>
            <p:cNvCxnSpPr>
              <a:stCxn id="52" idx="0"/>
              <a:endCxn id="58" idx="2"/>
            </p:cNvCxnSpPr>
            <p:nvPr/>
          </p:nvCxnSpPr>
          <p:spPr>
            <a:xfrm flipH="1" flipV="1" rot="5400000">
              <a:off x="3630600" y="2403360"/>
              <a:ext cx="229320" cy="1584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8" name="_s7176"/>
            <p:cNvSpPr/>
            <p:nvPr/>
          </p:nvSpPr>
          <p:spPr>
            <a:xfrm>
              <a:off x="3895560" y="2624040"/>
              <a:ext cx="128088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lt;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_s7177"/>
            <p:cNvSpPr/>
            <p:nvPr/>
          </p:nvSpPr>
          <p:spPr>
            <a:xfrm>
              <a:off x="2166840" y="3309840"/>
              <a:ext cx="15717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_s7178"/>
            <p:cNvSpPr/>
            <p:nvPr/>
          </p:nvSpPr>
          <p:spPr>
            <a:xfrm>
              <a:off x="6126480" y="3309840"/>
              <a:ext cx="15717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Фильт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_s7183"/>
            <p:cNvSpPr/>
            <p:nvPr/>
          </p:nvSpPr>
          <p:spPr>
            <a:xfrm>
              <a:off x="684360" y="3995640"/>
              <a:ext cx="136980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Стойк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2820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_s7185"/>
            <p:cNvSpPr/>
            <p:nvPr/>
          </p:nvSpPr>
          <p:spPr>
            <a:xfrm>
              <a:off x="2267640" y="3995640"/>
              <a:ext cx="136980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34318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_s7187"/>
            <p:cNvSpPr/>
            <p:nvPr/>
          </p:nvSpPr>
          <p:spPr>
            <a:xfrm>
              <a:off x="3851280" y="3995640"/>
              <a:ext cx="136980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S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10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_s7189"/>
            <p:cNvSpPr/>
            <p:nvPr/>
          </p:nvSpPr>
          <p:spPr>
            <a:xfrm>
              <a:off x="5434920" y="3995640"/>
              <a:ext cx="136980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101 K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_s7191"/>
            <p:cNvSpPr/>
            <p:nvPr/>
          </p:nvSpPr>
          <p:spPr>
            <a:xfrm>
              <a:off x="7018200" y="3995640"/>
              <a:ext cx="136980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625 S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ешение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Откуда.ТекущийЭлемент().ЭтоГруппа()=1 Тог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да.НоваяГруппа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да.Код=Откуда.Код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да.Наименование=Откуда.Наименовани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ач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да.Новый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да.Код=Откуда.Код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да.Наименование=Откуда.Наименовани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//Реквизи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да.Записать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ведите примеры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объек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такое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ъект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пирование справочн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791880" y="2624040"/>
            <a:ext cx="1488240" cy="1143000"/>
            <a:chOff x="3791880" y="2624040"/>
            <a:chExt cx="1488240" cy="1143000"/>
          </a:xfrm>
        </p:grpSpPr>
        <p:cxnSp>
          <p:nvCxnSpPr>
            <p:cNvPr id="62" name="_s9227"/>
            <p:cNvCxnSpPr>
              <a:stCxn id="63" idx="0"/>
              <a:endCxn id="64" idx="2"/>
            </p:cNvCxnSpPr>
            <p:nvPr/>
          </p:nvCxnSpPr>
          <p:spPr>
            <a:xfrm flipV="1">
              <a:off x="4536360" y="3080520"/>
              <a:ext cx="180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4" name="_s9228"/>
            <p:cNvSpPr/>
            <p:nvPr/>
          </p:nvSpPr>
          <p:spPr>
            <a:xfrm>
              <a:off x="3890880" y="2624040"/>
              <a:ext cx="129060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lt;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_s9229"/>
            <p:cNvSpPr/>
            <p:nvPr/>
          </p:nvSpPr>
          <p:spPr>
            <a:xfrm>
              <a:off x="3791880" y="3309840"/>
              <a:ext cx="148824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пирование справочн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793320" y="2624040"/>
            <a:ext cx="1485360" cy="2003400"/>
            <a:chOff x="3793320" y="2624040"/>
            <a:chExt cx="1485360" cy="2003400"/>
          </a:xfrm>
        </p:grpSpPr>
        <p:cxnSp>
          <p:nvCxnSpPr>
            <p:cNvPr id="67" name="_s11273"/>
            <p:cNvCxnSpPr>
              <a:stCxn id="68" idx="0"/>
              <a:endCxn id="69" idx="2"/>
            </p:cNvCxnSpPr>
            <p:nvPr/>
          </p:nvCxnSpPr>
          <p:spPr>
            <a:xfrm flipH="1" flipV="1" rot="5400000">
              <a:off x="4421520" y="3880080"/>
              <a:ext cx="229320" cy="18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11275"/>
            <p:cNvCxnSpPr>
              <a:stCxn id="69" idx="0"/>
              <a:endCxn id="71" idx="2"/>
            </p:cNvCxnSpPr>
            <p:nvPr/>
          </p:nvCxnSpPr>
          <p:spPr>
            <a:xfrm flipV="1">
              <a:off x="4536720" y="3080520"/>
              <a:ext cx="216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1" name="_s11276"/>
            <p:cNvSpPr/>
            <p:nvPr/>
          </p:nvSpPr>
          <p:spPr>
            <a:xfrm>
              <a:off x="3895560" y="2624040"/>
              <a:ext cx="128088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lt;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_s11277"/>
            <p:cNvSpPr/>
            <p:nvPr/>
          </p:nvSpPr>
          <p:spPr>
            <a:xfrm>
              <a:off x="3793320" y="3309840"/>
              <a:ext cx="14853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_s11279"/>
            <p:cNvSpPr/>
            <p:nvPr/>
          </p:nvSpPr>
          <p:spPr>
            <a:xfrm>
              <a:off x="3894480" y="3995640"/>
              <a:ext cx="12823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Стойк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2820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пирование справочн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3062880" y="2624040"/>
            <a:ext cx="2944440" cy="2003400"/>
            <a:chOff x="3062880" y="2624040"/>
            <a:chExt cx="2944440" cy="2003400"/>
          </a:xfrm>
        </p:grpSpPr>
        <p:cxnSp>
          <p:nvCxnSpPr>
            <p:cNvPr id="74" name="_s12296"/>
            <p:cNvCxnSpPr>
              <a:stCxn id="75" idx="0"/>
              <a:endCxn id="76" idx="2"/>
            </p:cNvCxnSpPr>
            <p:nvPr/>
          </p:nvCxnSpPr>
          <p:spPr>
            <a:xfrm flipV="1" rot="16200000">
              <a:off x="4815720" y="3486600"/>
              <a:ext cx="229320" cy="7887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7" name="_s12297"/>
            <p:cNvCxnSpPr>
              <a:stCxn id="78" idx="0"/>
              <a:endCxn id="76" idx="2"/>
            </p:cNvCxnSpPr>
            <p:nvPr/>
          </p:nvCxnSpPr>
          <p:spPr>
            <a:xfrm flipH="1" flipV="1" rot="5400000">
              <a:off x="4026600" y="3485160"/>
              <a:ext cx="229320" cy="791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" name="_s12299"/>
            <p:cNvCxnSpPr>
              <a:stCxn id="76" idx="0"/>
              <a:endCxn id="80" idx="2"/>
            </p:cNvCxnSpPr>
            <p:nvPr/>
          </p:nvCxnSpPr>
          <p:spPr>
            <a:xfrm flipV="1">
              <a:off x="4536720" y="3080520"/>
              <a:ext cx="216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0" name="_s12300"/>
            <p:cNvSpPr/>
            <p:nvPr/>
          </p:nvSpPr>
          <p:spPr>
            <a:xfrm>
              <a:off x="3895560" y="2624040"/>
              <a:ext cx="128088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lt;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_s12301"/>
            <p:cNvSpPr/>
            <p:nvPr/>
          </p:nvSpPr>
          <p:spPr>
            <a:xfrm>
              <a:off x="3793320" y="3309840"/>
              <a:ext cx="14853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_s12303"/>
            <p:cNvSpPr/>
            <p:nvPr/>
          </p:nvSpPr>
          <p:spPr>
            <a:xfrm>
              <a:off x="3062880" y="3995640"/>
              <a:ext cx="13651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Стойк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2820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_s12304"/>
            <p:cNvSpPr/>
            <p:nvPr/>
          </p:nvSpPr>
          <p:spPr>
            <a:xfrm>
              <a:off x="4642200" y="3995640"/>
              <a:ext cx="13651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34318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пирование справочн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2273400" y="2624040"/>
            <a:ext cx="4523400" cy="2003400"/>
            <a:chOff x="2273400" y="2624040"/>
            <a:chExt cx="4523400" cy="2003400"/>
          </a:xfrm>
        </p:grpSpPr>
        <p:cxnSp>
          <p:nvCxnSpPr>
            <p:cNvPr id="83" name="_s13319"/>
            <p:cNvCxnSpPr>
              <a:stCxn id="84" idx="0"/>
              <a:endCxn id="85" idx="2"/>
            </p:cNvCxnSpPr>
            <p:nvPr/>
          </p:nvCxnSpPr>
          <p:spPr>
            <a:xfrm flipV="1" rot="16200000">
              <a:off x="5210640" y="3091680"/>
              <a:ext cx="229320" cy="15782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6" name="_s13320"/>
            <p:cNvCxnSpPr>
              <a:stCxn id="87" idx="0"/>
              <a:endCxn id="85" idx="2"/>
            </p:cNvCxnSpPr>
            <p:nvPr/>
          </p:nvCxnSpPr>
          <p:spPr>
            <a:xfrm flipH="1" flipV="1" rot="5400000">
              <a:off x="4421520" y="3880080"/>
              <a:ext cx="229320" cy="18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8" name="_s13321"/>
            <p:cNvCxnSpPr>
              <a:stCxn id="89" idx="0"/>
              <a:endCxn id="85" idx="2"/>
            </p:cNvCxnSpPr>
            <p:nvPr/>
          </p:nvCxnSpPr>
          <p:spPr>
            <a:xfrm flipH="1" flipV="1" rot="5400000">
              <a:off x="3632040" y="3090600"/>
              <a:ext cx="229320" cy="15811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0" name="_s13323"/>
            <p:cNvCxnSpPr>
              <a:stCxn id="85" idx="0"/>
              <a:endCxn id="91" idx="2"/>
            </p:cNvCxnSpPr>
            <p:nvPr/>
          </p:nvCxnSpPr>
          <p:spPr>
            <a:xfrm flipV="1">
              <a:off x="4536720" y="3080520"/>
              <a:ext cx="216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1" name="_s13324"/>
            <p:cNvSpPr/>
            <p:nvPr/>
          </p:nvSpPr>
          <p:spPr>
            <a:xfrm>
              <a:off x="3895560" y="2624040"/>
              <a:ext cx="128088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lt;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_s13325"/>
            <p:cNvSpPr/>
            <p:nvPr/>
          </p:nvSpPr>
          <p:spPr>
            <a:xfrm>
              <a:off x="3793320" y="3309840"/>
              <a:ext cx="14853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_s13327"/>
            <p:cNvSpPr/>
            <p:nvPr/>
          </p:nvSpPr>
          <p:spPr>
            <a:xfrm>
              <a:off x="2273400" y="3995640"/>
              <a:ext cx="13651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Стойк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2820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_s13328"/>
            <p:cNvSpPr/>
            <p:nvPr/>
          </p:nvSpPr>
          <p:spPr>
            <a:xfrm>
              <a:off x="3852720" y="3995640"/>
              <a:ext cx="13651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34318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_s13329"/>
            <p:cNvSpPr/>
            <p:nvPr/>
          </p:nvSpPr>
          <p:spPr>
            <a:xfrm>
              <a:off x="5431680" y="3995640"/>
              <a:ext cx="13651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S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10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пирование справочн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119320" y="2624040"/>
            <a:ext cx="4833720" cy="2003400"/>
            <a:chOff x="2119320" y="2624040"/>
            <a:chExt cx="4833720" cy="2003400"/>
          </a:xfrm>
        </p:grpSpPr>
        <p:cxnSp>
          <p:nvCxnSpPr>
            <p:cNvPr id="94" name="_s14343"/>
            <p:cNvCxnSpPr>
              <a:stCxn id="95" idx="0"/>
              <a:endCxn id="96" idx="2"/>
            </p:cNvCxnSpPr>
            <p:nvPr/>
          </p:nvCxnSpPr>
          <p:spPr>
            <a:xfrm flipV="1" rot="16200000">
              <a:off x="5056560" y="3090240"/>
              <a:ext cx="229320" cy="15814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14344"/>
            <p:cNvCxnSpPr>
              <a:stCxn id="98" idx="0"/>
              <a:endCxn id="96" idx="2"/>
            </p:cNvCxnSpPr>
            <p:nvPr/>
          </p:nvCxnSpPr>
          <p:spPr>
            <a:xfrm flipV="1">
              <a:off x="4381200" y="3766320"/>
              <a:ext cx="216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9" name="_s14345"/>
            <p:cNvCxnSpPr>
              <a:stCxn id="100" idx="0"/>
              <a:endCxn id="96" idx="2"/>
            </p:cNvCxnSpPr>
            <p:nvPr/>
          </p:nvCxnSpPr>
          <p:spPr>
            <a:xfrm flipH="1" flipV="1" rot="5400000">
              <a:off x="3476880" y="3091320"/>
              <a:ext cx="229320" cy="1579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1" name="_s14346"/>
            <p:cNvCxnSpPr>
              <a:stCxn id="102" idx="0"/>
              <a:endCxn id="103" idx="2"/>
            </p:cNvCxnSpPr>
            <p:nvPr/>
          </p:nvCxnSpPr>
          <p:spPr>
            <a:xfrm flipV="1" rot="16200000">
              <a:off x="5237280" y="2379240"/>
              <a:ext cx="229320" cy="1631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4" name="_s14347"/>
            <p:cNvCxnSpPr>
              <a:stCxn id="96" idx="0"/>
              <a:endCxn id="103" idx="2"/>
            </p:cNvCxnSpPr>
            <p:nvPr/>
          </p:nvCxnSpPr>
          <p:spPr>
            <a:xfrm flipH="1" flipV="1" rot="5400000">
              <a:off x="4344480" y="3117240"/>
              <a:ext cx="229320" cy="155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3" name="_s14348"/>
            <p:cNvSpPr/>
            <p:nvPr/>
          </p:nvSpPr>
          <p:spPr>
            <a:xfrm>
              <a:off x="3895560" y="2624040"/>
              <a:ext cx="128088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lt;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_s14349"/>
            <p:cNvSpPr/>
            <p:nvPr/>
          </p:nvSpPr>
          <p:spPr>
            <a:xfrm>
              <a:off x="3595680" y="3309840"/>
              <a:ext cx="15717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_s14350"/>
            <p:cNvSpPr/>
            <p:nvPr/>
          </p:nvSpPr>
          <p:spPr>
            <a:xfrm>
              <a:off x="5381280" y="3309840"/>
              <a:ext cx="15717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Фильт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_s14351"/>
            <p:cNvSpPr/>
            <p:nvPr/>
          </p:nvSpPr>
          <p:spPr>
            <a:xfrm>
              <a:off x="2119320" y="3995640"/>
              <a:ext cx="13651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Стойк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2820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_s14352"/>
            <p:cNvSpPr/>
            <p:nvPr/>
          </p:nvSpPr>
          <p:spPr>
            <a:xfrm>
              <a:off x="3698640" y="3995640"/>
              <a:ext cx="13651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34318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_s14353"/>
            <p:cNvSpPr/>
            <p:nvPr/>
          </p:nvSpPr>
          <p:spPr>
            <a:xfrm>
              <a:off x="5277600" y="3995640"/>
              <a:ext cx="13651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S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10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пирование справочн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432080" y="2624040"/>
            <a:ext cx="6206760" cy="2003400"/>
            <a:chOff x="1432080" y="2624040"/>
            <a:chExt cx="6206760" cy="2003400"/>
          </a:xfrm>
        </p:grpSpPr>
        <p:cxnSp>
          <p:nvCxnSpPr>
            <p:cNvPr id="107" name="_s15366"/>
            <p:cNvCxnSpPr>
              <a:stCxn id="108" idx="0"/>
              <a:endCxn id="109" idx="2"/>
            </p:cNvCxnSpPr>
            <p:nvPr/>
          </p:nvCxnSpPr>
          <p:spPr>
            <a:xfrm flipH="1" flipV="1" rot="5400000">
              <a:off x="6738480" y="3880080"/>
              <a:ext cx="229320" cy="21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0" name="_s15367"/>
            <p:cNvCxnSpPr>
              <a:stCxn id="111" idx="0"/>
              <a:endCxn id="112" idx="2"/>
            </p:cNvCxnSpPr>
            <p:nvPr/>
          </p:nvCxnSpPr>
          <p:spPr>
            <a:xfrm flipV="1" rot="16200000">
              <a:off x="4368240" y="3091320"/>
              <a:ext cx="229320" cy="15793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3" name="_s15368"/>
            <p:cNvCxnSpPr>
              <a:stCxn id="114" idx="0"/>
              <a:endCxn id="112" idx="2"/>
            </p:cNvCxnSpPr>
            <p:nvPr/>
          </p:nvCxnSpPr>
          <p:spPr>
            <a:xfrm flipV="1">
              <a:off x="3693600" y="3766320"/>
              <a:ext cx="180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5" name="_s15369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2790000" y="3091320"/>
              <a:ext cx="229320" cy="1579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7" name="_s15370"/>
            <p:cNvCxnSpPr>
              <a:stCxn id="109" idx="0"/>
              <a:endCxn id="118" idx="2"/>
            </p:cNvCxnSpPr>
            <p:nvPr/>
          </p:nvCxnSpPr>
          <p:spPr>
            <a:xfrm flipV="1" rot="16200000">
              <a:off x="5580000" y="2036520"/>
              <a:ext cx="229320" cy="23173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9" name="_s15371"/>
            <p:cNvCxnSpPr>
              <a:stCxn id="112" idx="0"/>
              <a:endCxn id="118" idx="2"/>
            </p:cNvCxnSpPr>
            <p:nvPr/>
          </p:nvCxnSpPr>
          <p:spPr>
            <a:xfrm flipH="1" flipV="1" rot="5400000">
              <a:off x="4000680" y="2773440"/>
              <a:ext cx="229320" cy="8434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8" name="_s15372"/>
            <p:cNvSpPr/>
            <p:nvPr/>
          </p:nvSpPr>
          <p:spPr>
            <a:xfrm>
              <a:off x="3895560" y="2624040"/>
              <a:ext cx="128088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lt;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_s15373"/>
            <p:cNvSpPr/>
            <p:nvPr/>
          </p:nvSpPr>
          <p:spPr>
            <a:xfrm>
              <a:off x="2908800" y="3309840"/>
              <a:ext cx="15717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_s15374"/>
            <p:cNvSpPr/>
            <p:nvPr/>
          </p:nvSpPr>
          <p:spPr>
            <a:xfrm>
              <a:off x="6067080" y="3309840"/>
              <a:ext cx="15717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Фильт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_s15375"/>
            <p:cNvSpPr/>
            <p:nvPr/>
          </p:nvSpPr>
          <p:spPr>
            <a:xfrm>
              <a:off x="1432080" y="3995640"/>
              <a:ext cx="13651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Стойк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2820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_s15376"/>
            <p:cNvSpPr/>
            <p:nvPr/>
          </p:nvSpPr>
          <p:spPr>
            <a:xfrm>
              <a:off x="3011040" y="3995640"/>
              <a:ext cx="13651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34318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_s15377"/>
            <p:cNvSpPr/>
            <p:nvPr/>
          </p:nvSpPr>
          <p:spPr>
            <a:xfrm>
              <a:off x="4590360" y="3995640"/>
              <a:ext cx="13651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S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10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_s15378"/>
            <p:cNvSpPr/>
            <p:nvPr/>
          </p:nvSpPr>
          <p:spPr>
            <a:xfrm>
              <a:off x="6169680" y="3995640"/>
              <a:ext cx="13651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101 K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пирование справочн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684360" y="2624040"/>
            <a:ext cx="7703640" cy="2003400"/>
            <a:chOff x="684360" y="2624040"/>
            <a:chExt cx="7703640" cy="2003400"/>
          </a:xfrm>
        </p:grpSpPr>
        <p:cxnSp>
          <p:nvCxnSpPr>
            <p:cNvPr id="122" name="_s16389"/>
            <p:cNvCxnSpPr>
              <a:stCxn id="123" idx="0"/>
              <a:endCxn id="124" idx="2"/>
            </p:cNvCxnSpPr>
            <p:nvPr/>
          </p:nvCxnSpPr>
          <p:spPr>
            <a:xfrm flipV="1" rot="16200000">
              <a:off x="7192800" y="3484440"/>
              <a:ext cx="229320" cy="793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5" name="_s16390"/>
            <p:cNvCxnSpPr>
              <a:stCxn id="126" idx="0"/>
              <a:endCxn id="124" idx="2"/>
            </p:cNvCxnSpPr>
            <p:nvPr/>
          </p:nvCxnSpPr>
          <p:spPr>
            <a:xfrm flipH="1" flipV="1" rot="5400000">
              <a:off x="6400440" y="3484440"/>
              <a:ext cx="229320" cy="793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7" name="_s16391"/>
            <p:cNvCxnSpPr>
              <a:stCxn id="128" idx="0"/>
              <a:endCxn id="129" idx="2"/>
            </p:cNvCxnSpPr>
            <p:nvPr/>
          </p:nvCxnSpPr>
          <p:spPr>
            <a:xfrm flipV="1" rot="16200000">
              <a:off x="3630240" y="3088800"/>
              <a:ext cx="229320" cy="1584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0" name="_s16392"/>
            <p:cNvCxnSpPr>
              <a:stCxn id="131" idx="0"/>
              <a:endCxn id="129" idx="2"/>
            </p:cNvCxnSpPr>
            <p:nvPr/>
          </p:nvCxnSpPr>
          <p:spPr>
            <a:xfrm flipV="1">
              <a:off x="2953080" y="3766320"/>
              <a:ext cx="180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2" name="_s16393"/>
            <p:cNvCxnSpPr>
              <a:stCxn id="133" idx="0"/>
              <a:endCxn id="129" idx="2"/>
            </p:cNvCxnSpPr>
            <p:nvPr/>
          </p:nvCxnSpPr>
          <p:spPr>
            <a:xfrm flipH="1" flipV="1" rot="5400000">
              <a:off x="2046960" y="3089160"/>
              <a:ext cx="229320" cy="1584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4" name="_s16394"/>
            <p:cNvCxnSpPr>
              <a:stCxn id="124" idx="0"/>
              <a:endCxn id="135" idx="2"/>
            </p:cNvCxnSpPr>
            <p:nvPr/>
          </p:nvCxnSpPr>
          <p:spPr>
            <a:xfrm flipV="1" rot="16200000">
              <a:off x="5609160" y="2007360"/>
              <a:ext cx="229320" cy="23752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6" name="_s16395"/>
            <p:cNvCxnSpPr>
              <a:stCxn id="129" idx="0"/>
              <a:endCxn id="135" idx="2"/>
            </p:cNvCxnSpPr>
            <p:nvPr/>
          </p:nvCxnSpPr>
          <p:spPr>
            <a:xfrm flipH="1" flipV="1" rot="5400000">
              <a:off x="3630600" y="2403360"/>
              <a:ext cx="229320" cy="1584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5" name="_s16396"/>
            <p:cNvSpPr/>
            <p:nvPr/>
          </p:nvSpPr>
          <p:spPr>
            <a:xfrm>
              <a:off x="3895560" y="2624040"/>
              <a:ext cx="128088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lt;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_s16397"/>
            <p:cNvSpPr/>
            <p:nvPr/>
          </p:nvSpPr>
          <p:spPr>
            <a:xfrm>
              <a:off x="2166840" y="3309840"/>
              <a:ext cx="15717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_s16398"/>
            <p:cNvSpPr/>
            <p:nvPr/>
          </p:nvSpPr>
          <p:spPr>
            <a:xfrm>
              <a:off x="6126480" y="3309840"/>
              <a:ext cx="15717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Фильт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_s16399"/>
            <p:cNvSpPr/>
            <p:nvPr/>
          </p:nvSpPr>
          <p:spPr>
            <a:xfrm>
              <a:off x="684360" y="3995640"/>
              <a:ext cx="136980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Стойк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2820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_s16400"/>
            <p:cNvSpPr/>
            <p:nvPr/>
          </p:nvSpPr>
          <p:spPr>
            <a:xfrm>
              <a:off x="2267640" y="3995640"/>
              <a:ext cx="136980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34318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_s16401"/>
            <p:cNvSpPr/>
            <p:nvPr/>
          </p:nvSpPr>
          <p:spPr>
            <a:xfrm>
              <a:off x="3851280" y="3995640"/>
              <a:ext cx="136980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S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10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_s16402"/>
            <p:cNvSpPr/>
            <p:nvPr/>
          </p:nvSpPr>
          <p:spPr>
            <a:xfrm>
              <a:off x="5434920" y="3995640"/>
              <a:ext cx="136980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101 K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_s16403"/>
            <p:cNvSpPr/>
            <p:nvPr/>
          </p:nvSpPr>
          <p:spPr>
            <a:xfrm>
              <a:off x="7018200" y="3995640"/>
              <a:ext cx="136980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625 S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менов</cp:lastModifiedBy>
  <dcterms:modified xsi:type="dcterms:W3CDTF">2005-12-26T01:10:51Z</dcterms:modified>
  <cp:revision>18</cp:revision>
  <dc:subject/>
  <dc:title>PowerPoint Presentation</dc:title>
</cp:coreProperties>
</file>