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C8B-2221-4A8D-BDE4-E2BDE442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3546-4FDC-400B-ADAF-6AF8940B1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7380-B91C-4DC3-B082-A029A555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C8CE-3783-4500-AFC0-0F89A9F95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10BF-83C2-44D4-9C0D-1741BE7F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9EED-4EAB-409E-B8CF-4898346E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0C04-E2EA-48AA-87B0-BE7B6807F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3FAA-901F-4237-8BC5-DAEE0893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6C0-5F31-4E88-9E21-B1AEDE2C9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CB5B-36E2-4D21-A2A7-C22BB94A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9284-1429-4E75-BDAA-C90E5E2B1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6DBB-3959-41AA-9E69-923475E8B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97B8-6DDE-4BEF-91D2-FDC93F9E6A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28920" y="1981080"/>
          <a:ext cx="2484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981080"/>
                    <a:ext cx="248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зыватьСтроку(НомерСтрок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ТекущийДокумент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Количество*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При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=СоздатьОбъект("Регистр.Остатки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иче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УстановитьФильтр(Материал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ВыбратьДвижения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РегОст.ПолучитьДвижение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гОст.ФлагУчета=2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РегОст.Пар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.ПолучитьСтрокуПоНомеру(РегОст.НомерСтроки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=Регистр.Остатки.Остаток(Материал,Док,"Количество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=0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олВо&gt;Кол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Во-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Списать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СписатьКоличество*Док.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Рас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Во=0 Тогда Прервать; 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явно указать нужную да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20050308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1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, 10, 29, 50) ДАТАВРЕМЯ(2005, 01, 0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верить дату на пустое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атаПроверяемая = Дата(1, 1, 1) Тогда Сообщить("Пустая дата!"); 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сравнить две даты (дни)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чалоДня(Дата1) = НачалоДня(Дата2) Тогда Сообщить("Дни совпадают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ибавить к дате день, меся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День = ТекущаяДата() + 60 * 60 * 2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Месяц(Дата(2005, 1, 31), 1) ДобавитьМесяц(Дата(2005, 2, 28), -1) КонецМесяца(ДобавитьМесяц(Дата(2005, 2, 28), -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ПолучитьДень(ИсходнаяДата, КоличествоПрибавляемыхДней) Запрос = НовыйЗапрос(" |ВЫБРАТЬ |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ОБАВИТЬКДАТЕ(&amp;ИсходнаяДата, ДЕНЬ, &amp;Количество) как Дата"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ИсходнаяДата", ИсходнаяДата); Запрос.УстановитьПараметр("Количество", КоличествоПрибавляемыхДней); ВозвратЗапрос.Выполнить().Выгрузить()[0].Дат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ти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6360" y="1981080"/>
          <a:ext cx="43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981080"/>
                    <a:ext cx="43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ка тип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ожно проверить тип значения переменной на равенство нужном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НужногоТипа = "ДокументСсылка.РеализацияТоваров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ипЗнч(ОбрабатываемыйДокумент) = Тип(ИмяНужногоТипа)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 Строки кода, выполняемые при истинности усло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стая ссылк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реквизит формы, имеющий ссылочный т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 = Справочники.Номенклатура.ПустаяСсылка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значение, имеющее тип "Хранилище значения"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зитХранилище = Неопределен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 10 мониторов на сумму 1500+1550=305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ход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но 7 мониторов по розничной цене 3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ум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45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* 300 + 2 * 31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2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2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3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о средн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редняя ц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10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5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5 * 7 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35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35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пределить справ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Единицы измерения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«Приход», «Расх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регистр остатков «Ост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гистр «Остат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16280"/>
          <a:ext cx="712800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128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773360"/>
          <a:ext cx="6840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773360"/>
          <a:ext cx="68421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842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9:29Z</dcterms:modified>
  <cp:revision>19</cp:revision>
  <dc:subject/>
  <dc:title>PowerPoint Presentation</dc:title>
</cp:coreProperties>
</file>