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C83E-3956-49E2-B395-C301D0B3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C5D0-43FC-4AEB-ABCE-7B6196CE5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416-11CA-43CB-9419-BC03B415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205E-916F-4C15-B475-26534AFC8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F060-A482-4F14-86EC-0B465D4B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4FE1-A37D-48FD-9162-AE575860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221D-39EC-4838-A64B-02411ABC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84EA-2049-4893-9F18-27927E41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3E85-C37F-4B9A-AA29-AE5F8412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D93C-37F8-4B06-9AFC-5229AB23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873-A5FF-40A5-A56A-26418075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4676-C791-4C40-A6AB-123E699A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4BF1-D1D0-4A03-B726-18A3DD98D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ные данны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равочник 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умент «Расходная» с табличной частью: «Материал», «Количе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бороты(&amp;НачПериода, &amp;КонПериода, Неделя, ) КАК ОстаткиМатериалов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ериод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КонПериода", Кон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НачПериода", Нач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ь 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ТекущаяДат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ДобавитьМесяц(ДТ,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колонку в таблицу знач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строку в таблицу значений и установить значение колон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вязать сводную таблицу и результат запрос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уется получ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 «Продаж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: «НачДата», «Кон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4038480"/>
          <a:ext cx="647712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47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«ДобавитьМесяц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ДобавитьМесяц(ДТ,1), где ДТ-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Таблицу знач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=СоздатьОбъект(«ТаблицаЗначений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ДобавитьКолонку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НоваяСтрока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ПолучитьЗначение(НомСтр,НомК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НомКол,Зна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НомерМесяца(НачПериода,КонПери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НачПери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ДТ&lt;=КонПериода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Т=ДобавитьМесяц(ДТ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НомерМесяца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омерМеся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Мес=НомерМесяца(НачДата,КонДа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СоздатьОбъект("ТаблицаЗначений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.НоваяКолонка("Материал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нд=1 По КолМес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абл.НоваяКолонка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Период С НачДата По КонД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ОбрабатыватьДокументы Проведен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Материал=Документ.Расход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атаДок=Документ.Расход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Количество=Документ.Расход.Количе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ок=Документ.Расход.ТекущийДоку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Материал Без Груп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Функция РасхКол=Сумма(Количество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Материал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НоваяСтрока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НомСтр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Материал=Запрос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нд=2 По КолМес+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инд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Док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Док=Запрос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омКол=НомерМесяца(НачДата,ДатаДок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УстановитьЗначение(НомСтр,НомКол+1,Табл.ПолучитьЗначение(НомСтр,НомКол+1)+Запрос.РасхКо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ВыбратьСтроку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Продажи(СводнаяТаблица, КонПериода, НачПериода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Материал КАК Матери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КоличествоРасход КАК КоличествоРасх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Период КАК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5:48:31Z</dcterms:created>
  <dc:creator>guest</dc:creator>
  <dc:description/>
  <dc:language>en-US</dc:language>
  <cp:lastModifiedBy>Семенов</cp:lastModifiedBy>
  <dcterms:modified xsi:type="dcterms:W3CDTF">2005-12-26T01:20:41Z</dcterms:modified>
  <cp:revision>17</cp:revision>
  <dc:subject/>
  <dc:title>Постановка задачи</dc:title>
</cp:coreProperties>
</file>