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A0D5-EB89-4376-81ED-633C5EBAA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2B00-0459-4560-A6C4-BAFD8A313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872E-1849-48BA-9DE8-CD8F3EF1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6579-DA29-45A3-B239-BFE59C486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0F3-B853-4012-830C-4147166F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94F-C640-4725-A05A-F536C6AA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3B7-6E25-4EBB-83DB-407441BE6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E727-349D-48E4-8295-8768DA87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873-5A5C-4DCF-AD14-4B6DEDBC3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2880-263E-4BFA-A854-DCF29960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0919-85DF-4754-BCEB-C406AE45C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C4DF-EE8F-46F5-BC42-B95EBFC6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818C0-49C4-4BE4-8EAD-BF10E2AFDC5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63640" y="2133720"/>
          <a:ext cx="532944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133720"/>
                    <a:ext cx="532944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2000" y="1981080"/>
          <a:ext cx="7018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981080"/>
                    <a:ext cx="7018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35280" y="2205000"/>
          <a:ext cx="5257800" cy="29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5000"/>
                    <a:ext cx="5257800" cy="29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ivate Sub CommandButton1_Cli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cols = Cells(3, 1).CurrentRegion.Columns.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Selection.Auto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Selection.AutoFilter Field:=ncols, Criteria1:="&lt;&gt;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nrows = Cells(3, 1).CurrentRegion.Rows.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i = 3 To n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f Not (Rows(i).Hidden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=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ws("3:" &amp; Format(n)).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P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lear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Columns(1).Delete Shift:=xlTo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i = 1 T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Columns(5).Delete Shift:=xlTo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Sheet.Cells(1, 1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pplication.CutCopyMode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ÏóòüÈìÿ = ThisWorkbook.Path &amp; "\TovarÇàêàç.xl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SaveAs Filename:=ÏóòüÈìÿ, FileFormat:=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lNormal, Password:="", WriteResPassword:="", ReadOnlyRecommended:=False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CreateBackup:=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ells(1, 1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lection.Auto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ub ОткрытьПрасЛист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On Error GoTo e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ÏóòüÈìÿ = ThisWorkbook.Path &amp; "\Tovar0.x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Open Filename:=ÏóòüÈì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ells.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hDir ThisWorkbook.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sgBox "Íàæìèòå ÎÊ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Open Filename:=ThisWorkbook.Path &amp; "\Шаблон.x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ells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Sheet.P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pplication.CutCopyMode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orkbooks("Tovar0.xls").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SaveAs Filename:=ThisWorkbook.Path &amp; "\Tovar.xls", FileFormat:=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lNormal, Password:="", WriteResPassword:="", ReadOnlyRecommended:=False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CreateBackup:=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xit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rr: MsgBox ("Tovar.xls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рузка инвой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16040" y="1981080"/>
          <a:ext cx="7711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1981080"/>
                    <a:ext cx="7711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рузка инвой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90680" y="2066760"/>
          <a:ext cx="456264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066760"/>
                    <a:ext cx="456264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1320" y="2004840"/>
          <a:ext cx="45813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2004840"/>
                    <a:ext cx="45813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=СоздатьОбъект("Документ.Перемещение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омещаетсяНаПолке=ПолучитьПомещаетсяНаПолке(Това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инимальныйОстатокРасчетный=ПолучитьМинимальныйОстаток(Това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ДолжноБыть=Макс(МинимальныйОстатокРасчетный,ПомещаетсяНаПолке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ребуетсяПереместитьВШтуках=ДолжноБыть-ОстатокК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1773360"/>
          <a:ext cx="748800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4880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386080" y="1981080"/>
          <a:ext cx="4371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1981080"/>
                    <a:ext cx="4371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на филиа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90680" y="2023920"/>
          <a:ext cx="456264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023920"/>
                    <a:ext cx="456264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ТребуетсяПереместитьВШтуках&gt;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ностьВУпаковках=Цел((ТребуетсяПереместитьВШтуках-1)/КолВоВУпаковке)+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ностьВШтуках=ПотребностьВУпаковках * КолВоВУпаковк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статокКуда&lt;МинимальныйОстатокРасчетный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Затребовано=ПотребностьВШтука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статокОткуда&gt;=Док.Затребовано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Количество=Док.Затребован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Количество=ОстатокОткуд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требностьВШтуках + ОстатокКуда&lt;=ПомещаетсяНаПолке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ныйОстаток=ПомещаетсяНаПолке-МинимальныйОстатокРасчетны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вободныйОстаток&gt;0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требностьВШтуках / СвободныйОстаток &gt; 0.5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Затребовано=ПотребностьВШту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статокОткуда&gt;=Док.Затребовано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Количество=Док.Затребова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Количество=ОстатокОтку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373040" y="1981080"/>
          <a:ext cx="6397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981080"/>
                    <a:ext cx="6397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03280" y="1844640"/>
          <a:ext cx="6048360" cy="38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44640"/>
                    <a:ext cx="6048360" cy="38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92360" y="1844640"/>
          <a:ext cx="5472000" cy="38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4640"/>
                    <a:ext cx="547200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03480" y="1981080"/>
          <a:ext cx="6735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1981080"/>
                    <a:ext cx="6735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772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27:09Z</dcterms:modified>
  <cp:revision>7</cp:revision>
  <dc:subject/>
  <dc:title>PowerPoint Presentation</dc:title>
</cp:coreProperties>
</file>