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ED7E-4CD8-44E0-9AB6-42158ED5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228B-F653-4EA0-9E0D-94D6FBBC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8D61-1308-40C2-8AFC-2630B56D0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01B0-BAF1-4333-A0A8-D59F8261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D05-0014-453D-898F-A0AF970E3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2B48-0CBC-4EBE-AE26-98F37DB7F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C30-05D0-4F0D-85AE-AA7F1DFE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588-B353-476A-A01B-459C81CE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AC39-65E6-434D-996D-A46137AD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1131-8A9B-45E9-983B-B2A9FB62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E34F-B4BC-435A-B764-2316F12A6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84C6-4EFB-49F2-90E2-17CE495B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559F-B535-43B0-B60B-5ADFE9B46A8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енос данных из 7.7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490840" y="1981080"/>
          <a:ext cx="4160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1981080"/>
                    <a:ext cx="4160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и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Attribute VB_Name = "Module1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Sub v8com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cc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con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ЗапросВДБФ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Set cc = CreateObject("V8.COMConnector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Set con = cc.Connect("File=D:\Bases\Radchenko;Usr=Администратор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и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кстЗапроса = "ВЫБРАТЬ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.Код КАК Kod,ОстаткиМатериаловОстаткиИОбороты.Материал.Наименование КАК Material,ОстаткиМатериаловОстаткиИОбороты.Склад КАК Sklad,ОстаткиМатериаловОстаткиИОбороты.КоличествоКонечныйОстаток КАК Ostatok ИЗ РегистрНакопления.ОстаткиМатериалов.ОстаткиИОбороты КАК ОстаткиМатериаловОстаткиИОбороты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ть = "C:\1C.dbf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t ЗапросВДБФ = con.Обработки.ВыгрузкаДанных.Созд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росВДБФ.ВыгрузитьДанные ТекстЗапроса, Пу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!DOCTYPE HTML PUBLIC "-//W3C//DTD HTML 4.01 Transitional//EN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title&gt;v8com&lt;/titl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meta http-equiv="Content-Type" content="text/html; charset=windows-1251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script language="JavaScript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function v8com(TextOfQuery,Pa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{var cc,con,text,path,Quer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cc = new ActiveXObject("V8.COMConnector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con = cc.Connect("File=D:/Bases/Radchenko;Usr=Администратор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text="Выбрать Остатки.Материал.Код как kod,Остатки.Материал.Наименование как Material,Остатки.Склад как sklad,Остатки.КоличествоКонечныйОстаток как ostatok из РегистрНакопления.ОстаткиМатериалов.ОстаткиИОбороты как Остатки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path = "C:/1C.dbf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Query=con.Обработки.ВыгрузкаДанных.Созд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Query.ВыгрузитьДанные(text,pa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cri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iv onMouseDown="v8com('','')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iv align="center"&gt;&lt;font color="#FF0000"&gt;&lt;strong&gt;Click Me!!!&lt;/strong&gt;&lt;/font&gt;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%@language=vbscript %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!DOCTYPE HTML PUBLIC "-//W3C//DTD HTML 4.01 Transitional//E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title&gt;v8com&lt;/tit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meta http-equiv="Content-Type" content="text/html; charset=windows-1251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c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Set cc = CreateObject("V8.COMConnector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Set con = cc.Connect("File=C:\Bases\Radchenko;Usr=Администратор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tz = "ВЫБРАТЬ ОстаткиМатериаловОстаткиИОбороты.Материал.Код КАК Kod,ОстаткиМатериаловОстаткиИОбороты.Материал.Наименование КАК Material,ОстаткиМатериаловОстаткиИОбороты.Склад КАК Sklad,ОстаткиМатериаловОстаткиИОбороты.КоличествоКонечныйОстаток КАК Ostatok ИЗ РегистрНакопления.ОстаткиМатериалов.ОстаткиИОбороты КАК ОстаткиМатериаловОстаткиИОбороты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p = "C:\1C.dbf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Set z = con.Processings.UnloadData.Creat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z.UnloadData tz,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ar xml="&lt;&gt;&lt;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Response.Write(xm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=createobject("msxml.xmlhttp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.open(ur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=x.response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b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V7=Новый COMОбъект("v77.Applicatio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ть="D:\Bases\DB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ы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а=v7.Initialize(v7.RMTrade,"/d"+Путь+" /M /N"+"","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лю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преждение("Ошибка открытия информационной базы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опыт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=Справочники.Автозапча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=V7.CreateObject("Справочник.Номенклатура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НайтиПоКоду("120-00000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ортизаторы=Импорт.ТекущийЭлемент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ИспользоватьРодителя(Амортизаторы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ВыбратьЭлементы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Импорт.ПолучитьЭлемент()=1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=Ном.СоздатьЭлемент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Код=Импорт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Наименование=Импорт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Тип=Импорт.__Тип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Записа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зо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=Новый COMОбъект("Excel.Application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Workbooks.Open("D:\Bases\AddIns\Graphics.xls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Application.Run("Graphics.xls!Auto_Open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Application.Qui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данных 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кстЗапроса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 КАК Materi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Склад КАК Skl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СУММА(ОстаткиМатериаловОстаткиИОбороты.КоличествоКонечныйОстаток) КАК Ostat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статкиИОбороты КАК ОстаткиМатериаловОстаткиИОборо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данных 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СГРУППИРОВАТЬ П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аткиМатериаловОстаткиИОбороты.Материал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аткиМатериаловОстаткиИОбороты.Скл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УПОРЯДОЧИТЬ П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Materi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грузитьДанные(ТекстЗапроса,"C:\ost.db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ТекстЗапроса,Путь) Экспо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рос.Текст = ТекстЗапро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Новый ТаблицаЗначений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Результат.Выгрузить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бф=Новый Xba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Каждого Кол Из Табл.Колонки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Строка(Кол.ТипЗначения.Типы().Получить(1))="Число"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ядность=Кол.ТипЗначения.КвалификаторыЧисла.Разряд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ядностьДробнойЧасти=Кол.ТипЗначения.КвалификаторыЧисла.РазрядностьДробнойЧа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бф.Поля.Добавить(Кол.Имя,"N",Разрядность,РазрядностьДробнойЧасти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бф.Поля.Добавить(Кол.Имя,"S",Кол.Ширин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Кодировка=КодировкаXBase.O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СоздатьФайл(Путь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Каждого СтрокаТабл Из Табл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Добав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Каждого Кол Из Табл.Колонки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[Кол.Имя]=СтрокаТабл[Кол.Имя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Запис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ЗакрытьФайл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17:46Z</dcterms:modified>
  <cp:revision>6</cp:revision>
  <dc:subject/>
  <dc:title>PowerPoint Presentation</dc:title>
</cp:coreProperties>
</file>